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DBBE-507C-4502-9594-F97F2EFB638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498B-55B9-4CAF-8D4F-F16239B7EE2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1052-833C-4FD6-A43B-21DBB2468D2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A657-F8B9-40FC-80F2-E701E86EBE9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352D-51E4-498A-B967-B8987C58DD5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1799E-0E33-42C6-9435-1EC1F0F6B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D4AEA-83F7-48EA-981D-3A24F46A9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7D899-94E9-4B36-AC2A-B89842D23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4107F-1A65-4986-8A2C-0B9641789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47EC5-0FAE-4FA0-ABD9-6FB4CAA2F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A98F2-3A7C-401F-B3B8-E4C9767A7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6AA3E-BC99-42E2-B87D-1ECF046BE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375D2-CE5E-4144-8B7C-CF0F93814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EEC95-EE93-4805-B2E9-5F9FA3990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9741F-6063-4852-BCC7-622FF32BF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CB1E2-24B6-4160-82E6-4CAB03038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DC8C0-629D-49ED-BCEA-0E1E612B2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D4021-4061-4053-A1E4-B2884E5B2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8F046-D3D3-48E6-8460-40AEC8F9A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F0DF5-E459-4712-844A-9FEACA894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D5BCC-531F-4C29-A812-E0814C0426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1178F-ACCE-4493-BA03-CA8D2B722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367712-F731-47E6-AF9B-4C87B0ACBD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2178FE-467D-4EF5-BFF6-77A9804CA0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A454ED-92E2-4933-A9D6-34B89C8B41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ACD422-8433-40C5-9753-537E44DC1C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50ADD0-3E20-4F5C-B575-2BA6B174C2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28D06-598A-4AB9-A294-E362077FA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98C87F-648F-410A-8025-B3A7FD1555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05DC1A-0A94-46A0-927D-2723A5DEC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56971A-5E8C-4197-9C4D-A75F40A63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EF827-6DEA-4835-8FA2-FF9C16852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50994D-5D85-4D08-961D-C1C8847B28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7D2B58-AA2C-4034-96E4-5A3F621A2E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7F662A-6D53-4BDE-BB4C-6596BB3F7C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CBCEF-EC64-45F8-B411-4361501AD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B027A-2514-4817-BB71-5DA5853C5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F5708-EF7F-4A6C-ACE7-7D298D7E3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2E1AF-B87C-4D9B-B231-FF605E8A6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FCC4F-0538-4FFE-B2D7-D1DB0CFC7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989C4-B6B3-4522-A756-AFB19C074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AC25-998A-4B81-B56D-8F4FA242934F}"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1666-EA22-4070-9B32-98B5A0C0450B}"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075F-9515-483C-AD53-7D153A8D5471}"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10</a:t>
            </a:r>
            <a:r>
              <a:rPr b="1" lang="en-GB" sz="2800" spc="-1" strike="noStrike" baseline="30000">
                <a:solidFill>
                  <a:srgbClr val="002060"/>
                </a:solidFill>
                <a:latin typeface="Comic Sans MS"/>
              </a:rPr>
              <a:t>th</a:t>
            </a:r>
            <a:r>
              <a:rPr b="1" lang="en-GB" sz="2800" spc="-1" strike="noStrike">
                <a:solidFill>
                  <a:srgbClr val="002060"/>
                </a:solidFill>
                <a:latin typeface="Comic Sans MS"/>
              </a:rPr>
              <a:t> of Aug 2022</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urray, Janet</cp:lastModifiedBy>
  <cp:lastPrinted>2022-07-20T11:24:27Z</cp:lastPrinted>
  <dcterms:modified xsi:type="dcterms:W3CDTF">2022-08-14T20:20:30Z</dcterms:modified>
  <cp:revision>270</cp:revision>
  <dc:subject/>
  <dc:title>Slide 1</dc:title>
</cp:coreProperties>
</file>