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DC1E2-DE37-4863-A265-B226C711521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564F0-1599-44D4-A58C-26E4F0C4337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12762-C6D1-4FA1-B374-3EBE52E1678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A9AAC-1632-4B8B-8957-B364F28E8207}"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7DC2A-B7EA-4E8B-AF0A-72B745A1A21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38D3A-3442-486A-AABE-EF84CA7D0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23C4B-C479-4FED-9978-46D183539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1685F-F96B-4992-8724-A3F9B43D2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5F114-5B59-4752-B316-519B7F75F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9A74E3-79FC-4647-9095-6BC299EAAA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68704-BABB-4D06-8ACF-DBA41A2D9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B61F2-B193-4E46-8108-AF7A5089F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F5EA4-47C0-4201-9AE3-459B04DB1A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FC177-CF89-4B98-90EF-CCEE8EECF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CF143-A78A-460A-9F01-151AEA8B4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EAB48-21A0-4B5E-B417-749D51BC3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C6904-86F7-4398-BBCD-D347F7CF5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55A5F-6274-42BF-BEC4-F173AE9BA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F2AD5-96C6-4BF3-A63F-02ED3DD76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BEC30-74A6-4457-AC4F-60776409C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6DEA86-EBBD-4598-ABB0-B2A0A025F2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A0FC11-495B-46B1-A466-ED125244B7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C09E6E-2FA7-4922-B383-EDDC086A47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234E78-0525-46AC-89D3-3793C68A83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42E946-A730-4D5F-8B84-2C870FFF7D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69376D-E48B-4954-A684-9F01934891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63B2C6-EFE9-4BE0-8666-E3DD981C2A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A4C53-0435-4623-B9A2-205824455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FD3841-DEF9-4D63-89D9-3C0DBA86A5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1114E0-B186-4CC5-A519-16EE561F77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8DA007-4E28-4EF2-A794-2DF15AC034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E9C866-FB51-4171-B4BE-C1EEA35BD9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612A62-45DA-48A0-80C5-269CB56E08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CF2C6F-7ECA-4BF2-B828-9D77890DF2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F3830D-402E-483E-B4D5-BA06CC391B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CEC7C-4288-4A41-BFEA-04EB564B7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6A0E0-0CD7-4EBF-A597-7BB3541D4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BBE3F-8927-42A3-84DE-C968C8B3A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F629A-B346-4418-AC4F-EC656F37A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45DD3-DE79-4761-855F-351F00626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67207-6213-491E-823E-3FD1649BAF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D2D6-370A-4C02-A977-9740B4513031}"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C056-8361-4778-8A67-B35C1E090AAE}"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40B18-D9E2-46A6-9C7F-7ACDF6AAEACB}"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10</a:t>
            </a:r>
            <a:r>
              <a:rPr b="1" lang="en-GB" sz="2800" spc="-1" strike="noStrike" baseline="30000">
                <a:solidFill>
                  <a:srgbClr val="002060"/>
                </a:solidFill>
                <a:latin typeface="Comic Sans MS"/>
              </a:rPr>
              <a:t>th</a:t>
            </a:r>
            <a:r>
              <a:rPr b="1" lang="en-GB" sz="2800" spc="-1" strike="noStrike">
                <a:solidFill>
                  <a:srgbClr val="002060"/>
                </a:solidFill>
                <a:latin typeface="Comic Sans MS"/>
              </a:rPr>
              <a:t> of Aug 2022</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urray, Janet</cp:lastModifiedBy>
  <cp:lastPrinted>2022-07-20T11:24:27Z</cp:lastPrinted>
  <dcterms:modified xsi:type="dcterms:W3CDTF">2022-08-14T20:20:30Z</dcterms:modified>
  <cp:revision>270</cp:revision>
  <dc:subject/>
  <dc:title>Slide 1</dc:title>
</cp:coreProperties>
</file>