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png" ContentType="image/pn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4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78" name="PlaceHolder 2"/>
          <p:cNvSpPr>
            <a:spLocks noGrp="1"/>
          </p:cNvSpPr>
          <p:nvPr>
            <p:ph type="dt" idx="109"/>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4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81" name="PlaceHolder 5"/>
          <p:cNvSpPr>
            <a:spLocks noGrp="1"/>
          </p:cNvSpPr>
          <p:nvPr>
            <p:ph type="ftr" idx="110"/>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82" name="PlaceHolder 6"/>
          <p:cNvSpPr>
            <a:spLocks noGrp="1"/>
          </p:cNvSpPr>
          <p:nvPr>
            <p:ph type="sldNum" idx="111"/>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1A90-480C-4D35-9F6B-078FD229FE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685800" y="1143000"/>
            <a:ext cx="5486400" cy="3086280"/>
          </a:xfrm>
          <a:prstGeom prst="rect">
            <a:avLst/>
          </a:prstGeom>
          <a:ln w="0">
            <a:noFill/>
          </a:ln>
        </p:spPr>
      </p:sp>
      <p:sp>
        <p:nvSpPr>
          <p:cNvPr id="15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AE674-C15F-4056-9111-783FD42648B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685800" y="1143000"/>
            <a:ext cx="5486400" cy="3086280"/>
          </a:xfrm>
          <a:prstGeom prst="rect">
            <a:avLst/>
          </a:prstGeom>
          <a:ln w="0">
            <a:noFill/>
          </a:ln>
        </p:spPr>
      </p:sp>
      <p:sp>
        <p:nvSpPr>
          <p:cNvPr id="15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CDA10-8ECD-4126-9BBD-24333491411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685800" y="1143000"/>
            <a:ext cx="5486400" cy="3086280"/>
          </a:xfrm>
          <a:prstGeom prst="rect">
            <a:avLst/>
          </a:prstGeom>
          <a:ln w="0">
            <a:noFill/>
          </a:ln>
        </p:spPr>
      </p:sp>
      <p:sp>
        <p:nvSpPr>
          <p:cNvPr id="15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0AECC-9087-4518-AD28-0C5377501A1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685800" y="1143000"/>
            <a:ext cx="5486400" cy="3086280"/>
          </a:xfrm>
          <a:prstGeom prst="rect">
            <a:avLst/>
          </a:prstGeom>
          <a:ln w="0">
            <a:noFill/>
          </a:ln>
        </p:spPr>
      </p:sp>
      <p:sp>
        <p:nvSpPr>
          <p:cNvPr id="15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6BF12-F4D2-4519-ADCD-2A1D12B6EEA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685800" y="1143000"/>
            <a:ext cx="5486400" cy="3086280"/>
          </a:xfrm>
          <a:prstGeom prst="rect">
            <a:avLst/>
          </a:prstGeom>
          <a:ln w="0">
            <a:noFill/>
          </a:ln>
        </p:spPr>
      </p:sp>
      <p:sp>
        <p:nvSpPr>
          <p:cNvPr id="15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794FB-D46C-47B0-8CF1-887282D7F5B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685800" y="1143000"/>
            <a:ext cx="5486400" cy="3086280"/>
          </a:xfrm>
          <a:prstGeom prst="rect">
            <a:avLst/>
          </a:prstGeom>
          <a:ln w="0">
            <a:noFill/>
          </a:ln>
        </p:spPr>
      </p:sp>
      <p:sp>
        <p:nvSpPr>
          <p:cNvPr id="15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36008-AC7E-4AA7-ACF7-AD1574315A5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FBB49-F5CC-47D7-AACE-6C52FF377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E9BFA-3A5B-44B1-BFC7-7344C78C2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2FC079-1A94-4481-A95D-4E439CCC75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0AB6A0-6BF8-4BAC-87C2-22D40F6E13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78F938-D0E9-49F4-8B0C-EE6DFB3DAD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4FC587-9137-42D6-B95D-836C2ED906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B39303-0DC4-4119-8DAA-3275C71E4C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93BCF3-06CE-451C-B921-F78A4A5255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8CE4BE-87E5-4A10-BE52-4874BAAF61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44E5E5-9DA5-43B5-85E2-71C789AD372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A39110-4AE0-49C9-AE1B-14BB4E2B19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0DA17A0-59F5-441F-966F-6F274ABC7C4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5C29E-BB62-43CF-8BA7-089BE8A78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F6933FB-E629-4132-8042-4569550401A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F1F433A-9BCD-46BC-8F18-673770001A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30D5DF-0073-40BE-96E5-7DF07FCDD0C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7F20132-4738-42EC-99B3-ACF9D42726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E1A09B9-5978-486C-AC65-D455EB363A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1E2F29-49A3-4D66-AE18-CB845887ED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C116D38-EA13-4B8C-8FDC-E619A7E82D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F70617-9254-4DAA-8706-1C616026EE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4583C1A-7596-4709-A320-14ADCC3018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67A599F-7C34-4A1D-B270-CB5BC341CF9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96E5B-103B-4F12-9D27-6983053F9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8EC1B3F-964D-4227-AF97-48117BB170F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CC0E9AB-9C5F-4813-BB8B-BEA031495F4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EA57CA-CE77-4FF1-A7A2-ABA0B88C3F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ADF4E37-7B8C-4391-8E2B-2202E59A9A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0BFE47-D423-4FB3-8C92-6790474405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8967704-DA22-41C9-AAB0-CC2EFB1834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2EF96F1-9BA4-4996-B7FA-2B288EA03F3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1D3C2A-D58F-479C-8FDB-0BD01DB25D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DB24CE-061E-4323-A493-0DBB468C6F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9A3BF0-E64A-49A8-A5D6-BBD9F4E8F7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DFC9A4-0273-423E-814D-3229B34C6F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9B67D9-5F02-4B4A-9671-B7652C008E7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7FE2538-F353-4673-BE63-F30EBDB9F0C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FB08182-6B59-4245-A110-D7BD0627E06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5C2CCF9-D521-41D8-BC24-C4560A12541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3CD832B-8997-4710-AAAE-BAB1561CEA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99C8C16-11B2-4D68-9290-26E201DC263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180590E-8B18-4D68-AEEB-DAF05BFB2A9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19A6694-B251-4260-BA18-2B91595A295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50BEA0D-D96C-4B0C-B6B1-1EBE3E7F6C9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725CFF-BE27-4332-836D-9C1725747C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917BC-92A8-4E78-8708-583013EF8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11936B2-114F-48ED-ADC9-F1457E3BA31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0E9ABA-439F-4879-A440-A94C8C9C90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EF536E1-A368-4276-A0F7-24A00ECE44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6540503-9892-465E-9F73-B26348D8622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67DD438-C5E9-4FEB-9F68-2FBA650FA84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482EE31-39FF-4F5F-B640-36BFB77E9A3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D0E8469-0D67-4AA8-B8AA-100A6DC52E3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1EB1B2C-4B31-4F26-A494-CCCA3014F0F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4121B6F-E4E7-4776-B93B-DB9B8127FC3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8B6EF6B-EA3D-439A-9D42-A7066044667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78244-5609-4109-90CA-6AAEB537E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F1C72DA-AB73-43ED-A5ED-1F861042A86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CBBD56A-4FF1-4E08-9C44-21F3C9FF32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366AE6-9647-42D6-93BC-DC234309516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7AB57A-46D3-42C4-A111-8D4E089D591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B69D992-C9BA-4FA8-8EEC-9A8CB4D7460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79C59A0-A15F-4C2F-B82E-6B7CC5AF3C3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B9AC25E-C721-4BD1-AC2B-C0C780DBFE1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F49B8C8-24B0-42DB-98F7-736BA4F9CC2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B603FAF-610C-4932-8170-64D0973AF4F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3210E25-75A4-49B4-91DC-04A37A71514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63F25-00FD-492B-AB8A-28B6D2F06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D6BC14C-9E7A-4117-B37C-E2E9620450C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4B13BCE-172E-4097-98D8-31BF9459E20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9BA4DC4-CEEE-41B7-BB30-7910E24DA4E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FDFBAE1-0BF9-4FFC-B4AF-8812B8224C4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23F169F-B602-4663-8067-E0F3BA43987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10BAC56-CA6E-4457-A2A3-479DEAC8EAA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0924232-9754-428E-8B40-7D01B857501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E3439B2-6A45-4DBC-A9EF-DE559295B84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85A59B8-31F0-4967-83F3-EA5F79F8816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68927F4-579A-4867-BB83-8965E53F7CF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81C77-B646-4B12-9B34-24EA5FFED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FCA357F-B314-4465-A042-2B4A8615D87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1636E01-E387-4E6B-8444-4F97A05EB98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6FDD3E6-FC30-4BF4-AF31-6AF54871472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A27FE2B-774A-40A6-9744-FF2D1288B79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311AF3B-9A73-4F5C-ADB0-7EE72922C3A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0B1EB3C-4C97-4190-829E-6B73FAB69EE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E2877D2-4C11-4BAF-8272-4480D3AA595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28CA525-0AF6-47FD-AFE5-5F391F5E3B9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467532D-A679-432A-88C9-76BA0A52E34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FDFE25C-97C3-42A6-A4A7-0A0B1F9C797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12873-F460-44C5-904B-C2B58F347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6CDA0B5-7A99-4412-99EA-64B06CB7D82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3A53141-6592-43F7-A13F-B455F65192A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72A831C-F635-4026-BF9A-539290C2641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CC9C148-40C2-4452-A8DE-E0C53380ADD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3D21F91-FC07-45B1-A0B3-E80FE49D8AA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A205B0A-1165-4B08-92DE-35009CCF5EF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C1AD799-97A7-4450-819B-A0BE0C49667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2ED295E-9B5D-4180-883B-90F772107EB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74049DB-8A6D-47A9-9A47-D7ADFEA5C2F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703ED99-38A7-4B11-9601-322235F9616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45082-9FD9-46A7-9C11-D8B2EBBD2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179AAAD-F593-48EA-8427-438A4840697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0447D09-F54E-4630-BC32-32CFC32039B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6E7F955-5058-4265-8C82-55F6B11AAA6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F393B39-CF50-405A-B4C9-EF939A44D1A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FFA3AC7-B3C2-4DE8-89C5-C835675DABF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407C97D-330C-4924-A589-F22B1DD37F3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265E3D8-7C67-4839-AEB5-D0A4F423876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637F44B-C51D-4B61-B5DA-E4C274D737F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B355321-5742-44A1-9542-DE2428D5233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4845B69-E73B-47DC-B26F-CEDBFD40834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C7F7E-98CB-4CF3-853A-864971E08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98EE2-AE6C-4713-A608-1797E3488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C63DFC2-34D5-4C6F-8B9F-9401A9AE979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5416E9D-4247-4ECC-AE25-5374110DCA2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649DC81-6C7E-4472-BDE6-BB41AEFF3C6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1677692-3D50-4980-8924-864E0E28213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B2A8B37-DC1D-4E68-B31F-52163033E18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80E3C52-4D71-40FA-B2D4-2A3E3F8115A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FAB3408-5CA5-4F4B-AABB-7987C447AD9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278323E-66BB-42B9-910A-84B1CF174B6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911B875-11B3-4716-B44E-BB665A36E1E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BBD7F84-2461-4A98-BF66-9FA152D29EE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7EBE0-FFFF-492B-883D-0D29D60F6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1B6FF43-33FA-481A-A6AF-6E1DDEF396E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8CEF1DD-6A06-4E97-8120-D2E43C24E87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1A9EAF9-CE15-49A0-8D2E-910B9F2B72F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C670D91-395A-4061-BD40-A1C956AD6BD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97E1062-9F77-4DB0-B204-0409476EC86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F67A261-9DBA-4CC5-9339-F72C3B9808F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552C0D4-6472-40F1-A5B0-F3F2923C812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65F8D6D-6517-4054-B8BC-CBD38D8A671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A0357B2-BCD2-4EE9-8B50-27B784C7C5C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9A967E6-1A36-4B7E-B9EA-082AC2CA9CC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0A97FD-5092-4012-B376-273EE8DEB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82E53C8-B106-4D02-80F6-4CD0BD170C0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042E891-0F8F-4596-BB11-9AACBBC16BF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8F4A324-3B4E-49A9-BB34-41F7E930517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AF90E91-4F45-4E38-855E-BFFC06B8681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9D9FB63-8FA8-493C-9862-63132C7C8FC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D551D47-7FFD-490F-8E11-2D74D3E25FE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0F5253A-0E3E-472D-AD95-DB83D62F412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0C648D5-6D6D-4D66-A590-E330218348D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C9AC99C-9BAF-4295-9B7D-5B94FC6417B8}"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BD53DAF-B6F2-48E7-AB63-D6DEDE977D3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4FEDF0-F5C7-4C0B-8070-0F3ED7B71A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7DBB51B-8B65-47E5-AC57-B4E3C4A232A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C6ABE65-7142-4815-852D-77A579D4E51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D8D2CE8-6654-466D-B023-1C1A51794AF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B33AEBD-7844-441E-A638-3435D67EC5A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B73D134-7552-4AF7-A858-91BEFE251F4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4A60A08-7E7D-4270-9988-E2438DE8ED2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7E38413-B3A0-4958-9552-56422914D52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352D2D2-014B-4688-AC08-F2EA85AA46A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939848B-AF22-4C7D-B589-00F8DF85B46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94D8021-93DC-4DBD-A9AB-31CE3313EA7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42AC46-3792-4CF3-833C-60F1C663FA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ABBA748-1E3B-436F-A132-94AF7FD0FF4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3760A909-9388-4DAF-9694-6CE77B5DBEF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F46061D-CAFD-40F4-ABE5-6468D3F40D2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0877919-23B3-427E-8616-F89C3EA4D48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9B7810C-9B07-4A92-A0A9-63F7B744B25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7EB11B1-8386-47D3-ADD1-309E8C6683C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8456741-AC54-426D-AD11-DE8A6A9BFD8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EF74B62-E11B-4202-AB66-0EE47953663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A739C26-36FC-4268-A513-1AF76E53A7D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D6DB8AA-ED13-49C3-8BED-506DFAA5646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CE072D-4E82-4DF9-87C1-7FD9BE212A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48CCC74-B617-42EB-AB23-A83E8D96B0B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C76DE8B-AB80-4C29-B8BE-6A1E58AAEEE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686E88D3-43F4-4BAD-9CE8-DBA71B3C645D}"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4C8A26B-7F4B-4A56-8CDD-CA53184A8F2F}"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D45B373-F129-4051-8314-F6C59A6AC98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FEB3A21-FA2B-45DB-A21E-679CEB456B8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562FAE7-B40F-4CEA-9EC9-9B0E8B45BDF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0976DF4-4803-4AFA-87CA-80C45B23706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2AD43B9-00E8-41B6-8783-7458C96533D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5114338-2D1E-42DA-9339-98B19F644BB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EC5F23-ADD3-445B-AADD-22DB5DF276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D8B5773-4013-4E51-BE92-C72AAC6694A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91440B2-3CFF-428D-A852-812C0E61F31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97CD173-50EA-4466-BEDC-A5B49031E39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E15574B-C214-4B79-8FE9-8FACFC954AA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08286E9-DB7C-4013-8907-C6232D6C74C2}"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B58453B-B835-4A81-878E-58C7E850C6B1}"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7B42C82-FDF0-42DA-8847-65BFFF894A8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B7ACBEF-94BE-480D-8244-0B07399D3EE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003F881-1817-4FA9-B812-864DA2B2D64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17D951B-05F3-4B62-AED9-3299D890412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784456-6329-4E90-9684-75F8F512EB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6AFC671-668D-4611-A13A-B39CDF422E5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95874EA-AF82-4B5C-9EAB-591AC6D6AD8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41DF2B4-13DA-4111-8288-8A7A2F8BFB7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061EEAD-C4AC-4221-AFEA-58D987DF5ED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C696E80-E30A-4834-BA7F-119124B4285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DC8347B-3FE4-4EDA-8729-111C9B107A75}"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0EE461E4-DB31-4B24-BD76-BF68DB62EB97}"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5DFE5226-9046-460F-BDDA-91C85AD09A41}"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60B6579-F417-444C-A6EE-E113E4DE837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EA9EE14-34F7-49C0-9B16-499129B56D7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A8F269-CAE1-41A4-AE1B-32D8441086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47E67FF-190C-4174-8C43-4B1B1EB0E4F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82B0C26-F428-425E-AE7B-B3EE21E306D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4DF0424-AD7C-4086-BEB3-4A432C07451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930DB84-70B7-47FA-A18E-63FEEAC44D1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9206791-710A-4E35-B274-431E3E62D55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9C36368-4586-4C80-870B-37C886B169B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1A50FC0-F1A1-4F47-98C5-11313F0A88C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C94BFD28-18B1-41FE-A7DC-3E35A868E5C5}"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80CAD42-EBF3-4F7E-BC2F-B59D67C2A4EB}"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937B441B-DDF2-4FD7-AC85-A88B47108970}"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62CCC1-4356-4C19-920B-9E1540B731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64A4E8B-5975-45A7-AFC5-462E29213B3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96D2FD3-D8E3-410C-A823-2665D179974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5EDD623-3418-4F7E-AE93-2E85101D608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CD95429-7E42-4904-8ECE-755D7BA718F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416D664-0983-4892-899A-D881BD73875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C24377E-919B-493D-BA34-D26F8467275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62E4D0C-31B8-4839-8EEF-0898C6431A1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647C958-4608-471E-81C3-7735880B4C6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44795D0-E0DD-44C2-AD88-026A855DB7D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71CD7C4F-72A2-4BA0-BBE6-8FE38D6766C4}"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EC9B5-0830-4A6C-8C1F-97227E832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FDE0B4-AB0C-440B-B8BD-0FF794F7F9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0A5A4E1A-068C-4D71-8417-4262E440EAD0}"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1FFCAF0A-B504-4EAE-9685-8476188C5B99}"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0EDFF95-FA12-4F4C-8870-90C1D585C57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12D6ABE-EACE-4E40-BBE4-87C159F971B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EE20C7E-6CB5-4532-BE34-E0D6A768022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D0EC388-977C-41FF-B9AA-38F6860429D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6CB940E-EF23-45AE-BBEC-AD46CD3CD69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C44D0FA-072E-476A-AB0F-CA4AE5D65CD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0508B5A-5C5A-4490-AC78-D2125363E4C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D44B1F1-D856-489F-B809-47D571C51CA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8831B8-5CBE-40FC-A9CA-1BD613FB40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347B917-74E0-4609-980C-17B4CA84BF7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CA0715FC-6F72-4183-B5BE-3B28ED4FCF80}"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F483F842-3B44-4BDC-A20E-D3C32CCFEA26}"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2A8A00BC-18F7-45F0-9ADB-C71E2745CCC0}"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04EEB29-83D4-4161-A81C-CE50BEF2A5B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905AE263-D114-4D98-9135-AFF4D072D0B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0E318DC-C757-4B1D-B7DB-F4CB81D422C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F9D1662-233E-4A60-9FFC-3DD53489D75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F7791AE-9D04-4D27-A81D-CC761206946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7680B0B-626C-4287-9B56-22BBEE25428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81BA07-0245-4568-97EE-8B1FE48DF0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A4B43B2-3171-4FF1-8C1F-66171F058B3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D0B725D-270D-48BA-BEDF-FDAE5A5B6C9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BBF9B52B-8D87-4132-8DA7-2987C4E362E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9D3C8721-1D64-4064-8E66-B52EB5448B20}"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ABC994FF-76F8-4229-8FD5-3BFC92A71FAF}"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35976602-EC02-4093-AA5B-1827019E7689}"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160EE19-A696-4F39-9B4E-BBE92A77E8E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928B05EB-9471-44AA-82F2-EA33AA2B02F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AA84BF1-F099-42BB-9330-086BAF53F14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BC2F819C-FA10-4BF1-A403-8BBDFA4869A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BA55F4-24A4-4E4D-AE11-4D9F0D5676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52A87C52-81AC-44A8-BFB0-6C5293E1B127}"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34DBFAC-EF7E-4ABD-9B5E-3624079C3AC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CB6A400-BFAA-4C8E-9B7F-BF0E65F8AD9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8F6B454-EC34-478E-AD85-553E66A7680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06D3436-1B10-420B-98B5-D3D30E0CDFE6}"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9A8BAE58-9299-4042-986A-B7F0463909C3}"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45FD216D-8300-4F05-8FD2-15580AA2B1FC}"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4B6A3833-D133-469F-85B3-DE7E8932E3A5}"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4C27096F-F844-4907-BCF5-8F834FA7EC9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965EEEA8-03FF-4EE4-8A35-5F61E77A3C4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FEDD5E-09E6-46B4-864B-930E8D1EBB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A4B502C-AD22-49CB-A795-8BDD9AD9987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712E42B4-4181-4E2A-A8A7-2C745A39412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58A843F-C472-47BC-A860-092D966DD3D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FE0C01F-EA29-4724-84B5-2E4EA63CAD2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4E8EE5F-681D-458B-A907-89F9EE6787D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C71033D-67D4-4694-9464-B4FE318F2D5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4E6D47E4-54FB-4DB9-BCB6-33BB2A53786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F62E02D1-8100-4794-A772-7E2AAF728C08}"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0401CD7C-B6C1-4A16-AE72-3B738D37A686}"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70CCB6FA-75FE-4E1F-B489-96C97A5D4A39}"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E8B237-97E1-4F2E-9F0D-EB751D785F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A36C13A-85D3-4369-BFFF-AC75B4114BB8}"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4D28565C-185A-43B6-87AD-5F4C2F475D04}"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7DFA1EB5-071A-46B9-B911-401536C66402}"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F4BFC4E3-54A1-4768-8BF3-FFB19BEA9F4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205095A-6F78-44CB-9F46-333AD43364B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60A8A29-2D72-4033-953B-1B479198E6B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5B9EBAA-6EF9-4885-B315-1C8A103E0D0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0058B7D-2362-4FF3-AD89-9E6D20B0544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BF34785-5371-4F1F-B12D-F1B09648EE0D}"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D08D2179-1EE3-4D73-8FA5-B12671977894}"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481DB4-86EF-4CED-BE02-D287BF9BDA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9190581F-580D-4827-815C-275A879AFBB7}"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1A28C2FC-D05B-4A2A-AEB4-2DAB6EF37834}"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93264A48-4E2A-4A0A-A146-9550C6F7ECE1}"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767B9CF6-5EB9-4CC1-89DF-D5D98304E62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117EEB9B-E6EE-440B-8A60-629F5532559A}"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234D3DA5-5176-49F9-A4E6-CF76A6DDC4BF}"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AD46219D-43E2-49A3-905A-DC34E72A1659}"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755BD4A-791E-413A-A473-3075ECEAB4E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11ABA1E-3D7D-47AB-8CC6-4C2B37087423}"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3E3D5CE-7C96-48A5-ABF3-560805B3A54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5810D3-DD9A-476F-9281-0FE23463D0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395044F1-27C1-46A0-8F67-4472718B6808}"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A0ABBB50-72B4-4629-879E-D984F9BEA2C9}"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267ABBB7-558B-4CD6-9863-3756EFD16B63}"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0508DB70-03C0-4BCA-A5E1-5E7E459FD901}"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EB9D1371-0D22-4F3E-B0AB-45F6F65C38A7}"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3A4891C6-1783-4F72-9C96-7D4BB04B395F}"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BC4EE61-28A7-42C5-8CE4-B55A7301B1C0}"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C706BF2B-5989-4018-B7FD-C8E05EC00A9A}"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F498685F-F088-447B-88F8-E72D546E2DB9}"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B735CE9-0DA4-4D07-A69A-56B00388361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E37E34-2E62-4D26-9E1C-DA7E002467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5E831C5-FC84-41EE-9D1E-06E19980C78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8A8801D-2C99-47D2-8D8C-3C3BF9271E0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DE8EC69E-31AA-4BE3-9A24-ECEFE883D438}"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38E9C6B7-2E80-42F8-9923-EC331BC5F06B}"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105E9B32-1A99-4C38-B678-496F66664D91}"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CEDB0E11-F622-4949-B2D3-75B2653BC408}"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B9C20580-E2D6-4DBF-BF59-E6E981482BB9}"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B8554030-9BC8-403C-8BD2-D336A00F8574}"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4AC1BBA3-B930-43D8-91E9-F0ADF59A376A}"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20BD14FD-D4FC-46D2-87CF-01B5C5E48574}"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BD1ECA-964F-41CC-BBEA-815AD2B674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7E011B0B-A7D6-44D8-8FF3-B2745B7933B4}"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BF4D31F6-8E20-44FD-94AC-85D8B65A65F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0BC6B14E-09A6-44F7-8507-586F77D5722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6C4BB53-E16C-4324-A176-BEB9DF37BD9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CD0C2AF7-46D4-421E-9FD8-3A1C8AA2A51B}"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845552AD-8980-4839-A03E-537FA60F74D3}"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90FC4CDF-4851-4838-9647-38C502503D5F}"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3E4CB958-A1A5-46A2-91ED-41016D829BA8}"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1DDD5201-9065-47EF-A375-F3DE2CF754EB}"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E0CE2477-C1D1-4B0F-B849-5FD83A6680AF}"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32F4C-4AB3-4450-B1CC-5B6160FB2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9BDC05-C6D8-4132-A2BF-03D6386CA1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003AD893-422F-4AC1-8A3F-DF5CFE6A8077}"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80E41CB7-0DF7-431F-AAB6-3E7FBBE52BE5}"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BE5EFE99-5279-49BF-AE37-8F91F30AF8F4}"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0D14C85-9A39-4801-B4FD-35984052B5B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2BED5AC-518A-409C-B408-35277E2DDD0B}"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E3A0CA9-52A8-4824-B62E-BB1449F6140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8848ABB4-82B2-42D4-8016-25080E9B0BEB}"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2F79A6FB-8077-41BF-93BE-7771CD02CBD0}"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C92AB0F8-EBCC-4BA9-833D-03F3184D1A26}"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E0119541-1DF4-490B-BB22-60B6387983A1}"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43D826-79F4-42B1-B3E8-ED3969C9D7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29683E13-114E-4207-BECD-CA1870C2803E}"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29A47A4F-3924-4F36-90BC-A40A5103AB43}"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DADA398E-3586-45B6-9E2A-BA9070FB895A}"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5FD52219-E1AB-41D0-B5AA-9A0FABE39681}"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38D994B2-9B96-400F-B192-96307D35BD52}"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EF9B0CDE-A43F-4D03-873C-49BB64CC0EB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5A96091-6D6C-4269-AF8E-18C809F2860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25F7F477-2B30-4045-BEBB-AD8E79B8EF2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35860D06-E510-40EE-B611-DCA76E9C3594}"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3E3F0DDB-7B62-426E-9B4B-8CC9CF80049D}"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9F40F7-134D-489B-A84F-2EE91ECCFA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495691BA-E6C3-43F6-A246-63CCF7A9FC02}"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9D0E86D9-AB1E-403F-AA73-3455DB6CA287}"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D113E441-8041-4D4D-ACF1-ED534978A2B0}"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1E79070D-8E2F-4BD4-8614-5C212E6C692F}"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7E125D67-91B3-4EDD-A849-CC3CB59F1B29}"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04379BDC-9EBE-4E4B-9605-60277A86E438}"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CD555FA9-7DE6-4515-A580-D776E81E3DF7}"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FF458A3-4E09-486E-9E20-8B31BA7A1D7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6B710AA-D917-4C56-881F-4669BBE6E2D1}"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A98A586-7D5F-42A1-859B-F156B36BE841}"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F913E4-D878-4A57-8476-6D35C4297F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81DD1512-9DFB-4771-8380-B38CF29F09B4}"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DFFB1D46-DA6D-433F-83CA-60A9DC8D5ECF}"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A36D5CC1-3BB0-4E18-958D-A7B9FCD98A4B}"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0AEAE2-E5BC-406B-9ED6-47D2BA9C10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198532-FBF1-4F8E-AA5F-ED2833F273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87F716-C8C8-4931-B362-F8C5AA311F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D0A4C4-8991-422B-94CD-DA7733E9B7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551BBF-4B1E-4406-B6A8-F19A815E24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502054-F30C-4877-8C29-EC9BA4C1F4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9A48C-A80F-40EA-A303-04993DD8F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339F60-2A86-4699-B8EB-A22B6C2372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456E8D-3447-4DF5-B19C-CEC242B977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529473-F51B-4381-A0EE-26970FCFA4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F3928A-A475-431D-B9FC-A6FA09CF93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995525-E9D2-4ADB-B0A9-F9B9A1661C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B9173C-7A60-44ED-8DA9-6EDBFC958B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1A2948-8436-4E2E-8086-5781A8BAB1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784B02-9336-459C-8BFF-FE284C0F6B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F287E3-5402-43F5-82E1-CEBF552E4F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326B76-F810-46DC-80F2-1178174211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805DC-BC0E-4E31-8E88-3F49EF7D5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3E4812-ACB7-4A19-8A6D-4765D6BF86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4A39BF-2F10-4AB3-832A-1C9687039E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E03C67-42CA-4D09-908A-1FF37EE72F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3F1528-D3B1-4F88-BAFB-2DD3B3A887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237267-800B-402C-816B-85898B7816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C6E8C8-7E1C-4A28-8326-58DF9FA032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7AFDB2-E465-4BE0-8014-0A3B26B4AB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3F98A3-3EC2-4927-ACA7-FF42B8F214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A5CCA4-707C-446A-96CB-BD3D73B301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2C8709-E3C1-4CD3-B6A9-86C4FE1B2D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6D0D5-82C6-4F32-98EC-57D51C64B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B85871-E3B9-4896-951F-63FDD3A7E9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466169-8B3F-459C-9BC6-629CE05768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A947E9-889C-4B65-99FA-24C8C0BDD1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99A05B-3083-46D5-8474-68CC4A1EB0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0C353E-46E2-48D4-91A2-3B24457F36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B68002-FCBC-48B2-9F70-66429B73B5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07D11E-64FD-4F21-8FE8-2E582B3288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0241B2-8343-4147-964F-CE125C6AAD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CC28FB-A193-4FA6-B06B-E30FA58481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51BE6E-A55F-4556-86BA-651BC235BD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F2BFC-44CD-4416-993D-37BC582DE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7DA197-D04A-4A7E-BB28-1768772D49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46007A-A972-4734-B2BE-260FB9BD53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1ACD8D-8488-4EC5-9D2C-2D734EDC3A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41F0D2-D19F-4767-84ED-4839D6996D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848696-E7FA-41E0-A037-9D492355AE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87A4D3-D6BC-46BD-B418-59F2E6BE0D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C6B77E-6144-4561-AF80-275B1694E5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5ECA36-FEE1-4693-8BB3-4AC6C8E476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BA7B73-BAF5-4671-AAFC-DFC6790DAA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82220E-6E40-4B2E-B775-7C595910A0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103E9-30EB-4931-8061-AAA4F00CD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65AEE8-BB0D-4EE6-9641-E9E756B133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0E8339-5B92-4508-85E1-C540D9290C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AAC4C2-B2AF-4201-90DC-94E1F14384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29E640-91D3-4A2F-B4AF-175A15AD0F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8AD1C6-7218-4921-89CD-B5C5102CA5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E23F5A-8B61-4AFD-877F-2437A992D2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CC7729-CE22-4CB0-9A36-7EDA28A325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C4F735-E809-44A1-9992-3F2580A965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B7FB1F-EACB-4B4F-8BD5-45E5DD4A34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C7BCD1-E17F-4F1B-82BA-AB7F3F30555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CC282-FF27-4815-8190-3511F13F05E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72" name="PlaceHolder 4"/>
          <p:cNvSpPr>
            <a:spLocks noGrp="1"/>
          </p:cNvSpPr>
          <p:nvPr>
            <p:ph type="ftr" idx="2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7E006-939C-4872-A1A9-CD9C9D5187C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13" name="PlaceHolder 4"/>
          <p:cNvSpPr>
            <a:spLocks noGrp="1"/>
          </p:cNvSpPr>
          <p:nvPr>
            <p:ph type="ftr" idx="3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7A722-1DDC-4CA7-9580-A2EFA62AD85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54" name="PlaceHolder 4"/>
          <p:cNvSpPr>
            <a:spLocks noGrp="1"/>
          </p:cNvSpPr>
          <p:nvPr>
            <p:ph type="ftr" idx="3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55CC7-9888-424B-8741-68D3F597D6A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95" name="PlaceHolder 4"/>
          <p:cNvSpPr>
            <a:spLocks noGrp="1"/>
          </p:cNvSpPr>
          <p:nvPr>
            <p:ph type="ftr" idx="3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B67E1-41C1-4B99-84E6-760A143AF09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536" name="PlaceHolder 4"/>
          <p:cNvSpPr>
            <a:spLocks noGrp="1"/>
          </p:cNvSpPr>
          <p:nvPr>
            <p:ph type="ftr" idx="4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PlaceHolder 5"/>
          <p:cNvSpPr>
            <a:spLocks noGrp="1"/>
          </p:cNvSpPr>
          <p:nvPr>
            <p:ph type="sldNum" idx="4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D54A4-569B-495E-B6DD-0739836DA13A}"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577" name="PlaceHolder 4"/>
          <p:cNvSpPr>
            <a:spLocks noGrp="1"/>
          </p:cNvSpPr>
          <p:nvPr>
            <p:ph type="ftr" idx="4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PlaceHolder 5"/>
          <p:cNvSpPr>
            <a:spLocks noGrp="1"/>
          </p:cNvSpPr>
          <p:nvPr>
            <p:ph type="sldNum" idx="4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222CB-6BF2-4793-A554-72548260932B}"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618" name="PlaceHolder 4"/>
          <p:cNvSpPr>
            <a:spLocks noGrp="1"/>
          </p:cNvSpPr>
          <p:nvPr>
            <p:ph type="ftr" idx="4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PlaceHolder 5"/>
          <p:cNvSpPr>
            <a:spLocks noGrp="1"/>
          </p:cNvSpPr>
          <p:nvPr>
            <p:ph type="sldNum" idx="4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C40BC-F29B-4B1A-BBA3-4A619AE84D6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659" name="PlaceHolder 4"/>
          <p:cNvSpPr>
            <a:spLocks noGrp="1"/>
          </p:cNvSpPr>
          <p:nvPr>
            <p:ph type="ftr" idx="5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PlaceHolder 5"/>
          <p:cNvSpPr>
            <a:spLocks noGrp="1"/>
          </p:cNvSpPr>
          <p:nvPr>
            <p:ph type="sldNum" idx="5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F9693-5831-4B16-B46D-884165AB983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dt" idx="5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00" name="PlaceHolder 4"/>
          <p:cNvSpPr>
            <a:spLocks noGrp="1"/>
          </p:cNvSpPr>
          <p:nvPr>
            <p:ph type="ftr" idx="5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PlaceHolder 5"/>
          <p:cNvSpPr>
            <a:spLocks noGrp="1"/>
          </p:cNvSpPr>
          <p:nvPr>
            <p:ph type="sldNum" idx="5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E3C82-864F-4441-B9F8-8C3CEF19B16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0" name="PlaceHolder 3"/>
          <p:cNvSpPr>
            <a:spLocks noGrp="1"/>
          </p:cNvSpPr>
          <p:nvPr>
            <p:ph type="dt" idx="5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41" name="PlaceHolder 4"/>
          <p:cNvSpPr>
            <a:spLocks noGrp="1"/>
          </p:cNvSpPr>
          <p:nvPr>
            <p:ph type="ftr" idx="5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PlaceHolder 5"/>
          <p:cNvSpPr>
            <a:spLocks noGrp="1"/>
          </p:cNvSpPr>
          <p:nvPr>
            <p:ph type="sldNum" idx="5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C2EDB-BC1B-43C7-93B9-C774019E00A2}"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4"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74155-D54C-4000-B50C-B33DBC52174B}"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5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82" name="PlaceHolder 4"/>
          <p:cNvSpPr>
            <a:spLocks noGrp="1"/>
          </p:cNvSpPr>
          <p:nvPr>
            <p:ph type="ftr" idx="5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PlaceHolder 5"/>
          <p:cNvSpPr>
            <a:spLocks noGrp="1"/>
          </p:cNvSpPr>
          <p:nvPr>
            <p:ph type="sldNum" idx="6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117EA-251C-41CD-BA34-C5DE837A5892}"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2" name="PlaceHolder 3"/>
          <p:cNvSpPr>
            <a:spLocks noGrp="1"/>
          </p:cNvSpPr>
          <p:nvPr>
            <p:ph type="dt" idx="6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23" name="PlaceHolder 4"/>
          <p:cNvSpPr>
            <a:spLocks noGrp="1"/>
          </p:cNvSpPr>
          <p:nvPr>
            <p:ph type="ftr" idx="6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PlaceHolder 5"/>
          <p:cNvSpPr>
            <a:spLocks noGrp="1"/>
          </p:cNvSpPr>
          <p:nvPr>
            <p:ph type="sldNum" idx="6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7EF98-9BA0-4831-8C78-6B52959AC92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6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64" name="PlaceHolder 4"/>
          <p:cNvSpPr>
            <a:spLocks noGrp="1"/>
          </p:cNvSpPr>
          <p:nvPr>
            <p:ph type="ftr" idx="6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PlaceHolder 5"/>
          <p:cNvSpPr>
            <a:spLocks noGrp="1"/>
          </p:cNvSpPr>
          <p:nvPr>
            <p:ph type="sldNum" idx="6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5CFA1-3746-42F0-B544-D3D070B6228A}"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4" name="PlaceHolder 3"/>
          <p:cNvSpPr>
            <a:spLocks noGrp="1"/>
          </p:cNvSpPr>
          <p:nvPr>
            <p:ph type="dt" idx="6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05" name="PlaceHolder 4"/>
          <p:cNvSpPr>
            <a:spLocks noGrp="1"/>
          </p:cNvSpPr>
          <p:nvPr>
            <p:ph type="ftr" idx="6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PlaceHolder 5"/>
          <p:cNvSpPr>
            <a:spLocks noGrp="1"/>
          </p:cNvSpPr>
          <p:nvPr>
            <p:ph type="sldNum" idx="6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09B37-B2B5-4594-BF22-ADAC90CEFABA}"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5" name="PlaceHolder 3"/>
          <p:cNvSpPr>
            <a:spLocks noGrp="1"/>
          </p:cNvSpPr>
          <p:nvPr>
            <p:ph type="dt" idx="7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46" name="PlaceHolder 4"/>
          <p:cNvSpPr>
            <a:spLocks noGrp="1"/>
          </p:cNvSpPr>
          <p:nvPr>
            <p:ph type="ftr" idx="7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PlaceHolder 5"/>
          <p:cNvSpPr>
            <a:spLocks noGrp="1"/>
          </p:cNvSpPr>
          <p:nvPr>
            <p:ph type="sldNum" idx="7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FCA41-3DA8-4B0C-A42C-CC7F423FB4E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6" name="PlaceHolder 3"/>
          <p:cNvSpPr>
            <a:spLocks noGrp="1"/>
          </p:cNvSpPr>
          <p:nvPr>
            <p:ph type="dt" idx="7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87" name="PlaceHolder 4"/>
          <p:cNvSpPr>
            <a:spLocks noGrp="1"/>
          </p:cNvSpPr>
          <p:nvPr>
            <p:ph type="ftr" idx="7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PlaceHolder 5"/>
          <p:cNvSpPr>
            <a:spLocks noGrp="1"/>
          </p:cNvSpPr>
          <p:nvPr>
            <p:ph type="sldNum" idx="7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720FE-A621-4B18-A469-DC105B6444D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7" name="PlaceHolder 3"/>
          <p:cNvSpPr>
            <a:spLocks noGrp="1"/>
          </p:cNvSpPr>
          <p:nvPr>
            <p:ph type="dt" idx="7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028" name="PlaceHolder 4"/>
          <p:cNvSpPr>
            <a:spLocks noGrp="1"/>
          </p:cNvSpPr>
          <p:nvPr>
            <p:ph type="ftr" idx="7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9" name="PlaceHolder 5"/>
          <p:cNvSpPr>
            <a:spLocks noGrp="1"/>
          </p:cNvSpPr>
          <p:nvPr>
            <p:ph type="sldNum" idx="7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78334-B46C-47FD-ABCB-CFBC6D0EE52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6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68" name="PlaceHolder 3"/>
          <p:cNvSpPr>
            <a:spLocks noGrp="1"/>
          </p:cNvSpPr>
          <p:nvPr>
            <p:ph type="dt" idx="7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069" name="PlaceHolder 4"/>
          <p:cNvSpPr>
            <a:spLocks noGrp="1"/>
          </p:cNvSpPr>
          <p:nvPr>
            <p:ph type="ftr" idx="8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0" name="PlaceHolder 5"/>
          <p:cNvSpPr>
            <a:spLocks noGrp="1"/>
          </p:cNvSpPr>
          <p:nvPr>
            <p:ph type="sldNum" idx="8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E2992-5871-4971-8FB8-00F72C6AD814}"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0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09" name="PlaceHolder 3"/>
          <p:cNvSpPr>
            <a:spLocks noGrp="1"/>
          </p:cNvSpPr>
          <p:nvPr>
            <p:ph type="dt" idx="8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10" name="PlaceHolder 4"/>
          <p:cNvSpPr>
            <a:spLocks noGrp="1"/>
          </p:cNvSpPr>
          <p:nvPr>
            <p:ph type="ftr" idx="8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PlaceHolder 5"/>
          <p:cNvSpPr>
            <a:spLocks noGrp="1"/>
          </p:cNvSpPr>
          <p:nvPr>
            <p:ph type="sldNum" idx="8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CC340-EE17-4BB3-A37A-B013F6B8E66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0" name="PlaceHolder 3"/>
          <p:cNvSpPr>
            <a:spLocks noGrp="1"/>
          </p:cNvSpPr>
          <p:nvPr>
            <p:ph type="dt" idx="8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51" name="PlaceHolder 4"/>
          <p:cNvSpPr>
            <a:spLocks noGrp="1"/>
          </p:cNvSpPr>
          <p:nvPr>
            <p:ph type="ftr" idx="8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2" name="PlaceHolder 5"/>
          <p:cNvSpPr>
            <a:spLocks noGrp="1"/>
          </p:cNvSpPr>
          <p:nvPr>
            <p:ph type="sldNum" idx="8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1D6B0-89E7-48CF-951F-563358BC963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5" name="PlaceHolder 4"/>
          <p:cNvSpPr>
            <a:spLocks noGrp="1"/>
          </p:cNvSpPr>
          <p:nvPr>
            <p:ph type="ftr" idx="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0B9E3-564B-4549-91A4-1C6346E54A7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1" name="PlaceHolder 3"/>
          <p:cNvSpPr>
            <a:spLocks noGrp="1"/>
          </p:cNvSpPr>
          <p:nvPr>
            <p:ph type="dt" idx="8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92" name="PlaceHolder 4"/>
          <p:cNvSpPr>
            <a:spLocks noGrp="1"/>
          </p:cNvSpPr>
          <p:nvPr>
            <p:ph type="ftr" idx="8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3" name="PlaceHolder 5"/>
          <p:cNvSpPr>
            <a:spLocks noGrp="1"/>
          </p:cNvSpPr>
          <p:nvPr>
            <p:ph type="sldNum" idx="9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D68EB-FF60-47B3-BE6F-EFA43E20409A}"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2" name="PlaceHolder 3"/>
          <p:cNvSpPr>
            <a:spLocks noGrp="1"/>
          </p:cNvSpPr>
          <p:nvPr>
            <p:ph type="dt" idx="9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33" name="PlaceHolder 4"/>
          <p:cNvSpPr>
            <a:spLocks noGrp="1"/>
          </p:cNvSpPr>
          <p:nvPr>
            <p:ph type="ftr" idx="9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4" name="PlaceHolder 5"/>
          <p:cNvSpPr>
            <a:spLocks noGrp="1"/>
          </p:cNvSpPr>
          <p:nvPr>
            <p:ph type="sldNum" idx="9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3AB9F-4965-478B-820B-0BF14660C99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3" name="PlaceHolder 3"/>
          <p:cNvSpPr>
            <a:spLocks noGrp="1"/>
          </p:cNvSpPr>
          <p:nvPr>
            <p:ph type="dt" idx="9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74" name="PlaceHolder 4"/>
          <p:cNvSpPr>
            <a:spLocks noGrp="1"/>
          </p:cNvSpPr>
          <p:nvPr>
            <p:ph type="ftr" idx="9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5" name="PlaceHolder 5"/>
          <p:cNvSpPr>
            <a:spLocks noGrp="1"/>
          </p:cNvSpPr>
          <p:nvPr>
            <p:ph type="sldNum" idx="9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A5752-425D-4B1E-8D05-48AB133E9EA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15" name="PlaceHolder 4"/>
          <p:cNvSpPr>
            <a:spLocks noGrp="1"/>
          </p:cNvSpPr>
          <p:nvPr>
            <p:ph type="ftr" idx="9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PlaceHolder 5"/>
          <p:cNvSpPr>
            <a:spLocks noGrp="1"/>
          </p:cNvSpPr>
          <p:nvPr>
            <p:ph type="sldNum" idx="9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7C286-AD4B-497D-952A-AE6DD3E057A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5" name="PlaceHolder 3"/>
          <p:cNvSpPr>
            <a:spLocks noGrp="1"/>
          </p:cNvSpPr>
          <p:nvPr>
            <p:ph type="dt" idx="10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56" name="PlaceHolder 4"/>
          <p:cNvSpPr>
            <a:spLocks noGrp="1"/>
          </p:cNvSpPr>
          <p:nvPr>
            <p:ph type="ftr" idx="10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7" name="PlaceHolder 5"/>
          <p:cNvSpPr>
            <a:spLocks noGrp="1"/>
          </p:cNvSpPr>
          <p:nvPr>
            <p:ph type="sldNum" idx="10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5927A-8909-43DD-B071-58C5CA75313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6" name="PlaceHolder 3"/>
          <p:cNvSpPr>
            <a:spLocks noGrp="1"/>
          </p:cNvSpPr>
          <p:nvPr>
            <p:ph type="dt" idx="10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97" name="PlaceHolder 4"/>
          <p:cNvSpPr>
            <a:spLocks noGrp="1"/>
          </p:cNvSpPr>
          <p:nvPr>
            <p:ph type="ftr" idx="10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8" name="PlaceHolder 5"/>
          <p:cNvSpPr>
            <a:spLocks noGrp="1"/>
          </p:cNvSpPr>
          <p:nvPr>
            <p:ph type="sldNum" idx="10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B1CF0-A86A-41A3-B8B5-527C8B5B635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7" name="PlaceHolder 3"/>
          <p:cNvSpPr>
            <a:spLocks noGrp="1"/>
          </p:cNvSpPr>
          <p:nvPr>
            <p:ph type="dt" idx="10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438" name="PlaceHolder 4"/>
          <p:cNvSpPr>
            <a:spLocks noGrp="1"/>
          </p:cNvSpPr>
          <p:nvPr>
            <p:ph type="ftr" idx="10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9" name="PlaceHolder 5"/>
          <p:cNvSpPr>
            <a:spLocks noGrp="1"/>
          </p:cNvSpPr>
          <p:nvPr>
            <p:ph type="sldNum" idx="10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7FC25-2F5B-4701-B55C-42FF98BC3BF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6" name="PlaceHolder 4"/>
          <p:cNvSpPr>
            <a:spLocks noGrp="1"/>
          </p:cNvSpPr>
          <p:nvPr>
            <p:ph type="ftr" idx="1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379CF-3B74-4E0F-A11F-FF42B84EA3A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67" name="PlaceHolder 4"/>
          <p:cNvSpPr>
            <a:spLocks noGrp="1"/>
          </p:cNvSpPr>
          <p:nvPr>
            <p:ph type="ftr" idx="1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A7C7E-3DFC-43C1-81C8-FE61DD40F54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08" name="PlaceHolder 4"/>
          <p:cNvSpPr>
            <a:spLocks noGrp="1"/>
          </p:cNvSpPr>
          <p:nvPr>
            <p:ph type="ftr" idx="1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50B49-CE5B-4788-9056-8C68C052D89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49" name="PlaceHolder 4"/>
          <p:cNvSpPr>
            <a:spLocks noGrp="1"/>
          </p:cNvSpPr>
          <p:nvPr>
            <p:ph type="ftr" idx="2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E33D1-CC7C-4916-AD03-907FD5C8894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90" name="PlaceHolder 4"/>
          <p:cNvSpPr>
            <a:spLocks noGrp="1"/>
          </p:cNvSpPr>
          <p:nvPr>
            <p:ph type="ftr" idx="2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30877-6A71-4B75-A688-32375A836FFB}"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31" name="PlaceHolder 4"/>
          <p:cNvSpPr>
            <a:spLocks noGrp="1"/>
          </p:cNvSpPr>
          <p:nvPr>
            <p:ph type="ftr" idx="2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4CC8F-2E35-4AD4-B82B-9B341AE4C3F2}"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09.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0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2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hyperlink" Target="https://en.wikipedia.org/wiki/Ombudsman" TargetMode="External"/><Relationship Id="rId4" Type="http://schemas.openxmlformats.org/officeDocument/2006/relationships/slideLayout" Target="../slideLayouts/slideLayout3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395280" y="1184400"/>
            <a:ext cx="11366640" cy="373536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alibri"/>
              </a:rPr>
              <a:t>NHSGGC </a:t>
            </a: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alibri"/>
              </a:rPr>
              <a:t>Complaints Handling Procedure</a:t>
            </a:r>
            <a:endParaRPr b="0" lang="en-US" sz="60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Calibri"/>
              </a:rPr>
              <a:t>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507" name="TextBox 1"/>
          <p:cNvSpPr/>
          <p:nvPr/>
        </p:nvSpPr>
        <p:spPr>
          <a:xfrm>
            <a:off x="2098800" y="620640"/>
            <a:ext cx="789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Learning from Complaints</a:t>
            </a:r>
            <a:r>
              <a:rPr b="0" lang="en-GB" sz="2800" spc="-1" strike="noStrike">
                <a:solidFill>
                  <a:srgbClr val="ffffff"/>
                </a:solidFill>
                <a:latin typeface="Calibri"/>
              </a:rPr>
              <a:t> </a:t>
            </a:r>
            <a:endParaRPr b="0" lang="en-US" sz="2800" spc="-1" strike="noStrike">
              <a:solidFill>
                <a:srgbClr val="000000"/>
              </a:solidFill>
              <a:latin typeface="Calibri"/>
            </a:endParaRPr>
          </a:p>
        </p:txBody>
      </p:sp>
      <p:pic>
        <p:nvPicPr>
          <p:cNvPr id="1508" name="Picture 3" descr="A close up of a piece of paper&#10;&#10;Description automatically generated"/>
          <p:cNvPicPr/>
          <p:nvPr/>
        </p:nvPicPr>
        <p:blipFill>
          <a:blip r:embed="rId1"/>
          <a:srcRect l="0" t="0" r="-1157" b="-6968"/>
          <a:stretch/>
        </p:blipFill>
        <p:spPr>
          <a:xfrm>
            <a:off x="1549440" y="2179800"/>
            <a:ext cx="8740800" cy="444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4" name="Rectangle 1"/>
          <p:cNvSpPr/>
          <p:nvPr/>
        </p:nvSpPr>
        <p:spPr>
          <a:xfrm>
            <a:off x="644400" y="2092320"/>
            <a:ext cx="10887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5" name="TextBox 2"/>
          <p:cNvSpPr/>
          <p:nvPr/>
        </p:nvSpPr>
        <p:spPr>
          <a:xfrm>
            <a:off x="653040" y="49356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The Process</a:t>
            </a:r>
            <a:endParaRPr b="0" lang="en-US" sz="3600" spc="-1" strike="noStrike">
              <a:solidFill>
                <a:srgbClr val="000000"/>
              </a:solidFill>
              <a:latin typeface="Calibri"/>
            </a:endParaRPr>
          </a:p>
        </p:txBody>
      </p:sp>
      <p:pic>
        <p:nvPicPr>
          <p:cNvPr id="1486" name="Picture 1" descr=""/>
          <p:cNvPicPr/>
          <p:nvPr/>
        </p:nvPicPr>
        <p:blipFill>
          <a:blip r:embed="rId1"/>
          <a:stretch/>
        </p:blipFill>
        <p:spPr>
          <a:xfrm>
            <a:off x="1596960" y="1319040"/>
            <a:ext cx="8489880" cy="478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7" name="TextBox 3"/>
          <p:cNvSpPr/>
          <p:nvPr/>
        </p:nvSpPr>
        <p:spPr>
          <a:xfrm>
            <a:off x="334800" y="415800"/>
            <a:ext cx="10983960" cy="569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tage 1</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arly resolution complaints that require little to no investig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g. – Waiting Time Complaints, Smoking &amp; Car Parking</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ponses can be shared via:</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Verbally, direct to complainant, via service</a:t>
            </a: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mail, direct to complainant, via Complaints Department</a:t>
            </a: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8" name="Rectangle 1" descr=""/>
          <p:cNvPicPr/>
          <p:nvPr/>
        </p:nvPicPr>
        <p:blipFill>
          <a:blip r:embed="rId1"/>
          <a:stretch/>
        </p:blipFill>
        <p:spPr>
          <a:xfrm>
            <a:off x="414360" y="682560"/>
            <a:ext cx="11539440" cy="898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9" name="TextBox 2"/>
          <p:cNvSpPr/>
          <p:nvPr/>
        </p:nvSpPr>
        <p:spPr>
          <a:xfrm>
            <a:off x="369360" y="487440"/>
            <a:ext cx="11745000" cy="557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Stage 2</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tage 2 complaints are complex and require an in-depth investig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g. concerns about clinical care, disagreement with treatment plan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nd complaints that have been escalated from Stage 1.</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ponses to Stage 2 complaints are via the service Director.</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olution should be reached within 20 working day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title"/>
          </p:nvPr>
        </p:nvSpPr>
        <p:spPr>
          <a:xfrm>
            <a:off x="195120" y="5364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 Sorry</a:t>
            </a:r>
            <a:endParaRPr b="0" lang="en-US" sz="3600" spc="-1" strike="noStrike">
              <a:solidFill>
                <a:srgbClr val="000000"/>
              </a:solidFill>
              <a:latin typeface="Calibri"/>
            </a:endParaRPr>
          </a:p>
        </p:txBody>
      </p:sp>
      <p:sp>
        <p:nvSpPr>
          <p:cNvPr id="1491" name="AutoShape 2"/>
          <p:cNvSpPr/>
          <p:nvPr/>
        </p:nvSpPr>
        <p:spPr>
          <a:xfrm>
            <a:off x="158760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2" name="Rectangle 1"/>
          <p:cNvSpPr/>
          <p:nvPr/>
        </p:nvSpPr>
        <p:spPr>
          <a:xfrm>
            <a:off x="297000" y="1258920"/>
            <a:ext cx="6780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apology is an imperfect response to the fact that we can never turn back the clock when things have gone wrong. We just have to deal with what is, and deal with it as well as we can.</a:t>
            </a:r>
            <a:endParaRPr b="0" lang="en-US" sz="2400" spc="-1" strike="noStrike">
              <a:solidFill>
                <a:srgbClr val="000000"/>
              </a:solidFill>
              <a:latin typeface="Calibri"/>
            </a:endParaRPr>
          </a:p>
        </p:txBody>
      </p:sp>
      <p:sp>
        <p:nvSpPr>
          <p:cNvPr id="1493" name="Rectangle 8"/>
          <p:cNvSpPr/>
          <p:nvPr/>
        </p:nvSpPr>
        <p:spPr>
          <a:xfrm>
            <a:off x="297000" y="3117960"/>
            <a:ext cx="692928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apology is partly a statement of regret, and partly an acceptance of responsibility for things that have gone wrong. A </a:t>
            </a:r>
            <a:r>
              <a:rPr b="0" i="1" lang="en-GB" sz="2400" spc="-1" strike="noStrike">
                <a:solidFill>
                  <a:srgbClr val="ffffff"/>
                </a:solidFill>
                <a:latin typeface="Calibri"/>
              </a:rPr>
              <a:t>sincere</a:t>
            </a:r>
            <a:r>
              <a:rPr b="0" lang="en-GB" sz="2400" spc="-1" strike="noStrike">
                <a:solidFill>
                  <a:srgbClr val="ffffff"/>
                </a:solidFill>
                <a:latin typeface="Calibri"/>
              </a:rPr>
              <a:t> partial apology (“I’m truly sorry that this has happened”) is a statement of sorrow or regre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2400" spc="-1" strike="noStrike">
                <a:solidFill>
                  <a:srgbClr val="ffffff"/>
                </a:solidFill>
                <a:latin typeface="Calibri"/>
              </a:rPr>
              <a:t>A </a:t>
            </a:r>
            <a:r>
              <a:rPr b="0" i="1" lang="en-GB" sz="2400" spc="-1" strike="noStrike">
                <a:solidFill>
                  <a:srgbClr val="ffffff"/>
                </a:solidFill>
                <a:latin typeface="Calibri"/>
              </a:rPr>
              <a:t>full</a:t>
            </a:r>
            <a:r>
              <a:rPr b="0" lang="en-GB" sz="2400" spc="-1" strike="noStrike">
                <a:solidFill>
                  <a:srgbClr val="ffffff"/>
                </a:solidFill>
                <a:latin typeface="Calibri"/>
              </a:rPr>
              <a:t> apology, by contrast, will include an explanation of what happened and acceptance of responsibility.</a:t>
            </a:r>
            <a:endParaRPr b="0" lang="en-US" sz="2400" spc="-1" strike="noStrike">
              <a:solidFill>
                <a:srgbClr val="000000"/>
              </a:solidFill>
              <a:latin typeface="Calibri"/>
            </a:endParaRPr>
          </a:p>
        </p:txBody>
      </p:sp>
      <p:pic>
        <p:nvPicPr>
          <p:cNvPr id="1494" name="Picture 1" descr=""/>
          <p:cNvPicPr/>
          <p:nvPr/>
        </p:nvPicPr>
        <p:blipFill>
          <a:blip r:embed="rId1"/>
          <a:stretch/>
        </p:blipFill>
        <p:spPr>
          <a:xfrm>
            <a:off x="7589880" y="1027080"/>
            <a:ext cx="424980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pic>
        <p:nvPicPr>
          <p:cNvPr id="1495" name="Picture 3" descr=""/>
          <p:cNvPicPr/>
          <p:nvPr/>
        </p:nvPicPr>
        <p:blipFill>
          <a:blip r:embed="rId1"/>
          <a:stretch/>
        </p:blipFill>
        <p:spPr>
          <a:xfrm>
            <a:off x="549360" y="1590840"/>
            <a:ext cx="4728960" cy="4255920"/>
          </a:xfrm>
          <a:prstGeom prst="rect">
            <a:avLst/>
          </a:prstGeom>
          <a:ln w="0">
            <a:noFill/>
          </a:ln>
        </p:spPr>
      </p:pic>
      <p:sp>
        <p:nvSpPr>
          <p:cNvPr id="1496" name="Rectangle 3"/>
          <p:cNvSpPr/>
          <p:nvPr/>
        </p:nvSpPr>
        <p:spPr>
          <a:xfrm>
            <a:off x="5514840" y="2089080"/>
            <a:ext cx="6199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im your apology at what actually happened. An apology is for a specific wrong or injury. It will miss its mark if the apologiser and the apologisee disagree about what went wrong.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is means understanding what happened </a:t>
            </a:r>
            <a:r>
              <a:rPr b="0" i="1" lang="en-GB" sz="2400" spc="-1" strike="noStrike">
                <a:solidFill>
                  <a:srgbClr val="ffffff"/>
                </a:solidFill>
                <a:latin typeface="Calibri"/>
              </a:rPr>
              <a:t>from the point of view of the patient or their supporters</a:t>
            </a:r>
            <a:r>
              <a:rPr b="0" lang="en-GB" sz="2400" spc="-1" strike="noStrike">
                <a:solidFill>
                  <a:srgbClr val="ffffff"/>
                </a:solidFill>
                <a:latin typeface="Calibri"/>
              </a:rPr>
              <a:t>, as well as seeing events from your own point of view.</a:t>
            </a:r>
            <a:endParaRPr b="0" lang="en-US" sz="2400" spc="-1" strike="noStrike">
              <a:solidFill>
                <a:srgbClr val="000000"/>
              </a:solidFill>
              <a:latin typeface="Calibri"/>
            </a:endParaRPr>
          </a:p>
        </p:txBody>
      </p:sp>
      <p:sp>
        <p:nvSpPr>
          <p:cNvPr id="1497" name="Title 4"/>
          <p:cNvSpPr/>
          <p:nvPr/>
        </p:nvSpPr>
        <p:spPr>
          <a:xfrm>
            <a:off x="4726080" y="237960"/>
            <a:ext cx="4976640" cy="11430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 Sor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Impact of Complaints</a:t>
            </a:r>
            <a:endParaRPr b="0" lang="en-US" sz="4400" spc="-1" strike="noStrike">
              <a:solidFill>
                <a:srgbClr val="000000"/>
              </a:solidFill>
              <a:latin typeface="Calibri"/>
            </a:endParaRPr>
          </a:p>
        </p:txBody>
      </p:sp>
      <p:sp>
        <p:nvSpPr>
          <p:cNvPr id="1499" name=""/>
          <p:cNvSpPr txBox="1"/>
          <p:nvPr/>
        </p:nvSpPr>
        <p:spPr>
          <a:xfrm>
            <a:off x="609480" y="1600200"/>
            <a:ext cx="10972800" cy="470376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It is recognised that there is a negative stigma attached to complaints, and being complained about can impact negatively on individual staff members wellbe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Being complained about can be scary and upsetting; we encourage line managers to take extra time with staff who have been named in a complaint to offer support, guidance and assistance in statement writing, if requir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Open, timeous and honest communication is key; if a complaint has been completed the formal response should be shared with the members of staff nam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Learning from a complaint should be shared across the appropriate service, as well as with an individual.</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e Complaints Department are available to discuss the process in more detail with any member of staff that would find this helpfu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TextBox 1"/>
          <p:cNvSpPr/>
          <p:nvPr/>
        </p:nvSpPr>
        <p:spPr>
          <a:xfrm>
            <a:off x="4008600" y="907920"/>
            <a:ext cx="3527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SPSO</a:t>
            </a:r>
            <a:endParaRPr b="0" lang="en-US" sz="2800" spc="-1" strike="noStrike">
              <a:solidFill>
                <a:srgbClr val="000000"/>
              </a:solidFill>
              <a:latin typeface="Calibri"/>
            </a:endParaRPr>
          </a:p>
        </p:txBody>
      </p:sp>
      <p:sp>
        <p:nvSpPr>
          <p:cNvPr id="1501" name="Rectangle 2"/>
          <p:cNvSpPr/>
          <p:nvPr/>
        </p:nvSpPr>
        <p:spPr>
          <a:xfrm>
            <a:off x="3821400" y="1432080"/>
            <a:ext cx="480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Scottish Public Services Ombudsman</a:t>
            </a:r>
            <a:endParaRPr b="0" lang="en-US" sz="2400" spc="-1" strike="noStrike">
              <a:solidFill>
                <a:srgbClr val="000000"/>
              </a:solidFill>
              <a:latin typeface="Calibri"/>
            </a:endParaRPr>
          </a:p>
        </p:txBody>
      </p:sp>
      <p:pic>
        <p:nvPicPr>
          <p:cNvPr id="1502" name="Picture 2" descr=""/>
          <p:cNvPicPr/>
          <p:nvPr/>
        </p:nvPicPr>
        <p:blipFill>
          <a:blip r:embed="rId1"/>
          <a:stretch/>
        </p:blipFill>
        <p:spPr>
          <a:xfrm>
            <a:off x="1774800" y="212760"/>
            <a:ext cx="2381400" cy="1219320"/>
          </a:xfrm>
          <a:prstGeom prst="rect">
            <a:avLst/>
          </a:prstGeom>
          <a:ln w="0">
            <a:noFill/>
          </a:ln>
        </p:spPr>
      </p:pic>
      <p:pic>
        <p:nvPicPr>
          <p:cNvPr id="1503" name="Picture 5" descr="A person smiling for the camera&#10;&#10;Description automatically generated"/>
          <p:cNvPicPr/>
          <p:nvPr/>
        </p:nvPicPr>
        <p:blipFill>
          <a:blip r:embed="rId2"/>
          <a:srcRect l="0" t="0" r="-29453" b="-23812"/>
          <a:stretch/>
        </p:blipFill>
        <p:spPr>
          <a:xfrm>
            <a:off x="1887480" y="1955880"/>
            <a:ext cx="3809880" cy="3809880"/>
          </a:xfrm>
          <a:prstGeom prst="rect">
            <a:avLst/>
          </a:prstGeom>
          <a:ln w="0">
            <a:noFill/>
          </a:ln>
        </p:spPr>
      </p:pic>
      <p:sp>
        <p:nvSpPr>
          <p:cNvPr id="1504" name="Rectangle 6"/>
          <p:cNvSpPr/>
          <p:nvPr/>
        </p:nvSpPr>
        <p:spPr>
          <a:xfrm>
            <a:off x="5527800" y="4718160"/>
            <a:ext cx="26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d21"/>
                </a:solidFill>
                <a:latin typeface="Arial"/>
              </a:rPr>
              <a:t>https://www.</a:t>
            </a:r>
            <a:r>
              <a:rPr b="1" lang="en-GB" sz="1800" spc="-1" strike="noStrike">
                <a:solidFill>
                  <a:srgbClr val="006d21"/>
                </a:solidFill>
                <a:latin typeface="Arial"/>
              </a:rPr>
              <a:t>spso</a:t>
            </a:r>
            <a:r>
              <a:rPr b="0" lang="en-GB" sz="1800" spc="-1" strike="noStrike">
                <a:solidFill>
                  <a:srgbClr val="006d21"/>
                </a:solidFill>
                <a:latin typeface="Arial"/>
              </a:rPr>
              <a:t>.org.uk</a:t>
            </a:r>
            <a:endParaRPr b="0" lang="en-US" sz="1800" spc="-1" strike="noStrike">
              <a:solidFill>
                <a:srgbClr val="000000"/>
              </a:solidFill>
              <a:latin typeface="Calibri"/>
            </a:endParaRPr>
          </a:p>
        </p:txBody>
      </p:sp>
      <p:sp>
        <p:nvSpPr>
          <p:cNvPr id="1505" name="Rectangle 7"/>
          <p:cNvSpPr/>
          <p:nvPr/>
        </p:nvSpPr>
        <p:spPr>
          <a:xfrm>
            <a:off x="5249880" y="25509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Scottish Public Services Ombudsman</a:t>
            </a:r>
            <a:r>
              <a:rPr b="0" lang="en-US" sz="1800" spc="-1" strike="noStrike">
                <a:solidFill>
                  <a:srgbClr val="ffffff"/>
                </a:solidFill>
                <a:latin typeface="Arial"/>
              </a:rPr>
              <a:t> (</a:t>
            </a:r>
            <a:r>
              <a:rPr b="1" lang="en-US" sz="1800" spc="-1" strike="noStrike">
                <a:solidFill>
                  <a:srgbClr val="ffffff"/>
                </a:solidFill>
                <a:latin typeface="Arial"/>
              </a:rPr>
              <a:t>SPSO</a:t>
            </a:r>
            <a:r>
              <a:rPr b="0" lang="en-US" sz="1800" spc="-1" strike="noStrike">
                <a:solidFill>
                  <a:srgbClr val="ffffff"/>
                </a:solidFill>
                <a:latin typeface="Arial"/>
              </a:rPr>
              <a:t>) is the organisation that handles complaints about public services in Scotland. The </a:t>
            </a:r>
            <a:r>
              <a:rPr b="0" lang="en-US" sz="1800" spc="-1" strike="noStrike" u="sng">
                <a:solidFill>
                  <a:srgbClr val="0000ff"/>
                </a:solidFill>
                <a:uFillTx/>
                <a:latin typeface="Arial"/>
                <a:hlinkClick r:id="rId3"/>
              </a:rPr>
              <a:t>Ombudsman</a:t>
            </a:r>
            <a:r>
              <a:rPr b="0" lang="en-US" sz="1800" spc="-1" strike="noStrike">
                <a:solidFill>
                  <a:srgbClr val="ffffff"/>
                </a:solidFill>
                <a:latin typeface="Arial"/>
              </a:rPr>
              <a:t> service is independent of government and with a duty to act impartially. </a:t>
            </a:r>
            <a:endParaRPr b="0" lang="en-US" sz="1800" spc="-1" strike="noStrike">
              <a:solidFill>
                <a:srgbClr val="000000"/>
              </a:solidFill>
              <a:latin typeface="Calibri"/>
            </a:endParaRPr>
          </a:p>
        </p:txBody>
      </p:sp>
      <p:sp>
        <p:nvSpPr>
          <p:cNvPr id="1506" name="Rectangle 8"/>
          <p:cNvSpPr/>
          <p:nvPr/>
        </p:nvSpPr>
        <p:spPr>
          <a:xfrm>
            <a:off x="2398320" y="5059440"/>
            <a:ext cx="21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Montserrat"/>
              </a:rPr>
              <a:t>Rosemary Agne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29T11:39:36Z</dcterms:created>
  <dc:creator>Davidson, Vivienne</dc:creator>
  <dc:description/>
  <dc:language>en-US</dc:language>
  <cp:lastModifiedBy>Murray, Janet</cp:lastModifiedBy>
  <dcterms:modified xsi:type="dcterms:W3CDTF">2022-02-15T10:10:29Z</dcterms:modified>
  <cp:revision>52</cp:revision>
  <dc:subject/>
  <dc:title>PowerPoint Presentation</dc:title>
</cp:coreProperties>
</file>