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BB396-2351-4400-A22C-645F1B79D02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3053-087B-4B40-A679-46D5BF6FF97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01C0-7185-426A-AC72-4CABDCF348A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0B1A1-AF63-4EF6-A6B7-BED596AB7A3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489A-BACD-42E8-904A-9E8410114A3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667CE-967B-4327-BBDD-1FE28A62E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7E4B2-FCB2-4931-A026-549D36C4A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5BE23-D4DC-4FE0-A2B9-6DB4C0E0A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EA178-A68F-4CB2-B3EC-A46887B5B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ED2F5B-E441-41BB-8B4E-1A53539C42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18E55-9C39-464C-B094-9462595C64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59103-0E6E-48C4-A013-C6ACD6FD09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CF942E-E502-48D4-AB75-6633E6B99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4AE09-9477-4B1B-8444-80A3E8821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202272-4449-4E2F-877C-598AFEB441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55203-0228-4181-84DC-3B9911704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16884-5CC9-4C39-B2F7-73D1AC50F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E009B-0825-40AA-A405-ACFCB7CC9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3C3F1-056D-4933-B4B9-A30C9C986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29B76E-0428-4FA4-989C-B5F054111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70F00B-6792-4802-954E-3CB00D60F4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6393D0-F9CD-4C34-8807-23787210F2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50A8FB-E4C0-40B8-850E-DB9A7888FC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1648E7-A28D-407C-896B-E2F2033FB0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598485-98D2-4909-B37E-2A8912B179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A36334-86CA-4133-BC84-8DEAC58727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004658-1B2C-4CC4-BC91-692C7E2386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9BCB7-A244-45C0-9111-732E3B749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BB0181-FE83-4C04-8301-4C42C087EE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F065F9-3485-4636-A985-1E5DEA5554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3613C5-A758-4BE4-BAF9-EBE6B392B5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FC5AB0-17F3-4D94-AA81-821E201181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BE4433-D391-45F1-A215-F296DD4F8C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C310E3-CB03-4DCD-B96A-4C56BD7DF6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D50B2EE-CF96-475C-B79F-B4BEADCB137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CA412-486E-4869-B25C-4E193EDB3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B25E0-EDAD-4770-A5CE-818B7CB2E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D6151-31FF-4518-9912-E6BEC3804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257E2-8A9A-4413-BD87-AB40E8B0D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C5925-5AC1-43EB-963B-279EBF792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72DED-D91C-4EBB-84A8-463F8F89E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A798A-1D24-4B8B-9916-F7D7C9D623FF}"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E8056-7D41-4735-B49A-BAD9923A1A84}"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7D13A-4555-441C-AD1E-DE8094C58223}"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10</a:t>
            </a:r>
            <a:r>
              <a:rPr b="1" lang="en-GB" sz="2800" spc="-1" strike="noStrike" baseline="30000">
                <a:solidFill>
                  <a:srgbClr val="002060"/>
                </a:solidFill>
                <a:latin typeface="Comic Sans MS"/>
              </a:rPr>
              <a:t>th</a:t>
            </a:r>
            <a:r>
              <a:rPr b="1" lang="en-GB" sz="2800" spc="-1" strike="noStrike">
                <a:solidFill>
                  <a:srgbClr val="002060"/>
                </a:solidFill>
                <a:latin typeface="Comic Sans MS"/>
              </a:rPr>
              <a:t> of Aug 2022</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urray, Janet</cp:lastModifiedBy>
  <cp:lastPrinted>2022-07-20T11:24:27Z</cp:lastPrinted>
  <dcterms:modified xsi:type="dcterms:W3CDTF">2022-08-14T20:20:30Z</dcterms:modified>
  <cp:revision>270</cp:revision>
  <dc:subject/>
  <dc:title>Slide 1</dc:title>
</cp:coreProperties>
</file>