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8" name="PlaceHolder 2"/>
          <p:cNvSpPr>
            <a:spLocks noGrp="1"/>
          </p:cNvSpPr>
          <p:nvPr>
            <p:ph type="dt" idx="10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1" name="PlaceHolder 5"/>
          <p:cNvSpPr>
            <a:spLocks noGrp="1"/>
          </p:cNvSpPr>
          <p:nvPr>
            <p:ph type="ftr" idx="1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2" name="PlaceHolder 6"/>
          <p:cNvSpPr>
            <a:spLocks noGrp="1"/>
          </p:cNvSpPr>
          <p:nvPr>
            <p:ph type="sldNum" idx="1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1AD5B-74FE-4811-B209-42B7E663DA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685800" y="1143000"/>
            <a:ext cx="5486400" cy="3086280"/>
          </a:xfrm>
          <a:prstGeom prst="rect">
            <a:avLst/>
          </a:prstGeom>
          <a:ln w="0">
            <a:noFill/>
          </a:ln>
        </p:spPr>
      </p:sp>
      <p:sp>
        <p:nvSpPr>
          <p:cNvPr id="1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A5A12-BB75-4450-AE6A-439FE7785FA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685800" y="1143000"/>
            <a:ext cx="5486400" cy="3086280"/>
          </a:xfrm>
          <a:prstGeom prst="rect">
            <a:avLst/>
          </a:prstGeom>
          <a:ln w="0">
            <a:noFill/>
          </a:ln>
        </p:spPr>
      </p:sp>
      <p:sp>
        <p:nvSpPr>
          <p:cNvPr id="1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81579-293F-42A8-90BA-20B9E75A94A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685800" y="1143000"/>
            <a:ext cx="5486400" cy="3086280"/>
          </a:xfrm>
          <a:prstGeom prst="rect">
            <a:avLst/>
          </a:prstGeom>
          <a:ln w="0">
            <a:noFill/>
          </a:ln>
        </p:spPr>
      </p:sp>
      <p:sp>
        <p:nvSpPr>
          <p:cNvPr id="1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29D1A-F395-4F88-BAB5-CFDA6DD1730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685800" y="1143000"/>
            <a:ext cx="5486400" cy="3086280"/>
          </a:xfrm>
          <a:prstGeom prst="rect">
            <a:avLst/>
          </a:prstGeom>
          <a:ln w="0">
            <a:noFill/>
          </a:ln>
        </p:spPr>
      </p:sp>
      <p:sp>
        <p:nvSpPr>
          <p:cNvPr id="1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9E599-B15D-421A-AAA3-80C30B98858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685800" y="1143000"/>
            <a:ext cx="5486400" cy="3086280"/>
          </a:xfrm>
          <a:prstGeom prst="rect">
            <a:avLst/>
          </a:prstGeom>
          <a:ln w="0">
            <a:noFill/>
          </a:ln>
        </p:spPr>
      </p:sp>
      <p:sp>
        <p:nvSpPr>
          <p:cNvPr id="1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8292B-E39A-45E0-9DF5-AF4881EAD1D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685800" y="1143000"/>
            <a:ext cx="5486400" cy="3086280"/>
          </a:xfrm>
          <a:prstGeom prst="rect">
            <a:avLst/>
          </a:prstGeom>
          <a:ln w="0">
            <a:noFill/>
          </a:ln>
        </p:spPr>
      </p:sp>
      <p:sp>
        <p:nvSpPr>
          <p:cNvPr id="1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5BFC-15F9-4646-B908-FB6141F892E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1F6165-01DD-402A-A325-DBBBBFDCC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B4019-B9FE-476B-A4C0-8A358B193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C7EDF2-A93C-446E-8088-5B4BB630E8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A175DE-ABCA-4413-A4C0-EA742BD341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BFC965-E8D9-46B5-9A2A-F125E582E0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2522AA-AC0A-4DEB-A3CF-0ED5BA4D35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9E5A80-8378-4472-A633-BB9C3AD356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51387A-687D-4C29-A1D6-EAD3C838D5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5125B5-8429-4D9B-B5BF-6EAF79E06F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1C3690-C715-40A8-882F-9DBDD14B68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240D89-0AE4-47BC-89BD-4CBDD167F8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54E1C3E-CA7F-4A08-A7DF-EA2E07E59F3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79D3D-FA24-4237-AB9E-F4FA93AECF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3C878C-0CB8-4914-8153-C733581DA4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5D73B3-4F95-483D-A303-6E66D028A0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013318-0A03-4E1D-B2CB-AFE8CBE8D5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B8458E-5933-44D9-B32C-A1F9F3F44F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F4C834-6D26-49FB-8436-404EB8BD62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41B212-677B-4449-A4AC-2572DAD42B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B0D35B-342A-44B0-8BE4-D4E0FF528A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26E1D4A-4E83-4A90-9D2C-B421AABDE34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7E5C8D-92A7-4E59-A5C6-8B1751F024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05BBB28-B7D5-417B-B629-AFC4C3F3BA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AA710-0DF5-4715-87BE-C4192A5F1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CD92D23-0625-458F-AF28-17973E64046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59810A8-FAD3-4A32-9AE5-6E82A8CA1A7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16870B-17D0-4D2D-A8CA-4FC9BA943E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4055E4-5BB6-4249-B5EE-D02B14F8CE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0213CB8-71F8-49D8-B6F3-A1C214DC872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F71F10-F571-43E4-B636-3326BC6669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9CCAF54-6489-40E5-B617-3B8BCF9EC53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3D9F03-81EB-44EE-8C1B-48043D733F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9F4AAE-3A97-4558-831F-A5CBB568EA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D8BCFA-0D99-4562-A2B4-C3859F7DA7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74C6AB-E824-4741-8303-C6A1C11A4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D0635D9-EA69-42E3-80A9-AA755A15901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0566C83-DC22-4A4E-8BF6-32D4D1A6AE9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CCD598B-E8E5-454B-9DF0-8FB4A9763E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0C140A3-7689-42C2-8663-AC4BDB4A4D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E3A7D2-2748-4320-AAE8-04392D61191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FE052DF-75E8-4708-BAB3-B62EDBCA60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BD618D4-6D68-4228-AD0A-59CA9025E44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2BE293-3380-4122-B8F2-B90014DB13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29E2F2-66FF-43C4-A623-D3A8AFC35D0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101D249-1257-4D4A-A50B-F52E64FBD6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3EB6B-38DF-4938-BB0A-06DFA682C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4770ECB-F4C0-4B3F-AA5C-75194A7D6B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9EDD3D-B929-4E98-A8C6-2DEF311277E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62282D-7FC9-4836-BA63-A675ADCE72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4ED0C1C-0ABC-4438-B770-AC7B50D7F9D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4D52F7B-CD3D-4B08-B5FE-F13DBE9042E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290E3BC-66CC-46F7-AE74-C304F1EFD5B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113AC5-F44D-4A23-86CB-8C70143DF84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C404A8D-4B25-4676-875B-2FAA71CE881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E5FA3B8-31AE-429A-A86D-A73155B047D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C897775-CE6B-4384-9158-A8A70A67D91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D36F1-BBBD-4AAC-8A73-4820AFCE20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B279F52-CE7A-4444-A841-A5ABF777C77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8C5315-8D96-4878-88CF-DDEBE5C52DA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58E4F1D-59A6-45D3-BBAE-61D6E5331D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1C10B6-8533-4849-9B9B-F98A10ED0A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61AC322-1158-4475-BAEE-B3F1FABC036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F5A5EEE-F328-420C-959F-65C93DFA9A3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4E31121-BC14-4C34-AF77-3853926EFD5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DF47538-613D-4AF4-BCE2-C45B9A3A58E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8B41E24-BB3D-4045-B9A3-3575D21DFCE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CE3FA31-77B5-4E7E-BA50-3FB22C5AAF3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95CBE1-0F51-4C37-BAA7-041CD1E3A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67E1569-0B01-4916-B81F-792882527D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0FD2D0B-6B38-4CF3-B4D1-8D143BEC3C7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1ECF8B5-0B01-4A2C-B3F5-686B1C763B8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E4960F-8AA4-47A2-8468-7107F3E8541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62D7C37-CF1C-4285-81F6-6F0DF3116CF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D31EB6-C880-4A6C-ADDD-AB54EB79E3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5BFAA4B-22A5-47B2-9366-2839539B419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8B90FD5-4425-4207-815A-31A12417746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CF3C6E4-25B7-46D2-BF21-EB1011D2AA7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5CEFA7D-CA72-49E4-B8A3-A710BE16D21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E7DB5-6E25-4B4C-85C0-CF7D91D49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FB91390-FCD5-46B8-A223-AE83FA5F0D1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D5CE514-D3E8-4C0F-B8F0-244CC1D1284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F5D5430-5BFD-41CA-9D4F-3E78EDECA99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572A84D-9DB1-4856-AF0A-A1B09D67D39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C1B7FF4-1FDF-41A4-A8EF-79333B84398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68EFE0-45FF-4B93-AC76-B28F4419060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D2690CD-B900-4FB7-9A68-6C52824C0CB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5375169-26F5-4073-99E7-5E2D06EC6E9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8172784-63C8-4C78-9EA5-F170D115AFC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6E5606D-B94A-48BC-9030-018AEEB3A0B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832939-5B26-4724-91BE-94467D23A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12DD52D-EC51-4063-8D8E-4F1419BE2DE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86F9F91-8E9E-4EFD-AB9E-2725E8FF83C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5CBD551-6006-4A4B-8A89-9A1B431B7FA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E844842-CC23-4C89-B2AD-BF0118F77EC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A55A128-66F7-44FF-966C-39365E65A06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2C5927F-C9AE-43A8-B48D-A03C2A4586A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61FFE2F-5C86-40A9-B381-C914CCA14C7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FDF2584-6F41-4558-BCDA-4F55B0E96BE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5397D9-2620-4F99-A25F-B40441E390E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5409D1D-EA61-4F3E-B047-5132D17DA08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F626C-5537-4444-9E8E-74D092762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7A23067-A9AD-4F82-A69E-125EA27094B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AD4A652-4DC1-4E56-B810-61B0D7F6DED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68CD1EF-7252-4E92-ABF2-B57AA6BB9DB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82A14E4-E266-45B8-B949-7FEB7D2DF3B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2B92ADB-C89A-4267-B88E-1359393B45C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F56B823-4772-43B6-B765-577D92C14D1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8CA1942-2C34-4516-B294-9B6638D1E71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58A4EC2-DC58-4C26-9633-80FAC9D05C8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59F949C-201E-489F-9E95-866709B03A6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DA9D8DB-7B39-46BC-9446-E08E605204A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45EB5-B0F3-44B0-B352-2EB03080D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26ED6-38EB-4163-BCF4-AED57132B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339E223-E532-4839-AAB5-C8CA6591D78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D485DFE-8D7D-4452-AC0B-0863A5309E7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C97AD60-6B9C-44CC-95B5-6BDA80B3305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2E21BE4-5EE7-45E8-B63F-402480F06FB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0CD8721-A648-441C-B95C-70AD725D2B1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80F96434-29E5-47A1-8A56-7B5D1E3F2814}"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1F8359EE-3365-4066-BBB6-C4CA2D0F562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A93B492-3F31-4F01-BF01-0813C916E7D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ACC4A64-D278-4FAF-A1DB-C72EA3E3D4A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BB81C6E-F1F9-4EEA-9268-4C34D2E7103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D57D5B-8FDD-424E-A5E5-A6856B741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FBB03CB-8BF6-4C72-80A9-C488AC27AD9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3A804A7-1B1C-4AA7-BB2D-118651F87E4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01A363F-7505-4C36-976B-27DC37F63E8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9B6DD85-8E7B-4573-B2DD-CEBDC7CB3BD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FD74F7B-0C1B-49D2-95D7-E9A28512498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E093D4C-C3AF-453A-8B8B-22CEC27526E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26774AA-3EE2-40B0-B932-1517E913864D}"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1E31DE0-F40C-45A4-8E53-B0836A61013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900DE44-735F-4AA9-8A06-B2C6505CC01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1BFBCE4-3555-40FF-B53A-5EEC42ED6B2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BE8693-A226-4043-893F-0892046C8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182A987-9CB5-4B96-B143-139E7289C91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1D457C8-D246-4B22-A0BD-B8F036AE5D0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A32D57A-1D99-4CB5-88F4-CC21E2E852E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6F31B90-9383-4675-B012-8B4832DC59B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E409B8A-4D67-43D3-B981-B725AD34893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D13B7D7-702D-46BE-909E-84D1D6F3861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950BEA6-3E6C-4C95-944E-3F02A6705D9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483827E-05BA-46EE-AC0A-3F764627DA9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921ADEB-2AB0-4617-A3CB-A965EB8D409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D5DF88D-C257-4FC7-AD08-B9FFD031A9C0}"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748E6-9D27-47B8-BC1C-C87FD6D66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774AFDC-2CCB-4BDF-8FB1-792EF2D5604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8650894-041C-496E-B89E-B4BF6AD0E9B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F66543C-01EA-488A-9F06-F7BC29007F5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BCC680B8-B1A3-443C-A713-06C52B30CBF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12CB89E9-7DC1-4903-9D51-8DA705886F86}"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CFC174F-1042-4859-B5D2-CD8A8E2C63A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ACCC7A1-7940-44AF-B4EE-BD67497D62E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9F15211-28B3-4C3A-8472-A196618D0DC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7B5D9FA-C2FA-4051-8DB3-75B8C18FD57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2197FA8-C521-4569-B21F-07B897FBAFB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E537F-D780-456B-AF03-6CB85DFCD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D5667F9-E169-42AD-9A17-AD4179BA924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80F748C4-64C6-4A7E-82E9-822069B62A3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69BC0A5-5029-4CE7-8596-71E545DEECE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F7B6E3E-629E-4546-AF10-D0D907C7CC2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BB9A534-AFD9-43FD-9263-957C2E93571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0A302E1-8AFF-4EB2-853C-177F61A67CD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EF0FEAA-DFC9-45C9-8141-31BEAF3E331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39C35CD-5FFB-4AED-9DDE-3522E8D0972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8372B992-CF86-43D1-99E8-F40A6171D3E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C79D464-197F-48AE-9D04-0C5E17C7ACEA}"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C01848-A82B-470C-A916-F60414C6C7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04AE7E1-BED3-473C-8CC5-E94152D1019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7665619-A0DD-4F59-BE7E-33755B5C6F8B}"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E9A05DDC-87A6-4038-82DD-E73B062B6B7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47E85328-0C97-4F04-B879-AAE2D4041D32}"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CDA30C5-3271-4D60-A84E-E79C4E469BC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B52CDC6-AA3B-49D3-80C3-21D2576CC62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7D4AFC3-FBEC-46A9-974B-9B3AF6D85D49}"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7F566A7-771E-4646-B340-42226EC6886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EB7A9F4-C094-455D-9A7B-1CD9A851639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D3A7046-BFEF-45A9-8795-3D984A2FA74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210B60-B28F-4064-8A3D-BC6F60F494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FBC59FF-A9E6-4F02-B92A-F9135B2F365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EC8B5D5-0822-43D4-9948-F9BD835439B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D160091-6A6E-4BDB-BA48-7B0272427A1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813C55A8-DA9F-4213-8CE3-F7F28B54DBD8}"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B0582D58-DF50-40BA-96DD-6FD635895139}"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8936605-1161-4711-9D22-E8FED583425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2BDB928-0AFC-4723-B953-8EE107D3D8B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C0DCBE2-E6E2-4B78-BEEC-D3A1F53C97C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EFDC2CC-3863-46CA-A62A-0E9DDC7E6F3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E620582-601F-46ED-9C7A-89BDA95D875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6A7E1B-2C58-46EC-95B1-63814DB426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7C9C162-E0E1-4324-B36F-A2C3A62C684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F89F3AB-068E-4633-915F-E86867309EE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0500806-FFEF-44C1-997F-4C9B46AE8B4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1E276C0-72CA-4011-AD35-F32BDE0C576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DDE566D-4685-4FEA-B9AD-825394C66F1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34A6C3D-79A7-474F-9DE5-C56F5EFCAA9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7C80FA92-5125-4668-9BFA-F741ACDA722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BC5946F-4792-4AA6-AC93-075F9E73481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031F52E-057E-411F-8044-C86EF7A893A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74D1FD15-336E-4BB2-BB1B-E758CFDE11B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0CA8D2-37EB-480F-BD23-B73A4FE580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2C09AB4-5371-4917-88F6-FB6F4F2EADE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6F91C81-F1A9-4708-9674-040064391A2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491E052-2000-48C2-BE93-2DB4B637495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0613FEE-A738-40D6-9F79-399DAA75538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D8124A10-19CF-4EAD-BE5D-44F7095FCC7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B4D18A3-839E-45CD-B261-6C068332D1F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8645EF7-8FCF-483D-B001-F87FF5FE76BF}"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D1BBF17-0CD8-407B-A118-E58DE5C0F4C3}"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90846EEA-D8BD-4BA8-9298-9BA0B5B51404}"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9BBC3F2-BEB1-4B22-B4AE-23EA55D4E01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A7F1A5-9512-4AD5-9970-F7B2AD6981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3FAFE86-9671-4C35-B9B4-16E42531112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A5B1C764-5F24-4820-BEF8-750A0E1392B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AE6011E-D631-42AC-BF85-D64D17181A9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DE79E1AA-7718-41EE-8D10-4BD46670F20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A40F128-C6C2-404A-8C62-BC9B059C5E9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1FD0652-D5F0-4F13-82F8-BF745F825CC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B16329F-FBA2-49B0-87D8-E4B13547809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BD7D3E0-B8E1-4078-8DA3-BD1B144EEA0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0FE2342-BA28-43C9-A67E-CEDC8756314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36C96F4-C0E8-4382-A580-83E27F3356C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FC328-CE0B-4CBD-97A7-E4627EA6C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3CA54C-16C1-4B8C-BD94-77ED9A0591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F0F7CF5F-A7FE-4503-B00E-4284E3BA86A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43032CD6-672D-464F-B150-F5C9844E4B18}"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C23A66B-F9CD-491D-9CE1-A08EA6F2DD4F}"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BFAFD7F-402A-425C-90E4-09B602A8C15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FFA8A19E-949B-428F-9B23-2EF814AE602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D3C4C39A-08BA-41E0-B38B-AB120DD32BB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DAA9757-69AD-4914-B1B5-E21E463D6E8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6AB9FE9-21A5-4A38-8701-7FF4CFBD738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A41FC19-5497-4535-B4D8-6184B63E77C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4A02372-D297-4959-AED2-2A85610462C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7218F6-4873-449F-8392-A3DD47A4B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507695B-1CB7-4870-BC04-D6AE575DFCD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070A8D26-ACA0-4A72-8061-98D76385562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0088AFE-2FA5-40A6-A7A5-EC6D9E00A18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D6C05F26-0DBC-415A-9C0E-7D0401154369}"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D17B4BCB-3322-4981-85EB-4A95CAE3E11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BDA6BDA-DB0B-41BD-A25E-95EFC72AE79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A8413E0-B9B2-4AAC-A02E-B158C9D5EE2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1FFB2D05-09EA-45F6-8061-CFE9D4AB2F57}"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61C4483-87A3-46B0-B452-8A7861D7605F}"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2AB31D53-E61A-4A39-97DF-A84B7F2FFA4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88695-79B9-4CE9-856B-23B2A7124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4DFB859C-F753-4D3B-90B8-16AA06F0C05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D2E0E43-D26D-47FF-A648-CF671944D53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0F33BC8-8C58-4FB8-8132-DAFA515B2D0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C06CE3D-C418-4525-BCAA-8DE38C470F0E}"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D76264E7-08C1-47E1-B88C-5A0EB533AC6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F02DDFEB-E77E-496A-A4DE-BA3D9EBE994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6D0CB72-EEF4-4375-9E38-64BE381709C5}"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E9DB4442-94E0-4B2D-B027-2EC12A72909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63CF68F-05D2-4873-8737-3969721DE3A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F844D65-FDD0-4B45-8CA6-5889D25FA006}"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BE2F6-EBC2-4961-85CE-78995ABB12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4A150D3B-0A29-4656-B7D6-04BE41810C33}"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E300FFB-50B4-47F2-A311-56A950C434CE}"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EBD580E-5296-47E3-8CBB-17B447C59A3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6BF02B8-8B10-4FA3-BAF9-F1B57CB482AF}"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8AFA9129-10BB-4735-A0F0-668AA44D036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3A57C4E-726C-4074-BE0E-29A1994314A2}"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D0C05F01-AE51-494D-BB29-08AA52CF9091}"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09F49550-F856-4CFA-9065-425FD54C84E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8FFC824-3E1D-4B61-A8D7-55360B22F09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FE64F57-C2D7-4404-8196-8544FAA0497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FEA27B-0286-40CB-A4B9-B760EC5743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B87C08D-C1EB-4659-A675-BE45FB1AE72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361B7407-1D8F-4B0B-BA5E-C85FCFE7BB5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8D99C4D-A1FB-479A-A940-F87A3A0D1492}"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2EFBBAA-69F6-4544-A886-7BF596F727C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18AE0824-71B4-41F0-AB01-7DC7FC2A85E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9953797-B849-48EB-A9E0-2A22D0CDB65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A7C89CD-3A99-4C50-92C9-CA0FEB3DCFC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460EEED5-C52C-469E-BB11-BC6867A6390C}"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6930244-C080-4775-BE3F-EB313A1FDA99}"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D6FB242-8DD9-4989-9B49-5E1E51CE3B92}"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094A31-3B45-4A55-A0A6-E124DF411A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C5677C2-617F-483A-8F28-660DE13372F0}"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0742CEAB-FA4A-4C8D-B57A-101F309B01D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37A613AE-BF1E-4CAB-8A93-3546663124A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8616D86-8B45-45B9-B434-44DE1010165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5099964F-2074-4E50-809E-D6F7290E760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B36C1B3-B3B9-49DD-92BA-81A90F55F1F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9FDEC2B-7E55-48B7-A2BE-BEF460CEB5B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A8F7AE6-A6F2-43F8-94FA-B2BD9159A3CE}"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A5B6FAF-8570-4C04-94EE-D50B4367B85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DC660F3-ACF7-4BB9-8B53-99ABF73C2DF3}"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6BB2D1-8345-46E8-9798-826E3C0A8C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D9F0283-63F7-438D-9730-9E037835D39F}"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3F38B1EA-F3BE-4529-8F0C-1A7EAD94816A}"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C18338D-1FD2-4BD5-99D7-F3FB86980304}"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4B9AE5B2-FA73-4BCB-AB57-80B986D13D3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D2FAB8B-6CFA-428D-B0F1-3FD06FCE7F2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BC5A660-AD6E-4C66-91A6-9D650AA8D60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3D35BAB-CB3D-42BF-A792-FD64EC14615D}"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C7516FC-6C15-4704-950C-98F99487495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381444D-9068-4DB6-AE2F-2C0CB8AF659E}"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9426F752-4398-45A6-8C5E-1BAB8CCC2D8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55926E-AB48-4304-995F-B9BAB93EB5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053D6DF1-83AD-4D67-A076-E66B3C9E2967}"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B1A90DA6-5047-40D7-9FFF-4DB2D42B57E4}"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82AF11D6-C52E-4431-8DB7-5A5EED375DEC}"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D4A6B334-DD5D-48BE-A620-BD3F9D1D0716}"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319865A9-41FD-42A9-92A9-FD15E1F72EB7}"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19514CA-796B-4CBF-AEBA-5BC1FE7BCEDF}"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DA41CFB7-D6CC-4307-B773-A3FC90DB8478}"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A995BB2-50FC-43C1-9A94-F32AC480115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0910D1C-02B3-40E1-8E28-FC8D79256623}"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9D208A89-D6AA-45E7-98A0-52CBA3F3416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4CC849-9AAD-44B1-9703-11BA9F30CA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2FE1E15-FA6E-4136-84D9-375186457AC6}"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3505FDF-5750-4831-BD09-818B3CC7038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248A38B2-09BA-474D-A3C8-8CCBF6A8D52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5E040E9A-455C-4161-A10F-D2E18A02801E}"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75F8CFE9-1312-456D-A118-0628806416C6}"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A1CCCB03-9256-4F43-A9BA-ED11531A2DC7}"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7372C2A0-9CD8-48F9-922C-968BFC8086B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2A1F5F99-6E49-4807-A160-006F8614F174}"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B80DA45B-CCFD-4160-9F0C-623475645CE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F2770CD-1A2A-40C2-B778-2F95C0DB36AB}"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513551-4ABC-4EA3-934C-CE9A8459C1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E7B54B39-2ED5-4920-AFB7-3B88310A8CA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490C1AE-3B74-4443-867E-A88196CA1AC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FDFAAEC6-6429-4262-8685-30F05295E2E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31CC1C7-F475-4C29-996E-2343F34E5BC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DADD2EA-AF1E-4866-AD15-36656E35FE6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642A3BE6-CF9D-4009-A118-2B0C5000F951}"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331D210A-336E-4E7F-B026-EA21C60672F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15FF3CBA-D499-49C0-8A27-68F429AA1A4A}"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689736A-5304-4EE1-A0A3-88F99D8FAC0A}"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6960ADE-FB44-4725-B4A3-D0E254A74B2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B764F-B219-4428-B1B3-898551EEB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BBC775-8F27-40C7-A094-73B360949E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600995A-57A6-435B-B2F3-F3F66C18638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5192AA2-33A7-4098-9403-7D1B0351264E}"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4F34924-5B5B-4E94-911E-0A291D0BBBE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D2C088E7-C518-42F5-8736-7950B0AE845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3277B46-B99D-4018-8C43-11D88B9A5BE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5217FF6-4DCB-43A2-85F9-A02DAC5A8CF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1C26626-4AFF-4802-9F45-1A0E8406E69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70CF821-DC8A-488A-AAAB-F5231497905D}"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E9CB221D-7982-4968-82DE-4826CEB4305A}"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2FE9993F-8FEE-4E27-8B5F-AFFFD7008838}"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E3142D-7A8E-437A-B947-8B4059D2A4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53E5889C-6811-48DC-8049-352AA25602D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56BDD82-DD20-4B78-9979-8B25429DDCB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4A62506-41AD-4576-8D31-FD1D7E61B49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915EE6A-BEE0-496C-A5E9-82F150CB7D1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A57C746-67E9-4C3F-836C-1EE5EEB953F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BA0092D8-ED5D-4EF4-94A8-E5569B248BF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5E0DB4A-EBE4-48B8-A336-E7B650344A6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0ABCAD1-8C45-4D61-A315-F9F4FEFD1B6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D48BED9-A735-4048-B665-933ED636361C}"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56AAFDA1-67B8-4709-8D87-8A44996318FF}"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7274DC-525F-4E2B-B4FD-019C6769BA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BF76FD68-68B1-4900-BD1A-52F1FA273FA7}"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20A7895C-FB9D-4309-9FC3-DEC86F65328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78F6464-A87D-497F-8D30-B0627524062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CB32DF25-0C8C-4133-8A38-A4B6777C597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7FCEB302-74F1-4047-B44A-52D1FCCB578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50DB2B0-927C-4FCF-9B49-E6776AF73EE1}"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5D89D03-6CF2-47E5-80C8-31962D63D93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5C5FDFD-03AD-43AA-9445-B01BB670632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30C1CEC4-98B8-4D44-A58B-D00B6A8E2F8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998860C-596D-4CC6-B64B-5554D40CA95B}"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D9FD47-2A14-4BC7-AAF7-3CD7FB0D74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9E82103-D382-4514-ABD9-E3EEBE19CE6D}"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F7E0D612-32B6-4915-9CED-21E3740F7F8A}"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74C73526-2BE0-4D46-8B02-5DA1DC9DD08A}"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1ED21B-3827-4B74-8EC5-14CF4AD43C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602639-65F3-4FB8-A5B5-EB9793BDE9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AAEAD1-6301-434B-AA37-06E933B0E1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4958A0-5A6F-4170-B946-63A85AD9A5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8DBBB3-215A-49CB-B13C-0225F3A044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A3CEAD-58D6-4B49-9E17-0EE2046578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1F56F-7204-4CA3-9CE8-77B74AAFB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2B458A-5CEA-4A03-8197-C7F2997434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FB9D6F-1340-4750-828A-DCD5AB2169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FC7903-9DEB-459C-94BA-AD2F795512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8DBE96-4B1A-43D9-8B62-968EF1BDB9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1B09CA-B015-48BC-AC3E-86B461BB5E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81687-F89B-498E-BF04-6514090290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13207-5BED-453F-9A8A-9515C16F3F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C1AC7E-5922-4407-B9F9-15563ECB64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92B064-8976-487D-952D-DC8760F569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56DFC5-8A3B-4B05-AADD-FF714D6145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28AB5-A9BB-4164-BD6F-A0B79D971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5813E4-C329-4CDD-B57C-6E190DDA55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DB5351-6FD7-45E7-859C-C82D7EEEB3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83F278-CBA1-42FF-A988-9B8CA8BB27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BF2039-58C4-44FA-BA0F-72BE626016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68257F-0BB3-4AC7-A50F-4427FCD8D1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6D5A9A-6DCA-4BFF-BBDA-FB2D246C2F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BBB5E2-3BE9-4B4E-95A9-729C4F010E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D37BD3-AA8B-462D-9A42-FA0EA10E39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412EE9-2FCE-49AB-AB92-6FB571FDBA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6A8405-1735-453D-B79F-014BA1BF32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0E1DE-12E1-4A2B-A257-CF61F1D4B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DA6D68C-D519-4F81-92D5-6B685B97B7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96B062-4C52-411C-9DC7-6D910A2170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4385F7-3378-44A7-8804-CE352D3412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03EADE-4BE3-447B-BD71-A1704E5F08B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1E8ABC0-4214-474D-94FC-08FC468B52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09858E-7A14-44C0-AA1B-4CFA04EA83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2EA45E-AD46-4011-A7F7-D7D2875075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756270-4167-4986-B037-EDEDF53F9C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BFD549-CDDD-43AC-95C1-1C877632DE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A70930-A3C0-42FC-849A-6DC52D0C8D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F6E0D4-DCDB-4A77-9193-2D49308A3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353860-EAF9-4CF2-ACEF-3959DD15BA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4E215A-39CE-41C8-B461-61F23AC9C1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737D9F-3FAD-4338-A229-720485017E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00BD75-0B31-4BB9-BCA3-514E46FF04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0D63A1-9254-46AF-92A3-8381AAB0E1E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9E2C3C-C45B-44F0-B71B-2F08534934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0C5A87-8707-46DB-84D3-741E25C85A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A8E095-7353-45AD-A21F-29CB4FA8D5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A27A74-3A0F-4DF6-BB9C-E905DCE5DC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052DD1-1D54-49AA-8CDB-1F52B391B3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C3F03-9762-4454-8017-7BC5FC676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BEEFD8-20DA-46B7-937C-EF77146FCD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5B264B-3CCE-45C3-8516-63ABDD652B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6A6289-9642-4AFE-BBF9-47F3CB574A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FC98A3-17D5-4005-9BD7-82F8D1C42A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F26572-7980-4BF3-A77C-7C33626A99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BC5936-88E9-40B3-9E20-A65CE1CA93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920862-2972-4932-81E3-77F585367F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DAE84E-36E7-4AF1-9605-B1D80DBC48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13A717-95D8-460E-ACB6-EB5EEB8DC8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23F4C1-2A39-46F0-B1C6-A8C5FFEAEE3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7949-C139-4766-B00D-BAE490991FC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4E3D-9C14-4464-B79D-58E03B3A7A5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D2DB1-254C-4221-84AD-BB14526DD65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0614B-ECC7-45AE-BA5C-60878D8C870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95" name="PlaceHolder 4"/>
          <p:cNvSpPr>
            <a:spLocks noGrp="1"/>
          </p:cNvSpPr>
          <p:nvPr>
            <p:ph type="ftr" idx="3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C3EA1-CF8D-4924-BB4B-0D5D7124FBF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36" name="PlaceHolder 4"/>
          <p:cNvSpPr>
            <a:spLocks noGrp="1"/>
          </p:cNvSpPr>
          <p:nvPr>
            <p:ph type="ftr" idx="4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A31DC-D23E-49C9-A73D-6820927C464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77" name="PlaceHolder 4"/>
          <p:cNvSpPr>
            <a:spLocks noGrp="1"/>
          </p:cNvSpPr>
          <p:nvPr>
            <p:ph type="ftr" idx="4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A2CE-495B-405B-88B5-23527EFFC2E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18" name="PlaceHolder 4"/>
          <p:cNvSpPr>
            <a:spLocks noGrp="1"/>
          </p:cNvSpPr>
          <p:nvPr>
            <p:ph type="ftr" idx="4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E161-1F6B-4B64-BBB7-B83EBE26864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59" name="PlaceHolder 4"/>
          <p:cNvSpPr>
            <a:spLocks noGrp="1"/>
          </p:cNvSpPr>
          <p:nvPr>
            <p:ph type="ftr" idx="5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4CE7-1E7F-41CF-94B5-E031E4589E7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00" name="PlaceHolder 4"/>
          <p:cNvSpPr>
            <a:spLocks noGrp="1"/>
          </p:cNvSpPr>
          <p:nvPr>
            <p:ph type="ftr" idx="5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C12D-DBBB-4359-8E70-71E50C3E133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41" name="PlaceHolder 4"/>
          <p:cNvSpPr>
            <a:spLocks noGrp="1"/>
          </p:cNvSpPr>
          <p:nvPr>
            <p:ph type="ftr" idx="5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9F8CA-AD9E-47A0-A15F-14A7DE6B3E9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5055C-1BAC-44F7-9654-58509EAA76B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82" name="PlaceHolder 4"/>
          <p:cNvSpPr>
            <a:spLocks noGrp="1"/>
          </p:cNvSpPr>
          <p:nvPr>
            <p:ph type="ftr" idx="5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1138-09B9-4B5C-8C92-6AE7072DF4B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23" name="PlaceHolder 4"/>
          <p:cNvSpPr>
            <a:spLocks noGrp="1"/>
          </p:cNvSpPr>
          <p:nvPr>
            <p:ph type="ftr" idx="6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C197-260E-450A-AE61-5E2C2A90E1E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4" name="PlaceHolder 4"/>
          <p:cNvSpPr>
            <a:spLocks noGrp="1"/>
          </p:cNvSpPr>
          <p:nvPr>
            <p:ph type="ftr" idx="6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137AA-B82A-426B-A295-8FDFEE810A4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05" name="PlaceHolder 4"/>
          <p:cNvSpPr>
            <a:spLocks noGrp="1"/>
          </p:cNvSpPr>
          <p:nvPr>
            <p:ph type="ftr" idx="6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D41F-030B-4B5D-8BE4-7761AF85973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46" name="PlaceHolder 4"/>
          <p:cNvSpPr>
            <a:spLocks noGrp="1"/>
          </p:cNvSpPr>
          <p:nvPr>
            <p:ph type="ftr" idx="7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075D0-BA56-4FF8-AB0F-C45A5C26F4B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87" name="PlaceHolder 4"/>
          <p:cNvSpPr>
            <a:spLocks noGrp="1"/>
          </p:cNvSpPr>
          <p:nvPr>
            <p:ph type="ftr" idx="7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DB6C-578D-4765-ABF3-A00F44B6422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28" name="PlaceHolder 4"/>
          <p:cNvSpPr>
            <a:spLocks noGrp="1"/>
          </p:cNvSpPr>
          <p:nvPr>
            <p:ph type="ftr" idx="7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5AFE2-0545-47E9-9826-C4073546041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69" name="PlaceHolder 4"/>
          <p:cNvSpPr>
            <a:spLocks noGrp="1"/>
          </p:cNvSpPr>
          <p:nvPr>
            <p:ph type="ftr" idx="8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D68D2-A0C0-4A0A-8DC8-BDB9A5448E4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0" name="PlaceHolder 4"/>
          <p:cNvSpPr>
            <a:spLocks noGrp="1"/>
          </p:cNvSpPr>
          <p:nvPr>
            <p:ph type="ftr" idx="8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810C7-C254-4968-B8F5-3ADA2BD0997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51" name="PlaceHolder 4"/>
          <p:cNvSpPr>
            <a:spLocks noGrp="1"/>
          </p:cNvSpPr>
          <p:nvPr>
            <p:ph type="ftr" idx="8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7C9A-7087-4D6C-99ED-C893C0F821D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C06F-38D1-4BD2-80C0-76CAB03FBA8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92" name="PlaceHolder 4"/>
          <p:cNvSpPr>
            <a:spLocks noGrp="1"/>
          </p:cNvSpPr>
          <p:nvPr>
            <p:ph type="ftr" idx="8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D7758-CA42-4508-A64C-88BAC5022DA3}"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33" name="PlaceHolder 4"/>
          <p:cNvSpPr>
            <a:spLocks noGrp="1"/>
          </p:cNvSpPr>
          <p:nvPr>
            <p:ph type="ftr" idx="9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FAB8D-9219-4299-BA8F-91FADDD92EC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74" name="PlaceHolder 4"/>
          <p:cNvSpPr>
            <a:spLocks noGrp="1"/>
          </p:cNvSpPr>
          <p:nvPr>
            <p:ph type="ftr" idx="9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F339E-22DC-4E24-A998-9DDCF87A9B2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15" name="PlaceHolder 4"/>
          <p:cNvSpPr>
            <a:spLocks noGrp="1"/>
          </p:cNvSpPr>
          <p:nvPr>
            <p:ph type="ftr" idx="9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E2FC-2C7B-433B-8505-32FF3BA8F0C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10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AB409-C1CA-4CBF-B3D5-674411B4672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97" name="PlaceHolder 4"/>
          <p:cNvSpPr>
            <a:spLocks noGrp="1"/>
          </p:cNvSpPr>
          <p:nvPr>
            <p:ph type="ftr" idx="10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C961-6512-4C6A-BD3A-F4E780CA3D4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438" name="PlaceHolder 4"/>
          <p:cNvSpPr>
            <a:spLocks noGrp="1"/>
          </p:cNvSpPr>
          <p:nvPr>
            <p:ph type="ftr" idx="10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3CE92-2662-4890-A738-DF9AC2A65DF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83FB4-6B4A-4B48-86AA-D2D87C07FDA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DF4C-F5FF-4440-86E4-6F6E512D378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D03EE-220E-43EE-B90F-213AB2569B6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D5065-9F80-439B-A569-C39BFBA7A2A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874D-EFE5-4914-9F2F-EECF12B0FF4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9FF0-6900-4288-AEC1-E660BC651F2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s://en.wikipedia.org/wiki/Ombudsman" TargetMode="External"/><Relationship Id="rId4" Type="http://schemas.openxmlformats.org/officeDocument/2006/relationships/slideLayout" Target="../slideLayouts/slideLayout3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395280" y="1184400"/>
            <a:ext cx="11366640" cy="37353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NHSGGC </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Complaints Handling Procedure</a:t>
            </a:r>
            <a:endParaRPr b="0" lang="en-US" sz="60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7" name="TextBox 1"/>
          <p:cNvSpPr/>
          <p:nvPr/>
        </p:nvSpPr>
        <p:spPr>
          <a:xfrm>
            <a:off x="2098800" y="620640"/>
            <a:ext cx="789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ing from Complaints</a:t>
            </a:r>
            <a:r>
              <a:rPr b="0" lang="en-GB" sz="2800" spc="-1" strike="noStrike">
                <a:solidFill>
                  <a:srgbClr val="ffffff"/>
                </a:solidFill>
                <a:latin typeface="Calibri"/>
              </a:rPr>
              <a:t> </a:t>
            </a:r>
            <a:endParaRPr b="0" lang="en-US" sz="2800" spc="-1" strike="noStrike">
              <a:solidFill>
                <a:srgbClr val="000000"/>
              </a:solidFill>
              <a:latin typeface="Calibri"/>
            </a:endParaRPr>
          </a:p>
        </p:txBody>
      </p:sp>
      <p:pic>
        <p:nvPicPr>
          <p:cNvPr id="1508" name="Picture 3" descr="A close up of a piece of paper&#10;&#10;Description automatically generated"/>
          <p:cNvPicPr/>
          <p:nvPr/>
        </p:nvPicPr>
        <p:blipFill>
          <a:blip r:embed="rId1"/>
          <a:srcRect l="0" t="0" r="-1157" b="-6968"/>
          <a:stretch/>
        </p:blipFill>
        <p:spPr>
          <a:xfrm>
            <a:off x="1549440" y="2179800"/>
            <a:ext cx="8740800" cy="44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4" name="Rectangle 1"/>
          <p:cNvSpPr/>
          <p:nvPr/>
        </p:nvSpPr>
        <p:spPr>
          <a:xfrm>
            <a:off x="644400" y="2092320"/>
            <a:ext cx="1088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5" name="TextBox 2"/>
          <p:cNvSpPr/>
          <p:nvPr/>
        </p:nvSpPr>
        <p:spPr>
          <a:xfrm>
            <a:off x="653040" y="4935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The Process</a:t>
            </a:r>
            <a:endParaRPr b="0" lang="en-US" sz="3600" spc="-1" strike="noStrike">
              <a:solidFill>
                <a:srgbClr val="000000"/>
              </a:solidFill>
              <a:latin typeface="Calibri"/>
            </a:endParaRPr>
          </a:p>
        </p:txBody>
      </p:sp>
      <p:pic>
        <p:nvPicPr>
          <p:cNvPr id="1486" name="Picture 1" descr=""/>
          <p:cNvPicPr/>
          <p:nvPr/>
        </p:nvPicPr>
        <p:blipFill>
          <a:blip r:embed="rId1"/>
          <a:stretch/>
        </p:blipFill>
        <p:spPr>
          <a:xfrm>
            <a:off x="1596960" y="1319040"/>
            <a:ext cx="8489880" cy="478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7" name="TextBox 3"/>
          <p:cNvSpPr/>
          <p:nvPr/>
        </p:nvSpPr>
        <p:spPr>
          <a:xfrm>
            <a:off x="334800" y="415800"/>
            <a:ext cx="10983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tage 1</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arly resolution complaints that require little to no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 Waiting Time Complaints, Smoking &amp; Car Parkin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can be shared via:</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rbally, direct to complainant, via service</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ail, direct to complainant, via Complaints Department</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Rectangle 1" descr=""/>
          <p:cNvPicPr/>
          <p:nvPr/>
        </p:nvPicPr>
        <p:blipFill>
          <a:blip r:embed="rId1"/>
          <a:stretch/>
        </p:blipFill>
        <p:spPr>
          <a:xfrm>
            <a:off x="414360" y="682560"/>
            <a:ext cx="11539440" cy="898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9" name="TextBox 2"/>
          <p:cNvSpPr/>
          <p:nvPr/>
        </p:nvSpPr>
        <p:spPr>
          <a:xfrm>
            <a:off x="369360" y="487440"/>
            <a:ext cx="11745000" cy="557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Stage 2</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ge 2 complaints are complex and require an in-depth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concerns about clinical care, disagreement with treatment pla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complaints that have been escalated from Stag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to Stage 2 complaints are via the service Directo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olution should be reached within 20 working day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195120" y="53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
        <p:nvSpPr>
          <p:cNvPr id="1491" name="AutoShape 2"/>
          <p:cNvSpPr/>
          <p:nvPr/>
        </p:nvSpPr>
        <p:spPr>
          <a:xfrm>
            <a:off x="15876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
          <p:cNvSpPr/>
          <p:nvPr/>
        </p:nvSpPr>
        <p:spPr>
          <a:xfrm>
            <a:off x="297000" y="1258920"/>
            <a:ext cx="6780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an imperfect response to the fact that we can never turn back the clock when things have gone wrong. We just have to deal with what is, and deal with it as well as we can.</a:t>
            </a:r>
            <a:endParaRPr b="0" lang="en-US" sz="2400" spc="-1" strike="noStrike">
              <a:solidFill>
                <a:srgbClr val="000000"/>
              </a:solidFill>
              <a:latin typeface="Calibri"/>
            </a:endParaRPr>
          </a:p>
        </p:txBody>
      </p:sp>
      <p:sp>
        <p:nvSpPr>
          <p:cNvPr id="1493" name="Rectangle 8"/>
          <p:cNvSpPr/>
          <p:nvPr/>
        </p:nvSpPr>
        <p:spPr>
          <a:xfrm>
            <a:off x="297000" y="3117960"/>
            <a:ext cx="692928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partly a statement of regret, and partly an acceptance of responsibility for things that have gone wrong. A </a:t>
            </a:r>
            <a:r>
              <a:rPr b="0" i="1" lang="en-GB" sz="2400" spc="-1" strike="noStrike">
                <a:solidFill>
                  <a:srgbClr val="ffffff"/>
                </a:solidFill>
                <a:latin typeface="Calibri"/>
              </a:rPr>
              <a:t>sincere</a:t>
            </a:r>
            <a:r>
              <a:rPr b="0" lang="en-GB" sz="2400" spc="-1" strike="noStrike">
                <a:solidFill>
                  <a:srgbClr val="ffffff"/>
                </a:solidFill>
                <a:latin typeface="Calibri"/>
              </a:rPr>
              <a:t> partial apology (“I’m truly sorry that this has happened”) is a statement of sorrow or regre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400" spc="-1" strike="noStrike">
                <a:solidFill>
                  <a:srgbClr val="ffffff"/>
                </a:solidFill>
                <a:latin typeface="Calibri"/>
              </a:rPr>
              <a:t>A </a:t>
            </a:r>
            <a:r>
              <a:rPr b="0" i="1" lang="en-GB" sz="2400" spc="-1" strike="noStrike">
                <a:solidFill>
                  <a:srgbClr val="ffffff"/>
                </a:solidFill>
                <a:latin typeface="Calibri"/>
              </a:rPr>
              <a:t>full</a:t>
            </a:r>
            <a:r>
              <a:rPr b="0" lang="en-GB" sz="2400" spc="-1" strike="noStrike">
                <a:solidFill>
                  <a:srgbClr val="ffffff"/>
                </a:solidFill>
                <a:latin typeface="Calibri"/>
              </a:rPr>
              <a:t> apology, by contrast, will include an explanation of what happened and acceptance of responsibility.</a:t>
            </a:r>
            <a:endParaRPr b="0" lang="en-US" sz="2400" spc="-1" strike="noStrike">
              <a:solidFill>
                <a:srgbClr val="000000"/>
              </a:solidFill>
              <a:latin typeface="Calibri"/>
            </a:endParaRPr>
          </a:p>
        </p:txBody>
      </p:sp>
      <p:pic>
        <p:nvPicPr>
          <p:cNvPr id="1494" name="Picture 1" descr=""/>
          <p:cNvPicPr/>
          <p:nvPr/>
        </p:nvPicPr>
        <p:blipFill>
          <a:blip r:embed="rId1"/>
          <a:stretch/>
        </p:blipFill>
        <p:spPr>
          <a:xfrm>
            <a:off x="7589880" y="1027080"/>
            <a:ext cx="424980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495" name="Picture 3" descr=""/>
          <p:cNvPicPr/>
          <p:nvPr/>
        </p:nvPicPr>
        <p:blipFill>
          <a:blip r:embed="rId1"/>
          <a:stretch/>
        </p:blipFill>
        <p:spPr>
          <a:xfrm>
            <a:off x="549360" y="1590840"/>
            <a:ext cx="4728960" cy="4255920"/>
          </a:xfrm>
          <a:prstGeom prst="rect">
            <a:avLst/>
          </a:prstGeom>
          <a:ln w="0">
            <a:noFill/>
          </a:ln>
        </p:spPr>
      </p:pic>
      <p:sp>
        <p:nvSpPr>
          <p:cNvPr id="1496" name="Rectangle 3"/>
          <p:cNvSpPr/>
          <p:nvPr/>
        </p:nvSpPr>
        <p:spPr>
          <a:xfrm>
            <a:off x="5514840" y="2089080"/>
            <a:ext cx="619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im your apology at what actually happened. An apology is for a specific wrong or injury. It will miss its mark if the apologiser and the apologisee disagree about what went wro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understanding what happened </a:t>
            </a:r>
            <a:r>
              <a:rPr b="0" i="1" lang="en-GB" sz="2400" spc="-1" strike="noStrike">
                <a:solidFill>
                  <a:srgbClr val="ffffff"/>
                </a:solidFill>
                <a:latin typeface="Calibri"/>
              </a:rPr>
              <a:t>from the point of view of the patient or their supporters</a:t>
            </a:r>
            <a:r>
              <a:rPr b="0" lang="en-GB" sz="2400" spc="-1" strike="noStrike">
                <a:solidFill>
                  <a:srgbClr val="ffffff"/>
                </a:solidFill>
                <a:latin typeface="Calibri"/>
              </a:rPr>
              <a:t>, as well as seeing events from your own point of view.</a:t>
            </a:r>
            <a:endParaRPr b="0" lang="en-US" sz="2400" spc="-1" strike="noStrike">
              <a:solidFill>
                <a:srgbClr val="000000"/>
              </a:solidFill>
              <a:latin typeface="Calibri"/>
            </a:endParaRPr>
          </a:p>
        </p:txBody>
      </p:sp>
      <p:sp>
        <p:nvSpPr>
          <p:cNvPr id="1497" name="Title 4"/>
          <p:cNvSpPr/>
          <p:nvPr/>
        </p:nvSpPr>
        <p:spPr>
          <a:xfrm>
            <a:off x="4726080" y="237960"/>
            <a:ext cx="4976640" cy="11430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mpact of Complaints</a:t>
            </a:r>
            <a:endParaRPr b="0" lang="en-US" sz="4400" spc="-1" strike="noStrike">
              <a:solidFill>
                <a:srgbClr val="000000"/>
              </a:solidFill>
              <a:latin typeface="Calibri"/>
            </a:endParaRPr>
          </a:p>
        </p:txBody>
      </p:sp>
      <p:sp>
        <p:nvSpPr>
          <p:cNvPr id="1499" name=""/>
          <p:cNvSpPr txBox="1"/>
          <p:nvPr/>
        </p:nvSpPr>
        <p:spPr>
          <a:xfrm>
            <a:off x="609480" y="1600200"/>
            <a:ext cx="10972800" cy="47037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t is recognised that there is a negative stigma attached to complaints, and being complained about can impact negatively on individual staff members wellbe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eing complained about can be scary and upsetting; we encourage line managers to take extra time with staff who have been named in a complaint to offer support, guidance and assistance in statement writing, if requir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Open, timeous and honest communication is key; if a complaint has been completed the formal response should be shared with the members of staff nam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earning from a complaint should be shared across the appropriate service, as well as with an individua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Complaints Department are available to discuss the process in more detail with any member of staff that would find this helpfu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Box 1"/>
          <p:cNvSpPr/>
          <p:nvPr/>
        </p:nvSpPr>
        <p:spPr>
          <a:xfrm>
            <a:off x="4008600" y="907920"/>
            <a:ext cx="352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SPSO</a:t>
            </a:r>
            <a:endParaRPr b="0" lang="en-US" sz="2800" spc="-1" strike="noStrike">
              <a:solidFill>
                <a:srgbClr val="000000"/>
              </a:solidFill>
              <a:latin typeface="Calibri"/>
            </a:endParaRPr>
          </a:p>
        </p:txBody>
      </p:sp>
      <p:sp>
        <p:nvSpPr>
          <p:cNvPr id="1501" name="Rectangle 2"/>
          <p:cNvSpPr/>
          <p:nvPr/>
        </p:nvSpPr>
        <p:spPr>
          <a:xfrm>
            <a:off x="3821400" y="143208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cottish Public Services Ombudsman</a:t>
            </a:r>
            <a:endParaRPr b="0" lang="en-US" sz="2400" spc="-1" strike="noStrike">
              <a:solidFill>
                <a:srgbClr val="000000"/>
              </a:solidFill>
              <a:latin typeface="Calibri"/>
            </a:endParaRPr>
          </a:p>
        </p:txBody>
      </p:sp>
      <p:pic>
        <p:nvPicPr>
          <p:cNvPr id="1502" name="Picture 2" descr=""/>
          <p:cNvPicPr/>
          <p:nvPr/>
        </p:nvPicPr>
        <p:blipFill>
          <a:blip r:embed="rId1"/>
          <a:stretch/>
        </p:blipFill>
        <p:spPr>
          <a:xfrm>
            <a:off x="1774800" y="212760"/>
            <a:ext cx="2381400" cy="1219320"/>
          </a:xfrm>
          <a:prstGeom prst="rect">
            <a:avLst/>
          </a:prstGeom>
          <a:ln w="0">
            <a:noFill/>
          </a:ln>
        </p:spPr>
      </p:pic>
      <p:pic>
        <p:nvPicPr>
          <p:cNvPr id="1503" name="Picture 5" descr="A person smiling for the camera&#10;&#10;Description automatically generated"/>
          <p:cNvPicPr/>
          <p:nvPr/>
        </p:nvPicPr>
        <p:blipFill>
          <a:blip r:embed="rId2"/>
          <a:srcRect l="0" t="0" r="-29453" b="-23812"/>
          <a:stretch/>
        </p:blipFill>
        <p:spPr>
          <a:xfrm>
            <a:off x="1887480" y="1955880"/>
            <a:ext cx="3809880" cy="3809880"/>
          </a:xfrm>
          <a:prstGeom prst="rect">
            <a:avLst/>
          </a:prstGeom>
          <a:ln w="0">
            <a:noFill/>
          </a:ln>
        </p:spPr>
      </p:pic>
      <p:sp>
        <p:nvSpPr>
          <p:cNvPr id="1504" name="Rectangle 6"/>
          <p:cNvSpPr/>
          <p:nvPr/>
        </p:nvSpPr>
        <p:spPr>
          <a:xfrm>
            <a:off x="5527800" y="4718160"/>
            <a:ext cx="26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d21"/>
                </a:solidFill>
                <a:latin typeface="Arial"/>
              </a:rPr>
              <a:t>https://www.</a:t>
            </a:r>
            <a:r>
              <a:rPr b="1" lang="en-GB" sz="1800" spc="-1" strike="noStrike">
                <a:solidFill>
                  <a:srgbClr val="006d21"/>
                </a:solidFill>
                <a:latin typeface="Arial"/>
              </a:rPr>
              <a:t>spso</a:t>
            </a:r>
            <a:r>
              <a:rPr b="0" lang="en-GB" sz="1800" spc="-1" strike="noStrike">
                <a:solidFill>
                  <a:srgbClr val="006d21"/>
                </a:solidFill>
                <a:latin typeface="Arial"/>
              </a:rPr>
              <a:t>.org.uk</a:t>
            </a:r>
            <a:endParaRPr b="0" lang="en-US" sz="1800" spc="-1" strike="noStrike">
              <a:solidFill>
                <a:srgbClr val="000000"/>
              </a:solidFill>
              <a:latin typeface="Calibri"/>
            </a:endParaRPr>
          </a:p>
        </p:txBody>
      </p:sp>
      <p:sp>
        <p:nvSpPr>
          <p:cNvPr id="1505" name="Rectangle 7"/>
          <p:cNvSpPr/>
          <p:nvPr/>
        </p:nvSpPr>
        <p:spPr>
          <a:xfrm>
            <a:off x="5249880" y="25509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ttish Public Services Ombudsman</a:t>
            </a:r>
            <a:r>
              <a:rPr b="0" lang="en-US" sz="1800" spc="-1" strike="noStrike">
                <a:solidFill>
                  <a:srgbClr val="ffffff"/>
                </a:solidFill>
                <a:latin typeface="Arial"/>
              </a:rPr>
              <a:t> (</a:t>
            </a:r>
            <a:r>
              <a:rPr b="1" lang="en-US" sz="1800" spc="-1" strike="noStrike">
                <a:solidFill>
                  <a:srgbClr val="ffffff"/>
                </a:solidFill>
                <a:latin typeface="Arial"/>
              </a:rPr>
              <a:t>SPSO</a:t>
            </a:r>
            <a:r>
              <a:rPr b="0" lang="en-US" sz="1800" spc="-1" strike="noStrike">
                <a:solidFill>
                  <a:srgbClr val="ffffff"/>
                </a:solidFill>
                <a:latin typeface="Arial"/>
              </a:rPr>
              <a:t>) is the organisation that handles complaints about public services in Scotland. The </a:t>
            </a:r>
            <a:r>
              <a:rPr b="0" lang="en-US" sz="1800" spc="-1" strike="noStrike" u="sng">
                <a:solidFill>
                  <a:srgbClr val="0000ff"/>
                </a:solidFill>
                <a:uFillTx/>
                <a:latin typeface="Arial"/>
                <a:hlinkClick r:id="rId3"/>
              </a:rPr>
              <a:t>Ombudsman</a:t>
            </a:r>
            <a:r>
              <a:rPr b="0" lang="en-US" sz="1800" spc="-1" strike="noStrike">
                <a:solidFill>
                  <a:srgbClr val="ffffff"/>
                </a:solidFill>
                <a:latin typeface="Arial"/>
              </a:rPr>
              <a:t> service is independent of government and with a duty to act impartially. </a:t>
            </a:r>
            <a:endParaRPr b="0" lang="en-US" sz="1800" spc="-1" strike="noStrike">
              <a:solidFill>
                <a:srgbClr val="000000"/>
              </a:solidFill>
              <a:latin typeface="Calibri"/>
            </a:endParaRPr>
          </a:p>
        </p:txBody>
      </p:sp>
      <p:sp>
        <p:nvSpPr>
          <p:cNvPr id="1506" name="Rectangle 8"/>
          <p:cNvSpPr/>
          <p:nvPr/>
        </p:nvSpPr>
        <p:spPr>
          <a:xfrm>
            <a:off x="2398320" y="505944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rPr>
              <a:t>Rosemary Agn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9T11:39:36Z</dcterms:created>
  <dc:creator>Davidson, Vivienne</dc:creator>
  <dc:description/>
  <dc:language>en-US</dc:language>
  <cp:lastModifiedBy>Murray, Janet</cp:lastModifiedBy>
  <dcterms:modified xsi:type="dcterms:W3CDTF">2022-02-15T10:10:29Z</dcterms:modified>
  <cp:revision>52</cp:revision>
  <dc:subject/>
  <dc:title>PowerPoint Presentation</dc:title>
</cp:coreProperties>
</file>