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4.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4.xml" ContentType="application/vnd.openxmlformats-officedocument.presentationml.slideLayout+xml"/>
  <Override PartName="/ppt/slideLayouts/slideLayout410.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41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401.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00.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92.xml.rels" ContentType="application/vnd.openxmlformats-package.relationships+xml"/>
  <Override PartName="/ppt/slideLayouts/_rels/slideLayout109.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00.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80.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10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42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290.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Lst>
  <p:notesMasterIdLst>
    <p:notesMasterId r:id="rId38"/>
  </p:notesMasterIdLst>
  <p:sldIdLst>
    <p:sldId id="256" r:id="rId39"/>
    <p:sldId id="257" r:id="rId40"/>
    <p:sldId id="258" r:id="rId41"/>
    <p:sldId id="259" r:id="rId42"/>
    <p:sldId id="260" r:id="rId43"/>
    <p:sldId id="261" r:id="rId44"/>
    <p:sldId id="262" r:id="rId45"/>
    <p:sldId id="263" r:id="rId46"/>
    <p:sldId id="264" r:id="rId47"/>
    <p:sldId id="265" r:id="rId4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notesMaster" Target="notesMasters/notesMaster1.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4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78" name="PlaceHolder 2"/>
          <p:cNvSpPr>
            <a:spLocks noGrp="1"/>
          </p:cNvSpPr>
          <p:nvPr>
            <p:ph type="dt" idx="10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1" name="PlaceHolder 5"/>
          <p:cNvSpPr>
            <a:spLocks noGrp="1"/>
          </p:cNvSpPr>
          <p:nvPr>
            <p:ph type="ftr" idx="1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2" name="PlaceHolder 6"/>
          <p:cNvSpPr>
            <a:spLocks noGrp="1"/>
          </p:cNvSpPr>
          <p:nvPr>
            <p:ph type="sldNum" idx="1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51C2-78C9-4ACC-ABED-668A27FA1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685800" y="1143000"/>
            <a:ext cx="5486400" cy="3086280"/>
          </a:xfrm>
          <a:prstGeom prst="rect">
            <a:avLst/>
          </a:prstGeom>
          <a:ln w="0">
            <a:noFill/>
          </a:ln>
        </p:spPr>
      </p:sp>
      <p:sp>
        <p:nvSpPr>
          <p:cNvPr id="1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D6155-BB48-4A21-A488-027A0ECB1BF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sldImg"/>
          </p:nvPr>
        </p:nvSpPr>
        <p:spPr>
          <a:xfrm>
            <a:off x="685800" y="1143000"/>
            <a:ext cx="5486400" cy="3086280"/>
          </a:xfrm>
          <a:prstGeom prst="rect">
            <a:avLst/>
          </a:prstGeom>
          <a:ln w="0">
            <a:noFill/>
          </a:ln>
        </p:spPr>
      </p:sp>
      <p:sp>
        <p:nvSpPr>
          <p:cNvPr id="1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0CB27-4DEE-40F3-8628-5862B80A38A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PlaceHolder 1"/>
          <p:cNvSpPr>
            <a:spLocks noGrp="1"/>
          </p:cNvSpPr>
          <p:nvPr>
            <p:ph type="sldImg"/>
          </p:nvPr>
        </p:nvSpPr>
        <p:spPr>
          <a:xfrm>
            <a:off x="685800" y="1143000"/>
            <a:ext cx="5486400" cy="3086280"/>
          </a:xfrm>
          <a:prstGeom prst="rect">
            <a:avLst/>
          </a:prstGeom>
          <a:ln w="0">
            <a:noFill/>
          </a:ln>
        </p:spPr>
      </p:sp>
      <p:sp>
        <p:nvSpPr>
          <p:cNvPr id="1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A252-4382-4409-BDAE-BC466348421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sldImg"/>
          </p:nvPr>
        </p:nvSpPr>
        <p:spPr>
          <a:xfrm>
            <a:off x="685800" y="1143000"/>
            <a:ext cx="5486400" cy="3086280"/>
          </a:xfrm>
          <a:prstGeom prst="rect">
            <a:avLst/>
          </a:prstGeom>
          <a:ln w="0">
            <a:noFill/>
          </a:ln>
        </p:spPr>
      </p:sp>
      <p:sp>
        <p:nvSpPr>
          <p:cNvPr id="1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D2923-4E8A-42EC-9824-6B7A3F323BF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685800" y="1143000"/>
            <a:ext cx="5486400" cy="3086280"/>
          </a:xfrm>
          <a:prstGeom prst="rect">
            <a:avLst/>
          </a:prstGeom>
          <a:ln w="0">
            <a:noFill/>
          </a:ln>
        </p:spPr>
      </p:sp>
      <p:sp>
        <p:nvSpPr>
          <p:cNvPr id="1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3000-E30D-4275-8D9C-88506D350E8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sldImg"/>
          </p:nvPr>
        </p:nvSpPr>
        <p:spPr>
          <a:xfrm>
            <a:off x="685800" y="1143000"/>
            <a:ext cx="5486400" cy="3086280"/>
          </a:xfrm>
          <a:prstGeom prst="rect">
            <a:avLst/>
          </a:prstGeom>
          <a:ln w="0">
            <a:noFill/>
          </a:ln>
        </p:spPr>
      </p:sp>
      <p:sp>
        <p:nvSpPr>
          <p:cNvPr id="1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43E9B-8DDA-4596-88F2-28849918540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54D45-6775-4FF2-A404-2A75590EB3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EB32B-D677-44F5-ADD1-F652807AF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006536-3F57-4EE0-BD5E-FAF2A305CD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ED8830B-5C5E-4EB8-A5DA-C20B0CFC9E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ADDE56-BFC1-4C47-BAE0-E2830995FD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E7277-F806-4B4E-8A36-B5AABDE65CC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937C5-3437-4EFD-B2DB-CAAAB40CF2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ADC6B8-C364-4665-9E05-42EDD076A8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C81516-5BD4-44E6-9605-A72E6FD5A2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1EA0E6-352B-416E-9E92-B1F75E3706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041322-827E-4792-97FB-16AAB302B7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9DE799-6CAA-4321-BCB6-34EE5FA0AD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09F589-2B9F-426F-B146-50C003D08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F52137-AC97-4692-B3BB-7B0F9B990AF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C38261-A035-4ED6-ACAF-A502858C9C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9598FE-4262-45BD-AC39-2563F08E6E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7B29F6-FA06-4DD1-B098-738F5940E8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937D9A-F0D0-4FEB-85CA-9B8724AFB1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EF7778-7444-4F35-98D1-A0305D6222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2B05DE-0C16-4B3E-A6AE-3CF742F6DAA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7AE65F-2B4C-401B-A8C1-0E6795F1080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270679-8B7F-4832-8D0F-77099D9200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E75BB6-7FD8-4E8E-9F9E-990E52DFF5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BF95E-BAC4-4D50-84F9-3AC905FAE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922C50-49EB-4297-B34D-FB0B726863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CCEC022-0FDA-4F8E-9EEF-9CB60413B8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06640D-FFD7-476E-BE84-F197E5D91E3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7460FD-530F-4AE9-A86D-67FD2FC18E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515C63-07FF-430D-B4DC-4723B38FEA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A4A676-120A-4161-8E04-215C4D974A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390949F-B983-4CD7-A7E0-5ECCEBC01A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C646DA-DAEF-40E3-98D0-7E95E010E4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8BA46B4-8953-4CE2-905C-E18F8DDE0B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7EB162-4811-4A21-8FFD-FBFFD8E01A4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A90CE-D183-473E-B2D1-074A7230D0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1656B0-B3B8-4C3B-B988-B5603948D1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83DA7D-0121-4B51-8709-F4B7CE6992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8ABE68-3276-4222-A8F5-50C50489DD2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E8C34C-E4CC-4E8C-A764-CE4BBC3FD68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B8C43F4-FA00-42CF-9092-7435C3D881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86739B-8E43-44EB-BBB2-D70361096F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AD2BC6-D281-4941-9C34-27980149030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3EA4186-57D3-46E2-89F1-F8B3039FCF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C8CB2E-342C-4B27-B826-36B41A7040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39D6F2-FE9D-4164-A9CC-4214B17FA7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CB84C-66B6-4327-8F37-336D59165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529384-CF20-4DE3-BF01-4766F19F8B8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96525D-58FA-4DC6-80C0-36FEB9D0902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F0519CA-E1DD-4D3F-93C1-A4F4F92EBC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B2FD147-3172-4ED2-BDAB-CC8916B2B4D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E61B7EC-0391-4414-8285-6B8C455139F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A31D19-6005-4DBF-AB11-1DF04DCA98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15AF3B-7E16-4867-8AF4-4D7136153A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3F3D7A-7195-45AB-BA85-99617AC5620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265167-5E45-462A-A6FA-8375E8F5E24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C9A1DA-BF15-406E-B2C3-1572CEB970A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EF177-CA0C-4453-9584-ABA61F11F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D4C5C1-8D82-4979-BFFC-6C30ABCC5DE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0BFE20-16ED-40C6-BA8E-25043F703B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E9327A3-474C-4B22-99D8-5DC350A982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014E1A-4513-4701-B162-047789B8A0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9FD41AE-74DD-462D-B481-8278614393F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D8E7E1-6016-4E28-849B-2C7B2E21DAD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A4C68A1-E973-49B5-9806-C981C9EAC5F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FFD6DF4-C20B-4144-AF11-993B0440CA3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ED9B362-8395-49BC-BB33-A0812F7DD6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7D798A-BDFA-4CA6-84A7-75133D0B568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52277-D35E-4116-A63B-8210D646E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B7BEA00-D4EA-4807-B740-57E755B065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E3986A-95AA-4E76-BDD5-AB0B6FFC3C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23B0440-14B7-4DA2-9999-DD197430D3B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472A97-3BBF-4C5F-BB2E-34008E15206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6CC2365-1C34-482A-8869-F480FB05F53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AE2D73-E601-421B-B0B9-3C07023613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FED03AA-9890-498C-9D02-DC290DBB5F9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6C05385-6206-469F-8411-FCECB45E950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6F2FF3A-6C22-4DD2-B123-52E5ED3A475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F339DA7-315B-4427-AC1D-4F9CFAF0260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EB94F9-3566-4E32-AAC3-477555569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0239AF-4BA2-41E8-A53A-3AEA4F898C0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9D7E16-2FC3-4CA2-A7CD-968FFFBE7BD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7852CE-1C2B-485E-ADB9-DE299F5D24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D0290FE-FE03-465A-82A7-7A6B4E06DDD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C071C8B-D9B9-40EE-AF13-5706BD4FB2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CF1D93D-39E3-4D8A-866B-53FCA39B1CA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6766C0E-7B2F-41E8-B269-B0B66D2DF8B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A0FF38-D000-42C2-9695-9E831C8C2F9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50251F0-79C9-40BE-8D50-FE93026A132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1EF2FD9-819F-4B10-A478-1FCD2B2F6E0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EEF26-9F11-47A8-922B-9AB755090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B7ADB4D-D586-45B8-A536-02ED78FDC3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B925161-4B98-40E7-BF80-4F020EDD95B9}"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B1DCCD-5CCF-4241-AE7F-836546D4205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8061C0-C596-45FD-B42A-3F3944F8A69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BCD65AE-65CD-4CD2-8D72-B6D53E45E53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6F30F73-0A7B-4A14-9A0D-8BA203404F0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F8FC315-E2A9-4E82-9359-50C03BB619D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4E3D6F8-3FC8-4A34-883D-32D5A5BC51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CF629E4-E6BF-4D1A-AD0F-66744CEADBB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2506B0C-CFCE-48ED-82EB-149F66026B9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B4E79-F894-4DF3-B745-393873532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58C96BB-00B4-48B4-ACB9-C32CF1B469F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F938512-7880-49AC-8B61-D5B3944FC34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CD8AA61B-AC74-4EA2-9BD9-EB04A363E2C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FE3673E-B152-4F67-B6B6-CD360301AB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D3BC011-DF8C-4BF9-A706-A28CBB0A721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1E7DB4C-691D-4132-A9B2-01CA21A01EF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70C2CAF-0F1C-4E67-A3E8-11DD8BADEC8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1522E54-A59F-4C77-A164-C6BE52FF574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DC177D-D638-43D4-9064-EA8FB04EAAC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4BF1196-E945-495C-A67E-10FF161C0E7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4CB13-8DD5-4EDA-B0D7-DBA062F3C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6BFD7-DD4E-46CE-A788-999E30E97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B81B1F-45F2-43D6-AEF5-0150D2166F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694D57-B09E-4571-BBEE-339C60A0E6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441DB74-5A2B-4496-B47A-125D2C40B8A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57B05A2-7B41-4B41-B134-6836892B315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5C10C35-B88B-408F-8870-D9749F1954D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66C91CF-6617-438A-80ED-CCED87ACE87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E901F9-4E92-44B7-8EBB-D1A9248D56A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E976EEA-FE48-4B9A-945F-EC13E518399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CD5BFB8-63F8-4594-AEED-07569D29FDF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F990CDD-0395-4F08-9494-0E4CCF55631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BDF68-28E8-4F4B-B960-071BFD0F8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9ADBE2C-61DC-484E-949D-48DD78D4BAB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1ED6F72-34DB-44E3-B9DA-DE2C0CCE064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24BB34A-B246-474B-81E0-87F9DEFE904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371D2CA6-10F8-49BA-AFEA-301C80E99CD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BC73591-CEEB-415F-AA5C-7415C335D2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330322E2-783D-4306-A895-B01339AEF8D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391313EA-F846-40FF-9A92-CE6D31F1ECD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82AD655B-519C-4BA5-AC13-E4135C4072B4}"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4F28873-E507-4CF1-85F7-5C6E55FA958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D4F723-5FCB-4BC9-A84F-4DFE34847CC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CD64E-C3CF-4F6A-8F88-DA3967AE0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936718E-1802-45EF-952A-D8797CE9E5E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2686EF1D-72C9-4D1C-AEC1-FDE9311120A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6A27808-0450-4F1A-A894-293DDBC0DFA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09E4EFB-89BB-43B2-AEDC-EE6D97C8790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B70CCB5-0CA7-40FF-B08C-1728C5A9882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CD81146-629A-4FEC-A289-91242AA953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F2F2664-6830-4A6E-9D04-1D50DFF979F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E9C9FA7E-897F-47EC-B9F6-C8763F1F0170}"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58DE86F-4759-4751-B95E-9D01EEEE82F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A41643F-0B98-4323-B4F5-95A4933A0739}"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218B2-3641-45CC-83BB-DE7B64A7F8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1D75CA2-BA0F-4511-9447-9DC9CE1A5D8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C3D1F16-0770-4A47-B2B9-89342573D2B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7E98AF8-7873-405D-AA3B-5D71FA890D1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ABC9460-62B7-4D22-B415-614DA55BDCD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1AAAB13-EEEA-4717-8C42-F74B80956E1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32E6AEC-BB66-4D19-AB04-AC44BBB96F7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9704E61-E438-4EC0-AC8B-30B77033E20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1FD939-3380-42BF-88FC-0240548FA8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7249454-225F-4EFE-ACE3-3B2C74B964A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B42F7E9-7ECB-4297-8829-3A5617D1B81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BC876-A3CC-4483-BDEE-7D91D09407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F96E3870-FCCB-47E2-A275-2CBC4E2A48E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29E4ACC0-CBDB-4D86-9CA1-57F6C4796C5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20B3B0A-9107-4D7A-8058-40ED6B31499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820644D4-9179-463D-BA5F-00BB640FA9B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1095FB9-55D1-4503-ACE1-38060225361D}"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C7636C-A860-42F6-B843-63947BD86A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98088C7-F988-475B-ADD1-305D87EEA09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F84D319-5009-47E5-B4F7-3DFF078D41D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7ADCF98-D5E7-4288-B9FD-07D6E4CABA2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BD2D3F6-656E-4951-BE6E-137ACCC37FD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3A749D-05F4-494C-8640-0B001E6D9A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E77C707-89D5-40ED-BA94-772C34CA6C4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80CEEBE-9CF4-419D-964B-B2600D94811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761D767-066C-45DC-B9B6-DE825F48356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91FEF8B-D4FF-4C66-9ABB-EDBFABB4727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A57B4ACC-706F-456C-9C3C-5E5F8B01AB5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4A296DEF-D5CC-41C2-8AF7-8EBB98B93DA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1B8AF24-0F0E-47EF-AAAB-CBD7EF9CAC6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6ADB0B8-DBB8-40AC-80E9-65F6DFB2B3E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C82A8B5-5ABA-4201-99B4-4FCF253AEC1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B69AA19-0F11-44A7-8526-8B627C0AA714}"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7B88C-8FBD-401B-B296-040AD7BC1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532E1F9-9328-4B82-B0FF-7ECD59C7C40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656A969-40F1-49AB-B8B1-78BAC34A6F7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E4F16B7-2A91-4D7B-9726-DC48B4A03FC7}"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ABC65AA-17FE-4D8A-BF62-D95F57FDAEF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A121E20-B043-4DAA-9F34-9E5EC2703C3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A68EB172-C5CB-499A-B5DC-D3BC79040485}"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3BB0E45-C66E-47FC-8370-43F3F4BF22F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41C1638-8008-415B-B6C5-EDCADA6C99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3DA9348-5B1E-4B7B-BFED-50EF9026E85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1B7446D-D02D-434D-B011-6C08B574CA04}"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596D8-2F41-44D1-BB67-04D9E2D90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11FD7F9D-E298-4648-9D04-73659CC4195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192C04-8CA0-443A-8217-3B2E9C58FC4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C7F1906-0221-4125-B663-710261BFA21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57EF3C0-D368-4EC8-80F7-C24F5EF3EF4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75B197F2-58E2-4FC8-B453-65D43438862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B573A07-EC56-47A9-BFFF-3785D0F414C0}"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ED941123-9AD7-419D-AD08-44C173448A5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B69DF81-B499-4626-9341-5FCF67548CE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68DA827-417B-4149-A335-5F01A781A89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08F417A-1CE1-4885-9918-F6D93BC68BD4}"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B1BB31-8190-41AF-BDF2-79F2D234D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16D977E-BF6C-4A81-81CF-788610DAC91B}"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48F6113-CCC7-494F-A696-4B789824D51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5E945F2-D6C2-4E1E-AF7C-26ACA31D2F07}"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B9A6B18-A183-42BD-8FA3-34E1C535266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AD08D47-BFC3-4184-B9EB-4044A3ABE64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3C93CA4-10A0-4DF5-9F72-212A6123779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6D50626-6FEB-42FD-8BD8-9C3FDCFE55B2}"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7C9A087-0391-4278-9519-2FAE4BFA2F1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CF5616C-A10A-46AA-B6DE-5BF5F769FAE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CF5A4B6-E997-45E4-9A28-A95AA1971AE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E8575F-C6C0-486F-A357-0285853BC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11B9902-83FF-4468-AB8F-71F81A62FE6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DACEF53-99CC-4E1C-A8F5-125944405EE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E88D46C2-3E3A-4029-A633-2569D438549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6178AAC-79CC-48F3-B115-A608933A36A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E2D31C54-9DEB-4713-87F4-0574EB156E5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F678702-D308-4B23-A7AA-845F178451D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E042D1D-6965-42E3-8EE9-68C9762C52C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C73DD71-036B-4CF7-8C76-1316CFB3EA9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CB983C5-C6FE-4B3E-B407-555A9381A44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8FC103E-935F-44D9-A8DD-0AEE2D970E2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BAD17-B5A1-458B-981D-AF589AC51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9AA847-AEC8-4226-920A-646BBAE676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853DB93-2480-4A11-BE66-A0E7106F8B90}"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56F11A5F-30F9-4C2C-970B-731359F1583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52BC424-8EF9-4D70-99AC-5BA9B487C8E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8D6FC7BA-60A2-4BE3-B88C-F5AAEE439C2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A59021F-9C60-4143-8F5D-2337564EDF4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A5C6E535-AC4F-4627-8D40-9CC3C4ACF81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AA3C4B8-1F8F-4C00-91F2-049336E6FF58}"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279ECD3-A0ED-4FD3-83D4-11ECCA83C7A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A031E5A-8C24-4240-B09B-EF6B7AAE1FD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F541DB8-24B4-4128-81B8-FB8E41B4B93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4FC35B-1C11-47E3-A40C-11A71B5DC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619339F-B933-427B-B8B1-DCE05B19C9B1}"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95B35BF-9971-4969-B3EB-5930B1668E3D}"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D1268F1-FD4E-477A-B42D-34BEF3685220}"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62A0E15F-38F5-4AE0-B47C-C24E1C74C4B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954F36B-1FEA-4529-99E9-A81A8A4FC7A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7BEF049-B018-4020-94CB-046667D8F5D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879509F-D6C6-4503-963A-1B2E4B1C3F0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4838426C-4A6D-4EFC-851E-5C65F3A23F0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CA74541-D199-4CD5-9F6A-3D33C5656D5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E230B005-97CC-4516-80A0-8C16A2A1534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D7DAB-5997-4011-94F4-34AF203BC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F471971-0BCA-42E6-933D-5C244C8F1B4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7A8F0096-7E19-41FE-9658-D092EFFC599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DAFCC836-1410-4159-BCA9-253D854A878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F002242E-BCC5-4D2A-A284-6C5959CF137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C2EBBABE-1419-4692-9404-679715B52E92}"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D415DB6-9324-43CA-9058-6F724D416C03}"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AC4D7C84-57A1-4218-B3D7-3F9A44CF17F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B089E52-CBC3-4D9F-8986-761286B4AC7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D570675-1C0D-41F1-8F96-9C4C16EA746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F130C71-89B1-4509-B7B4-B9809B4196A7}"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12A1F-7682-4F32-9D8A-77F57243B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6DC035E7-77BF-489D-9911-DB3C2984D1C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6E812E98-3E12-475F-9859-4C654287408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F69162F-3AFD-4D44-AD38-2FD25AFB3A7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291FCAC-44B2-4397-AC32-5BB0524C18A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08380B5-8E8E-4AF7-9AB5-F7C5EE244208}"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384CEAC1-D2EE-4497-AB57-60772D80B0A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71ED868-B0FA-45B2-AEF5-BB2A91589704}"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E2F57E7E-30A0-4E78-95E8-C3C1AF85D481}"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A5A62728-2D5B-4ABD-ACA2-714FF9B7865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7F83041-339B-4420-BA67-1B7CA369C74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4682C4-6C44-4B46-93A2-9AF34A99F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1FB4050C-917D-4866-8DDA-E971FABFECC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0DC27317-233E-49A4-B835-C703DCAD4FD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1"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DB71A4B-C29F-4118-9E74-BED03731388A}"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3F40345-E495-4201-998F-4131B399247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554E697E-EBFF-4DBA-9868-642FE10CD1B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0D967A5-4030-4C8D-8F89-2FA8D908F6AA}"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5"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6"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F8CB8435-A0E9-47D1-B67C-0EE5198B664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1"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F41B19C5-C4BD-4082-A2CC-AC95D0766A7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3"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4"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5"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7"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8"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2F321D8B-1016-43C3-A093-105D363D31B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F7D890BD-6599-4ACB-BE0C-10956AA55244}"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FA6F6-3E2A-49E9-9469-F1B88983A4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5"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1D10AB48-4547-44E0-92FB-52671A5CFB4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7"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700411D-3007-44EA-9E9A-5816D0466F39}"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C7DD132-4135-4B84-B730-01A7EAF7B8C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E22B36A-CF1B-4B20-89E6-BA6EAB0260F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2"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49A858E-91B1-45E5-B68C-978027ABA5B3}"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BA26653-5567-48EC-9563-6AF25330BDB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8"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0"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3B2D4A3-5445-4B9B-BEAC-3973DE30985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302CF6C-2E09-4A7F-B031-622C3041C7B3}"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6"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7"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01E2F79-BFE6-4F53-B9A9-10A0E2C5DDFD}"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2"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FD0AD285-5A83-4DC7-B69E-6BC0DED22AD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9BA92C-929D-4E5E-A9DD-92EB449646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4"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5"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6"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7"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8"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9"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F7BEABF-347D-48C1-AB8C-FCD859317176}"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43F3C9DF-6329-46AE-9003-4551A0A3A600}"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9D441AB-2471-4721-A2FB-6C846191A86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828AC3A-16C1-491E-8937-9A4F26E2C70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AB56130-E7D3-4F7B-851A-D29C133431B5}"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1963440-E735-4EE5-8E13-EFA009B2541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5A9E1276-D2E5-464A-8B46-AACB448E5D6E}"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E76CA27-6E03-4EB0-A023-CD2CFA83CB7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9E692BC-8460-4358-85B8-845F07A0D8B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40CAF38-97A1-4E1D-A79D-C5730FE0F82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79DF16-7612-4436-8B37-7DE76F107F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A4D9118A-F9C0-4F2F-87E5-AE8E642F834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46B96C5-5515-42DC-B64A-0868F289B89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3A90BDA3-6FC8-4CF4-A139-009C62539797}"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2623243C-1A0C-4C81-B021-1F587888A15C}"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7"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7B3BAC3-72DA-44E3-B18A-128290ED8FF4}"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9"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BB30E42-11D9-456A-BEFA-9F624B6D238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7BAFC53-9B29-48D4-AB5E-93A69AFC596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081C4E6C-5794-4C1E-AAEB-7F41A62BAF22}"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E9DCD802-F01D-4310-9843-DF6EE4406EC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8E53102-4E54-4A29-A221-DA7CDE2B866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C322D6-C446-4439-8471-41B7279B4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2"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7B4CCB8-236C-4BC0-BE55-1AA882352572}"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6"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2AB72AFC-337B-41EC-8206-D6BA94C2866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8"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9"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D4E4172-11C2-4E9C-903F-26B0D3A459F6}"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4"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A6598F4-5B6D-406E-8DF6-8790083B3FDF}"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6"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7"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8"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9"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0"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1"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55C12824-575C-4F3D-9917-EE2E568A1334}"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6E3BBA1-5917-49F5-BF05-C449F01424EF}"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8"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56F0944-0B81-4F13-941F-E31D5C6B67D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0"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20320A8-D0AE-47F2-A3F1-A37DBE35B51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9D4CD2F-611B-4249-8D7B-88462400C43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FA7FCDB-3512-4AE4-B359-734D29CA444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FD85E8-FFA7-47F5-8E35-A47EE96871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5"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25C5E91-954C-40F1-9D14-CA6B8DAF84A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CB7E3C0-9282-4B54-8B54-64F8823F3A3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1"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2"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3"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E7DCD36E-BF78-4DCC-8E3E-7A62E8FD4C5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7"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393228BA-A71D-4C82-BA55-E55DFF697C4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9"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0"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07EC417C-CAE8-487D-BDAC-3992E91D21E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5"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7ADC46DC-3EC4-4BB0-AB58-CF802D809135}"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7"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8"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9"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0"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1"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2"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7BD2674D-7B45-4501-A293-75F816F4B2BB}"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2CBDC89F-7CC6-4D83-8F3E-C93E7D09B515}"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9"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A6F0E83-5F03-4128-8F17-DE6AB1CD9EC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1"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132A063E-03CB-4C4D-ACD3-74F35A3E531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30273-F2B8-4B25-9A61-6F9DA8967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0AB514-AF64-48EE-B9FF-923257AAFF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4"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8908D2CC-6C8A-4C97-BC90-A3D857757FF1}"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86D9B6B1-DD44-46BB-9DBD-7D7AB5B33E5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6E8DC9D-016B-42BF-AF46-AD2CDFBD6FC9}"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F5F0795-92B4-4391-80D8-DE330D80CD70}"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1215A6E-AC48-433F-A461-CF5C1CEEDF8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C9E7F52-EEBB-4AB7-B15E-33C9502461F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9551A11-9984-44E6-B4F9-0C4BB6775F3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FAB564F-D114-4A27-94AB-05D47789AED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CC386785-463B-4592-A968-4074D9366807}"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5A1460C-5431-4DFB-9890-7F1676783A0C}"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9323D-C87C-42B0-883F-4E1FC20D3A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4876C6FB-1EE1-4CF7-88C3-38F1E54C212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14CCC4B8-E980-4ADF-B5DE-40A9600E3BB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92B9DD73-42C5-4BAB-AF22-B85805DA1E0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3876FD7F-3CA9-4E00-B916-AC3D02D9B7D0}"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EBD289A-8C8E-4127-B439-76F8E1BE87C3}"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52B6480C-6383-4398-9F56-A7D20D0A063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1E18A42A-CA50-4218-A962-27F3846B3A7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30EBDF5-4A70-484B-BE4C-AA72FB989B9B}"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6D7B96F-FE06-4C67-B973-7F84387FA99A}"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2C143FB5-EF9C-4C5C-995D-899E2EBF15A7}"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5DD5DD-AF06-444E-8674-6EC9213FE2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39F1B6EB-E7F0-44C9-A42D-F56E8E9508D5}"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EB8CB73A-AEDE-4F45-8A99-11068D141C0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6D58556C-CFDE-4F89-BACE-544A2A9C1C6B}"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D64CBFA-9A34-4C7C-AA55-C1180539A3B8}"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C407611-44A7-4C89-9679-C2A36094399A}"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677B7F85-949F-43C1-949A-398CABB60C0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4453B4F-C9D8-4912-989E-4924FB7399E0}"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F060268-24AB-4198-AEE6-FD22A56F46B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EF717F3-D044-42B0-B931-F90B208368C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52EDB56-A559-4941-86AA-44F6D2BAB5F9}"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B47BA4-772F-42EC-943D-480A1279B4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3214328-493E-43F6-A88A-52F366284171}"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8B851FB-15DE-40C5-86B5-0BF9FC08F9F8}"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0F119EF-EB4E-4FC2-A257-C0EA10052B9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ECE240-89A0-4DC8-AA6C-85030B6D8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7A06F8-AEE2-48A3-918E-8F2654C31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051EF-27D1-4E64-B9EF-167C09DF7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E1416A-D57B-4CBF-ADC4-A89B178DE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794AE9-E3AB-4F8A-B040-C100B206D62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D7553C-DBC1-482E-BD8B-FB8EA74230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3B47A8-54E0-480D-A94B-AF2D4250E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7E19CA-9523-4ADB-A2A4-B34740C0F0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483501-E385-443E-B91F-8DF903A8CC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0465EF-3B1E-491B-A5B6-1F5E29394B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59DE53-2237-4818-BFCF-5A9010B73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5B9BB6-D41F-4B7B-8898-B3278E5263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ED80F-61F9-4C5D-AF2D-B4C8669387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8F3B51-7F93-4A2E-B692-A970CEA6F7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EBA85-99C7-4524-BECF-C69FED577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BEDEA-B31D-42F2-99A5-9D2CA0ADDD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59D39D-C1C2-4991-AA20-EFCA4BF96E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CAF2A-5BA7-41A8-999B-97964782C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B396F-4375-44DD-90EA-E4F9A570B0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A07D3D-D592-4106-AF9B-CA2F3660C6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E5B74-3849-4094-A437-8F2E73940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291EF4-33A0-4742-8C3D-D23B7329F5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4BCFA99-1E59-478D-9869-2647D05B9C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50CC01-AF32-4761-B12B-B52945AFF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D4691A-43F0-4F53-B6CE-5A2FA9F710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A52E1D-0977-4BC3-A10B-9692ABEAEA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5700CE-6D48-4814-9029-2B4D409FD9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826318-33EA-4C45-81C7-553CA4A9AA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AD75E-687A-40B3-AE89-DB08E8AE9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2492A-A7C5-4D23-BC24-315F20539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744B9A-07B8-4D3D-B98F-2E5C0BEF84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7FDAD1D-BBE5-432D-845A-F9E3DB61A2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1E53F2-C055-4378-A1F2-44C87BF26C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7E374F-4778-4A54-93AB-81F01B6BBD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D656BC-51B3-412E-A44E-9ABAB80558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5DFB92-67EB-440D-84CF-F59BC5859B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CB6D85-DA76-47CA-B0E0-262BDBE479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94DCE2-98C2-4263-9584-75614EDDBB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87CD2-9905-4B42-9D9D-2E711C6E6C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90577-3227-46FD-A3C0-F5E3DA9EA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2C1365-522A-4CB9-9260-0D3D027D14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22CCC-F424-46FB-AEEC-1851B96FD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B8BECD-2487-417E-A4E1-90D795F0C4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DB9DF3-203B-4A21-8DA3-B8D8B39FEA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99C2F8-90C7-4CF4-90AE-B46FB99B2E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45C021-EC2B-4CBC-82C2-FAF82C0299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A09AA-94F0-41DD-B2F0-3B3E34AB4E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8FA23E3-C0D1-4FDF-A744-5D4C3237CA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D333A-3360-494E-8AEE-C49F31DDCB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CC5D90-F3AD-439B-A943-2A2BEB987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D953C-CC69-4C6C-AF68-417041DA7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3C943F-7AA9-47C8-B6D3-557D097D86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15180E-BFC9-4D5A-B3BB-E85B171E8C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BF0F9C-4FF4-4E7D-88EC-D2ACF17FFF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1F8E0-1F81-4C28-9231-D51171F239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077B4E-CA4D-4E36-B5BF-7D2A1207E3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954EF7-19F0-45F1-8CAA-178012234D6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9F3AD1-59BB-4F33-8E45-57F7B01238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7FEEDB-39BB-4EB6-92C5-FD0291472F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8CDE2F-3494-4BA2-8ABA-45BFD9F32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C3CC72-B94B-4234-BE5C-55FE37FB856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E0D50-F4D7-4E47-BAF8-2850B6F91F4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72" name="PlaceHolder 4"/>
          <p:cNvSpPr>
            <a:spLocks noGrp="1"/>
          </p:cNvSpPr>
          <p:nvPr>
            <p:ph type="ftr" idx="2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PlaceHolder 5"/>
          <p:cNvSpPr>
            <a:spLocks noGrp="1"/>
          </p:cNvSpPr>
          <p:nvPr>
            <p:ph type="sldNum" idx="3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84801-4483-42F1-B11E-7DADD61C85E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13" name="PlaceHolder 4"/>
          <p:cNvSpPr>
            <a:spLocks noGrp="1"/>
          </p:cNvSpPr>
          <p:nvPr>
            <p:ph type="ftr" idx="3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4" name="PlaceHolder 5"/>
          <p:cNvSpPr>
            <a:spLocks noGrp="1"/>
          </p:cNvSpPr>
          <p:nvPr>
            <p:ph type="sldNum" idx="3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5D457-6FC6-49B3-85BF-BCE0B17F443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54" name="PlaceHolder 4"/>
          <p:cNvSpPr>
            <a:spLocks noGrp="1"/>
          </p:cNvSpPr>
          <p:nvPr>
            <p:ph type="ftr" idx="3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PlaceHolder 5"/>
          <p:cNvSpPr>
            <a:spLocks noGrp="1"/>
          </p:cNvSpPr>
          <p:nvPr>
            <p:ph type="sldNum" idx="3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7A2FF-3E33-4004-8FBD-F14781CF435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95" name="PlaceHolder 4"/>
          <p:cNvSpPr>
            <a:spLocks noGrp="1"/>
          </p:cNvSpPr>
          <p:nvPr>
            <p:ph type="ftr" idx="3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6" name="PlaceHolder 5"/>
          <p:cNvSpPr>
            <a:spLocks noGrp="1"/>
          </p:cNvSpPr>
          <p:nvPr>
            <p:ph type="sldNum" idx="3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69D7-D25B-448A-953E-234BC44CF5D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36" name="PlaceHolder 4"/>
          <p:cNvSpPr>
            <a:spLocks noGrp="1"/>
          </p:cNvSpPr>
          <p:nvPr>
            <p:ph type="ftr" idx="4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PlaceHolder 5"/>
          <p:cNvSpPr>
            <a:spLocks noGrp="1"/>
          </p:cNvSpPr>
          <p:nvPr>
            <p:ph type="sldNum" idx="4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1FBE-290C-4165-8A23-FA30C802074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577" name="PlaceHolder 4"/>
          <p:cNvSpPr>
            <a:spLocks noGrp="1"/>
          </p:cNvSpPr>
          <p:nvPr>
            <p:ph type="ftr" idx="4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PlaceHolder 5"/>
          <p:cNvSpPr>
            <a:spLocks noGrp="1"/>
          </p:cNvSpPr>
          <p:nvPr>
            <p:ph type="sldNum" idx="4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287CA-A91D-4F0D-B3F3-EFA22547FCB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18" name="PlaceHolder 4"/>
          <p:cNvSpPr>
            <a:spLocks noGrp="1"/>
          </p:cNvSpPr>
          <p:nvPr>
            <p:ph type="ftr" idx="4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9" name="PlaceHolder 5"/>
          <p:cNvSpPr>
            <a:spLocks noGrp="1"/>
          </p:cNvSpPr>
          <p:nvPr>
            <p:ph type="sldNum" idx="4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5A943-6EC9-4E63-A402-19326C80B90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659" name="PlaceHolder 4"/>
          <p:cNvSpPr>
            <a:spLocks noGrp="1"/>
          </p:cNvSpPr>
          <p:nvPr>
            <p:ph type="ftr" idx="5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0" name="PlaceHolder 5"/>
          <p:cNvSpPr>
            <a:spLocks noGrp="1"/>
          </p:cNvSpPr>
          <p:nvPr>
            <p:ph type="sldNum" idx="5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F78F-BC2B-45B1-A910-1097BA58C6A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00" name="PlaceHolder 4"/>
          <p:cNvSpPr>
            <a:spLocks noGrp="1"/>
          </p:cNvSpPr>
          <p:nvPr>
            <p:ph type="ftr" idx="5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1" name="PlaceHolder 5"/>
          <p:cNvSpPr>
            <a:spLocks noGrp="1"/>
          </p:cNvSpPr>
          <p:nvPr>
            <p:ph type="sldNum" idx="5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405C-7865-47AF-9CA9-3C49CC0F4EC8}"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41" name="PlaceHolder 4"/>
          <p:cNvSpPr>
            <a:spLocks noGrp="1"/>
          </p:cNvSpPr>
          <p:nvPr>
            <p:ph type="ftr" idx="5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2" name="PlaceHolder 5"/>
          <p:cNvSpPr>
            <a:spLocks noGrp="1"/>
          </p:cNvSpPr>
          <p:nvPr>
            <p:ph type="sldNum" idx="5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6668-30ED-46A4-B0BF-3068E81BD22F}"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44"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DFE0-D0B2-48E5-83DB-0D9CB283744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782" name="PlaceHolder 4"/>
          <p:cNvSpPr>
            <a:spLocks noGrp="1"/>
          </p:cNvSpPr>
          <p:nvPr>
            <p:ph type="ftr" idx="5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3" name="PlaceHolder 5"/>
          <p:cNvSpPr>
            <a:spLocks noGrp="1"/>
          </p:cNvSpPr>
          <p:nvPr>
            <p:ph type="sldNum" idx="6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1323-F677-4C27-84E0-94E8437DF361}"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23" name="PlaceHolder 4"/>
          <p:cNvSpPr>
            <a:spLocks noGrp="1"/>
          </p:cNvSpPr>
          <p:nvPr>
            <p:ph type="ftr" idx="6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4" name="PlaceHolder 5"/>
          <p:cNvSpPr>
            <a:spLocks noGrp="1"/>
          </p:cNvSpPr>
          <p:nvPr>
            <p:ph type="sldNum" idx="6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E81CF-AC42-4F68-868F-1E592EE4347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64" name="PlaceHolder 4"/>
          <p:cNvSpPr>
            <a:spLocks noGrp="1"/>
          </p:cNvSpPr>
          <p:nvPr>
            <p:ph type="ftr" idx="6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PlaceHolder 5"/>
          <p:cNvSpPr>
            <a:spLocks noGrp="1"/>
          </p:cNvSpPr>
          <p:nvPr>
            <p:ph type="sldNum" idx="6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19DD9-F7D3-4684-A0F1-1F4870740542}"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05" name="PlaceHolder 4"/>
          <p:cNvSpPr>
            <a:spLocks noGrp="1"/>
          </p:cNvSpPr>
          <p:nvPr>
            <p:ph type="ftr" idx="6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PlaceHolder 5"/>
          <p:cNvSpPr>
            <a:spLocks noGrp="1"/>
          </p:cNvSpPr>
          <p:nvPr>
            <p:ph type="sldNum" idx="6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4A121-501E-42BE-AA24-99FCC130507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46" name="PlaceHolder 4"/>
          <p:cNvSpPr>
            <a:spLocks noGrp="1"/>
          </p:cNvSpPr>
          <p:nvPr>
            <p:ph type="ftr" idx="7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7" name="PlaceHolder 5"/>
          <p:cNvSpPr>
            <a:spLocks noGrp="1"/>
          </p:cNvSpPr>
          <p:nvPr>
            <p:ph type="sldNum" idx="7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480E1-C80D-48D3-9FC2-EA6A167CBC4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987" name="PlaceHolder 4"/>
          <p:cNvSpPr>
            <a:spLocks noGrp="1"/>
          </p:cNvSpPr>
          <p:nvPr>
            <p:ph type="ftr" idx="7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PlaceHolder 5"/>
          <p:cNvSpPr>
            <a:spLocks noGrp="1"/>
          </p:cNvSpPr>
          <p:nvPr>
            <p:ph type="sldNum" idx="7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57EB-91E8-4604-A7EB-87E2C36AE66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7" name="PlaceHolder 3"/>
          <p:cNvSpPr>
            <a:spLocks noGrp="1"/>
          </p:cNvSpPr>
          <p:nvPr>
            <p:ph type="dt" idx="7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28" name="PlaceHolder 4"/>
          <p:cNvSpPr>
            <a:spLocks noGrp="1"/>
          </p:cNvSpPr>
          <p:nvPr>
            <p:ph type="ftr" idx="7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PlaceHolder 5"/>
          <p:cNvSpPr>
            <a:spLocks noGrp="1"/>
          </p:cNvSpPr>
          <p:nvPr>
            <p:ph type="sldNum" idx="7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41F27-B91A-4E89-B6B7-E63226611C8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68" name="PlaceHolder 3"/>
          <p:cNvSpPr>
            <a:spLocks noGrp="1"/>
          </p:cNvSpPr>
          <p:nvPr>
            <p:ph type="dt" idx="7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069" name="PlaceHolder 4"/>
          <p:cNvSpPr>
            <a:spLocks noGrp="1"/>
          </p:cNvSpPr>
          <p:nvPr>
            <p:ph type="ftr" idx="8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0" name="PlaceHolder 5"/>
          <p:cNvSpPr>
            <a:spLocks noGrp="1"/>
          </p:cNvSpPr>
          <p:nvPr>
            <p:ph type="sldNum" idx="8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7D0F-8D5F-4552-807B-3C792CD616DB}"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0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09" name="PlaceHolder 3"/>
          <p:cNvSpPr>
            <a:spLocks noGrp="1"/>
          </p:cNvSpPr>
          <p:nvPr>
            <p:ph type="dt" idx="8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10" name="PlaceHolder 4"/>
          <p:cNvSpPr>
            <a:spLocks noGrp="1"/>
          </p:cNvSpPr>
          <p:nvPr>
            <p:ph type="ftr" idx="8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1" name="PlaceHolder 5"/>
          <p:cNvSpPr>
            <a:spLocks noGrp="1"/>
          </p:cNvSpPr>
          <p:nvPr>
            <p:ph type="sldNum" idx="8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3DA76-B4CD-4F37-8781-B2251A5BE786}"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4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50" name="PlaceHolder 3"/>
          <p:cNvSpPr>
            <a:spLocks noGrp="1"/>
          </p:cNvSpPr>
          <p:nvPr>
            <p:ph type="dt" idx="8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51" name="PlaceHolder 4"/>
          <p:cNvSpPr>
            <a:spLocks noGrp="1"/>
          </p:cNvSpPr>
          <p:nvPr>
            <p:ph type="ftr" idx="8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2" name="PlaceHolder 5"/>
          <p:cNvSpPr>
            <a:spLocks noGrp="1"/>
          </p:cNvSpPr>
          <p:nvPr>
            <p:ph type="sldNum" idx="8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F102-0CF0-40DE-B77B-D06280FD148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85" name="PlaceHolder 4"/>
          <p:cNvSpPr>
            <a:spLocks noGrp="1"/>
          </p:cNvSpPr>
          <p:nvPr>
            <p:ph type="ftr" idx="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3176-03DF-4D3A-8BE0-D9A55087C59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9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91" name="PlaceHolder 3"/>
          <p:cNvSpPr>
            <a:spLocks noGrp="1"/>
          </p:cNvSpPr>
          <p:nvPr>
            <p:ph type="dt" idx="88"/>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192" name="PlaceHolder 4"/>
          <p:cNvSpPr>
            <a:spLocks noGrp="1"/>
          </p:cNvSpPr>
          <p:nvPr>
            <p:ph type="ftr" idx="89"/>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3" name="PlaceHolder 5"/>
          <p:cNvSpPr>
            <a:spLocks noGrp="1"/>
          </p:cNvSpPr>
          <p:nvPr>
            <p:ph type="sldNum" idx="90"/>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E364-4A63-4B38-A014-9E7A23C3657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32" name="PlaceHolder 3"/>
          <p:cNvSpPr>
            <a:spLocks noGrp="1"/>
          </p:cNvSpPr>
          <p:nvPr>
            <p:ph type="dt" idx="9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33" name="PlaceHolder 4"/>
          <p:cNvSpPr>
            <a:spLocks noGrp="1"/>
          </p:cNvSpPr>
          <p:nvPr>
            <p:ph type="ftr" idx="9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4" name="PlaceHolder 5"/>
          <p:cNvSpPr>
            <a:spLocks noGrp="1"/>
          </p:cNvSpPr>
          <p:nvPr>
            <p:ph type="sldNum" idx="9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1C72-F6D6-41D1-98AF-6A7304A3E1AD}"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71"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2"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3" name="PlaceHolder 3"/>
          <p:cNvSpPr>
            <a:spLocks noGrp="1"/>
          </p:cNvSpPr>
          <p:nvPr>
            <p:ph type="dt" idx="9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74" name="PlaceHolder 4"/>
          <p:cNvSpPr>
            <a:spLocks noGrp="1"/>
          </p:cNvSpPr>
          <p:nvPr>
            <p:ph type="ftr" idx="95"/>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5" name="PlaceHolder 5"/>
          <p:cNvSpPr>
            <a:spLocks noGrp="1"/>
          </p:cNvSpPr>
          <p:nvPr>
            <p:ph type="sldNum" idx="9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94EB-A237-44A8-81BC-A84177B1E34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13"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4" name="PlaceHolder 3"/>
          <p:cNvSpPr>
            <a:spLocks noGrp="1"/>
          </p:cNvSpPr>
          <p:nvPr>
            <p:ph type="dt" idx="97"/>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15" name="PlaceHolder 4"/>
          <p:cNvSpPr>
            <a:spLocks noGrp="1"/>
          </p:cNvSpPr>
          <p:nvPr>
            <p:ph type="ftr" idx="98"/>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6" name="PlaceHolder 5"/>
          <p:cNvSpPr>
            <a:spLocks noGrp="1"/>
          </p:cNvSpPr>
          <p:nvPr>
            <p:ph type="sldNum" idx="99"/>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F1F2-957D-4767-AEDC-792003EFC92A}"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55" name="PlaceHolder 3"/>
          <p:cNvSpPr>
            <a:spLocks noGrp="1"/>
          </p:cNvSpPr>
          <p:nvPr>
            <p:ph type="dt" idx="10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56" name="PlaceHolder 4"/>
          <p:cNvSpPr>
            <a:spLocks noGrp="1"/>
          </p:cNvSpPr>
          <p:nvPr>
            <p:ph type="ftr" idx="10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7" name="PlaceHolder 5"/>
          <p:cNvSpPr>
            <a:spLocks noGrp="1"/>
          </p:cNvSpPr>
          <p:nvPr>
            <p:ph type="sldNum" idx="10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7EF0-8D7C-4891-89B9-E576AE1F916E}"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39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9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96" name="PlaceHolder 3"/>
          <p:cNvSpPr>
            <a:spLocks noGrp="1"/>
          </p:cNvSpPr>
          <p:nvPr>
            <p:ph type="dt" idx="10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397" name="PlaceHolder 4"/>
          <p:cNvSpPr>
            <a:spLocks noGrp="1"/>
          </p:cNvSpPr>
          <p:nvPr>
            <p:ph type="ftr" idx="10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8" name="PlaceHolder 5"/>
          <p:cNvSpPr>
            <a:spLocks noGrp="1"/>
          </p:cNvSpPr>
          <p:nvPr>
            <p:ph type="sldNum" idx="10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719C-E1B8-425D-A369-876EF14BA87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3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3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37" name="PlaceHolder 3"/>
          <p:cNvSpPr>
            <a:spLocks noGrp="1"/>
          </p:cNvSpPr>
          <p:nvPr>
            <p:ph type="dt" idx="10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438" name="PlaceHolder 4"/>
          <p:cNvSpPr>
            <a:spLocks noGrp="1"/>
          </p:cNvSpPr>
          <p:nvPr>
            <p:ph type="ftr" idx="10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9" name="PlaceHolder 5"/>
          <p:cNvSpPr>
            <a:spLocks noGrp="1"/>
          </p:cNvSpPr>
          <p:nvPr>
            <p:ph type="sldNum" idx="10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40A4-D2D9-4E35-920C-ABD5DDB3323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26" name="PlaceHolder 4"/>
          <p:cNvSpPr>
            <a:spLocks noGrp="1"/>
          </p:cNvSpPr>
          <p:nvPr>
            <p:ph type="ftr" idx="11"/>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F56A4-8DB1-4FA5-A6F5-0DB6D9A83AD5}"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167" name="PlaceHolder 4"/>
          <p:cNvSpPr>
            <a:spLocks noGrp="1"/>
          </p:cNvSpPr>
          <p:nvPr>
            <p:ph type="ftr" idx="14"/>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19BF-D902-4697-925C-C5A382EB0994}"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08" name="PlaceHolder 4"/>
          <p:cNvSpPr>
            <a:spLocks noGrp="1"/>
          </p:cNvSpPr>
          <p:nvPr>
            <p:ph type="ftr" idx="17"/>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5"/>
          <p:cNvSpPr>
            <a:spLocks noGrp="1"/>
          </p:cNvSpPr>
          <p:nvPr>
            <p:ph type="sldNum" idx="18"/>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BA64-8D31-4911-8720-AB11FF8B289C}"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49" name="PlaceHolder 4"/>
          <p:cNvSpPr>
            <a:spLocks noGrp="1"/>
          </p:cNvSpPr>
          <p:nvPr>
            <p:ph type="ftr" idx="20"/>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21"/>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0748C-5C71-4F3C-A30F-CC6545448B90}"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290" name="PlaceHolder 4"/>
          <p:cNvSpPr>
            <a:spLocks noGrp="1"/>
          </p:cNvSpPr>
          <p:nvPr>
            <p:ph type="ftr" idx="23"/>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PlaceHolder 5"/>
          <p:cNvSpPr>
            <a:spLocks noGrp="1"/>
          </p:cNvSpPr>
          <p:nvPr>
            <p:ph type="sldNum" idx="24"/>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B63B-F2A2-47FD-AC68-3587EAC2A5F9}"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ffffff"/>
              </a:solidFill>
              <a:latin typeface="Times New Roman"/>
            </a:endParaRPr>
          </a:p>
        </p:txBody>
      </p:sp>
      <p:sp>
        <p:nvSpPr>
          <p:cNvPr id="331" name="PlaceHolder 4"/>
          <p:cNvSpPr>
            <a:spLocks noGrp="1"/>
          </p:cNvSpPr>
          <p:nvPr>
            <p:ph type="ftr" idx="26"/>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5"/>
          <p:cNvSpPr>
            <a:spLocks noGrp="1"/>
          </p:cNvSpPr>
          <p:nvPr>
            <p:ph type="sldNum" idx="27"/>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C126B-CCFF-4308-9AA7-A9BF15FC03E7}" type="slidenum">
              <a:rPr b="0" lang="en-GB" sz="1200" spc="-1" strike="noStrike">
                <a:solidFill>
                  <a:srgbClr val="89898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9.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0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2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hyperlink" Target="https://en.wikipedia.org/wiki/Ombudsman" TargetMode="External"/><Relationship Id="rId4" Type="http://schemas.openxmlformats.org/officeDocument/2006/relationships/slideLayout" Target="../slideLayouts/slideLayout3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395280" y="1184400"/>
            <a:ext cx="11366640" cy="373536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NHSGGC </a:t>
            </a:r>
            <a:endParaRPr b="0" lang="en-US" sz="60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ffffff"/>
                </a:solidFill>
                <a:latin typeface="Calibri"/>
              </a:rPr>
              <a:t>Complaints Handling Procedure</a:t>
            </a:r>
            <a:endParaRPr b="0" lang="en-US" sz="6000" spc="-1" strike="noStrike">
              <a:solidFill>
                <a:srgbClr val="000000"/>
              </a:solidFill>
              <a:latin typeface="Calibri"/>
            </a:endParaRPr>
          </a:p>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Calibri"/>
              </a:rPr>
              <a:t> </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507" name="TextBox 1"/>
          <p:cNvSpPr/>
          <p:nvPr/>
        </p:nvSpPr>
        <p:spPr>
          <a:xfrm>
            <a:off x="2098800" y="620640"/>
            <a:ext cx="7893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Learning from Complaints</a:t>
            </a:r>
            <a:r>
              <a:rPr b="0" lang="en-GB" sz="2800" spc="-1" strike="noStrike">
                <a:solidFill>
                  <a:srgbClr val="ffffff"/>
                </a:solidFill>
                <a:latin typeface="Calibri"/>
              </a:rPr>
              <a:t> </a:t>
            </a:r>
            <a:endParaRPr b="0" lang="en-US" sz="2800" spc="-1" strike="noStrike">
              <a:solidFill>
                <a:srgbClr val="000000"/>
              </a:solidFill>
              <a:latin typeface="Calibri"/>
            </a:endParaRPr>
          </a:p>
        </p:txBody>
      </p:sp>
      <p:pic>
        <p:nvPicPr>
          <p:cNvPr id="1508" name="Picture 3" descr="A close up of a piece of paper&#10;&#10;Description automatically generated"/>
          <p:cNvPicPr/>
          <p:nvPr/>
        </p:nvPicPr>
        <p:blipFill>
          <a:blip r:embed="rId1"/>
          <a:srcRect l="0" t="0" r="-1157" b="-6968"/>
          <a:stretch/>
        </p:blipFill>
        <p:spPr>
          <a:xfrm>
            <a:off x="1549440" y="2179800"/>
            <a:ext cx="8740800" cy="444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4" name="Rectangle 1"/>
          <p:cNvSpPr/>
          <p:nvPr/>
        </p:nvSpPr>
        <p:spPr>
          <a:xfrm>
            <a:off x="644400" y="2092320"/>
            <a:ext cx="1088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5" name="TextBox 2"/>
          <p:cNvSpPr/>
          <p:nvPr/>
        </p:nvSpPr>
        <p:spPr>
          <a:xfrm>
            <a:off x="653040" y="4935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The Process</a:t>
            </a:r>
            <a:endParaRPr b="0" lang="en-US" sz="3600" spc="-1" strike="noStrike">
              <a:solidFill>
                <a:srgbClr val="000000"/>
              </a:solidFill>
              <a:latin typeface="Calibri"/>
            </a:endParaRPr>
          </a:p>
        </p:txBody>
      </p:sp>
      <p:pic>
        <p:nvPicPr>
          <p:cNvPr id="1486" name="Picture 1" descr=""/>
          <p:cNvPicPr/>
          <p:nvPr/>
        </p:nvPicPr>
        <p:blipFill>
          <a:blip r:embed="rId1"/>
          <a:stretch/>
        </p:blipFill>
        <p:spPr>
          <a:xfrm>
            <a:off x="1596960" y="1319040"/>
            <a:ext cx="8489880" cy="4783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7" name="TextBox 3"/>
          <p:cNvSpPr/>
          <p:nvPr/>
        </p:nvSpPr>
        <p:spPr>
          <a:xfrm>
            <a:off x="334800" y="415800"/>
            <a:ext cx="10983960" cy="569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tage 1</a:t>
            </a: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arly resolution complaints that require little to no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 Waiting Time Complaints, Smoking &amp; Car Parking</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can be shared via:</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Verbally, direct to complainant, via service</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mail, direct to complainant, via Complaints Department</a:t>
            </a:r>
            <a:endParaRPr b="0" lang="en-US" sz="3200" spc="-1" strike="noStrike">
              <a:solidFill>
                <a:srgbClr val="000000"/>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8" name="Rectangle 1" descr=""/>
          <p:cNvPicPr/>
          <p:nvPr/>
        </p:nvPicPr>
        <p:blipFill>
          <a:blip r:embed="rId1"/>
          <a:stretch/>
        </p:blipFill>
        <p:spPr>
          <a:xfrm>
            <a:off x="414360" y="682560"/>
            <a:ext cx="11539440" cy="898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1489" name="TextBox 2"/>
          <p:cNvSpPr/>
          <p:nvPr/>
        </p:nvSpPr>
        <p:spPr>
          <a:xfrm>
            <a:off x="369360" y="487440"/>
            <a:ext cx="11745000" cy="557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Stage 2</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Stage 2 complaints are complex and require an in-depth investig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e.g. concerns about clinical care, disagreement with treatment pla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and complaints that have been escalated from Stage 1.</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ponses to Stage 2 complaints are via the service Director.</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rPr>
              <a:t>Resolution should be reached within 20 working day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title"/>
          </p:nvPr>
        </p:nvSpPr>
        <p:spPr>
          <a:xfrm>
            <a:off x="195120" y="5364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
        <p:nvSpPr>
          <p:cNvPr id="1491" name="AutoShape 2"/>
          <p:cNvSpPr/>
          <p:nvPr/>
        </p:nvSpPr>
        <p:spPr>
          <a:xfrm>
            <a:off x="15876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2" name="Rectangle 1"/>
          <p:cNvSpPr/>
          <p:nvPr/>
        </p:nvSpPr>
        <p:spPr>
          <a:xfrm>
            <a:off x="297000" y="1258920"/>
            <a:ext cx="6780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an imperfect response to the fact that we can never turn back the clock when things have gone wrong. We just have to deal with what is, and deal with it as well as we can.</a:t>
            </a:r>
            <a:endParaRPr b="0" lang="en-US" sz="2400" spc="-1" strike="noStrike">
              <a:solidFill>
                <a:srgbClr val="000000"/>
              </a:solidFill>
              <a:latin typeface="Calibri"/>
            </a:endParaRPr>
          </a:p>
        </p:txBody>
      </p:sp>
      <p:sp>
        <p:nvSpPr>
          <p:cNvPr id="1493" name="Rectangle 8"/>
          <p:cNvSpPr/>
          <p:nvPr/>
        </p:nvSpPr>
        <p:spPr>
          <a:xfrm>
            <a:off x="297000" y="3117960"/>
            <a:ext cx="6929280" cy="29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n apology is partly a statement of regret, and partly an acceptance of responsibility for things that have gone wrong. A </a:t>
            </a:r>
            <a:r>
              <a:rPr b="0" i="1" lang="en-GB" sz="2400" spc="-1" strike="noStrike">
                <a:solidFill>
                  <a:srgbClr val="ffffff"/>
                </a:solidFill>
                <a:latin typeface="Calibri"/>
              </a:rPr>
              <a:t>sincere</a:t>
            </a:r>
            <a:r>
              <a:rPr b="0" lang="en-GB" sz="2400" spc="-1" strike="noStrike">
                <a:solidFill>
                  <a:srgbClr val="ffffff"/>
                </a:solidFill>
                <a:latin typeface="Calibri"/>
              </a:rPr>
              <a:t> partial apology (“I’m truly sorry that this has happened”) is a statement of sorrow or regre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2400" spc="-1" strike="noStrike">
                <a:solidFill>
                  <a:srgbClr val="ffffff"/>
                </a:solidFill>
                <a:latin typeface="Calibri"/>
              </a:rPr>
              <a:t>A </a:t>
            </a:r>
            <a:r>
              <a:rPr b="0" i="1" lang="en-GB" sz="2400" spc="-1" strike="noStrike">
                <a:solidFill>
                  <a:srgbClr val="ffffff"/>
                </a:solidFill>
                <a:latin typeface="Calibri"/>
              </a:rPr>
              <a:t>full</a:t>
            </a:r>
            <a:r>
              <a:rPr b="0" lang="en-GB" sz="2400" spc="-1" strike="noStrike">
                <a:solidFill>
                  <a:srgbClr val="ffffff"/>
                </a:solidFill>
                <a:latin typeface="Calibri"/>
              </a:rPr>
              <a:t> apology, by contrast, will include an explanation of what happened and acceptance of responsibility.</a:t>
            </a:r>
            <a:endParaRPr b="0" lang="en-US" sz="2400" spc="-1" strike="noStrike">
              <a:solidFill>
                <a:srgbClr val="000000"/>
              </a:solidFill>
              <a:latin typeface="Calibri"/>
            </a:endParaRPr>
          </a:p>
        </p:txBody>
      </p:sp>
      <p:pic>
        <p:nvPicPr>
          <p:cNvPr id="1494" name="Picture 1" descr=""/>
          <p:cNvPicPr/>
          <p:nvPr/>
        </p:nvPicPr>
        <p:blipFill>
          <a:blip r:embed="rId1"/>
          <a:stretch/>
        </p:blipFill>
        <p:spPr>
          <a:xfrm>
            <a:off x="7589880" y="1027080"/>
            <a:ext cx="4249800" cy="483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pic>
        <p:nvPicPr>
          <p:cNvPr id="1495" name="Picture 3" descr=""/>
          <p:cNvPicPr/>
          <p:nvPr/>
        </p:nvPicPr>
        <p:blipFill>
          <a:blip r:embed="rId1"/>
          <a:stretch/>
        </p:blipFill>
        <p:spPr>
          <a:xfrm>
            <a:off x="549360" y="1590840"/>
            <a:ext cx="4728960" cy="4255920"/>
          </a:xfrm>
          <a:prstGeom prst="rect">
            <a:avLst/>
          </a:prstGeom>
          <a:ln w="0">
            <a:noFill/>
          </a:ln>
        </p:spPr>
      </p:pic>
      <p:sp>
        <p:nvSpPr>
          <p:cNvPr id="1496" name="Rectangle 3"/>
          <p:cNvSpPr/>
          <p:nvPr/>
        </p:nvSpPr>
        <p:spPr>
          <a:xfrm>
            <a:off x="5514840" y="2089080"/>
            <a:ext cx="6199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im your apology at what actually happened. An apology is for a specific wrong or injury. It will miss its mark if the apologiser and the apologisee disagree about what went wrong.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This means understanding what happened </a:t>
            </a:r>
            <a:r>
              <a:rPr b="0" i="1" lang="en-GB" sz="2400" spc="-1" strike="noStrike">
                <a:solidFill>
                  <a:srgbClr val="ffffff"/>
                </a:solidFill>
                <a:latin typeface="Calibri"/>
              </a:rPr>
              <a:t>from the point of view of the patient or their supporters</a:t>
            </a:r>
            <a:r>
              <a:rPr b="0" lang="en-GB" sz="2400" spc="-1" strike="noStrike">
                <a:solidFill>
                  <a:srgbClr val="ffffff"/>
                </a:solidFill>
                <a:latin typeface="Calibri"/>
              </a:rPr>
              <a:t>, as well as seeing events from your own point of view.</a:t>
            </a:r>
            <a:endParaRPr b="0" lang="en-US" sz="2400" spc="-1" strike="noStrike">
              <a:solidFill>
                <a:srgbClr val="000000"/>
              </a:solidFill>
              <a:latin typeface="Calibri"/>
            </a:endParaRPr>
          </a:p>
        </p:txBody>
      </p:sp>
      <p:sp>
        <p:nvSpPr>
          <p:cNvPr id="1497" name="Title 4"/>
          <p:cNvSpPr/>
          <p:nvPr/>
        </p:nvSpPr>
        <p:spPr>
          <a:xfrm>
            <a:off x="4726080" y="237960"/>
            <a:ext cx="4976640" cy="1143000"/>
          </a:xfrm>
          <a:prstGeom prst="rect">
            <a:avLst/>
          </a:prstGeom>
          <a:no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 Sorr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480" y="274320"/>
            <a:ext cx="10972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libri"/>
              </a:rPr>
              <a:t>Impact of Complaints</a:t>
            </a:r>
            <a:endParaRPr b="0" lang="en-US" sz="4400" spc="-1" strike="noStrike">
              <a:solidFill>
                <a:srgbClr val="000000"/>
              </a:solidFill>
              <a:latin typeface="Calibri"/>
            </a:endParaRPr>
          </a:p>
        </p:txBody>
      </p:sp>
      <p:sp>
        <p:nvSpPr>
          <p:cNvPr id="1499" name=""/>
          <p:cNvSpPr txBox="1"/>
          <p:nvPr/>
        </p:nvSpPr>
        <p:spPr>
          <a:xfrm>
            <a:off x="609480" y="1600200"/>
            <a:ext cx="10972800" cy="470376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It is recognised that there is a negative stigma attached to complaints, and being complained about can impact negatively on individual staff members wellbeing.</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Being complained about can be scary and upsetting; we encourage line managers to take extra time with staff who have been named in a complaint to offer support, guidance and assistance in statement writing, if requir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Open, timeous and honest communication is key; if a complaint has been completed the formal response should be shared with the members of staff named</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Learning from a complaint should be shared across the appropriate service, as well as with an individual.</a:t>
            </a:r>
            <a:endParaRPr b="0" lang="en-US" sz="2000" spc="-1" strike="noStrike">
              <a:solidFill>
                <a:srgbClr val="000000"/>
              </a:solidFill>
              <a:latin typeface="Calibri"/>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The Complaints Department are available to discuss the process in more detail with any member of staff that would find this helpfu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TextBox 1"/>
          <p:cNvSpPr/>
          <p:nvPr/>
        </p:nvSpPr>
        <p:spPr>
          <a:xfrm>
            <a:off x="4008600" y="907920"/>
            <a:ext cx="352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SPSO</a:t>
            </a:r>
            <a:endParaRPr b="0" lang="en-US" sz="2800" spc="-1" strike="noStrike">
              <a:solidFill>
                <a:srgbClr val="000000"/>
              </a:solidFill>
              <a:latin typeface="Calibri"/>
            </a:endParaRPr>
          </a:p>
        </p:txBody>
      </p:sp>
      <p:sp>
        <p:nvSpPr>
          <p:cNvPr id="1501" name="Rectangle 2"/>
          <p:cNvSpPr/>
          <p:nvPr/>
        </p:nvSpPr>
        <p:spPr>
          <a:xfrm>
            <a:off x="3821400" y="1432080"/>
            <a:ext cx="4804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cottish Public Services Ombudsman</a:t>
            </a:r>
            <a:endParaRPr b="0" lang="en-US" sz="2400" spc="-1" strike="noStrike">
              <a:solidFill>
                <a:srgbClr val="000000"/>
              </a:solidFill>
              <a:latin typeface="Calibri"/>
            </a:endParaRPr>
          </a:p>
        </p:txBody>
      </p:sp>
      <p:pic>
        <p:nvPicPr>
          <p:cNvPr id="1502" name="Picture 2" descr=""/>
          <p:cNvPicPr/>
          <p:nvPr/>
        </p:nvPicPr>
        <p:blipFill>
          <a:blip r:embed="rId1"/>
          <a:stretch/>
        </p:blipFill>
        <p:spPr>
          <a:xfrm>
            <a:off x="1774800" y="212760"/>
            <a:ext cx="2381400" cy="1219320"/>
          </a:xfrm>
          <a:prstGeom prst="rect">
            <a:avLst/>
          </a:prstGeom>
          <a:ln w="0">
            <a:noFill/>
          </a:ln>
        </p:spPr>
      </p:pic>
      <p:pic>
        <p:nvPicPr>
          <p:cNvPr id="1503" name="Picture 5" descr="A person smiling for the camera&#10;&#10;Description automatically generated"/>
          <p:cNvPicPr/>
          <p:nvPr/>
        </p:nvPicPr>
        <p:blipFill>
          <a:blip r:embed="rId2"/>
          <a:srcRect l="0" t="0" r="-29453" b="-23812"/>
          <a:stretch/>
        </p:blipFill>
        <p:spPr>
          <a:xfrm>
            <a:off x="1887480" y="1955880"/>
            <a:ext cx="3809880" cy="3809880"/>
          </a:xfrm>
          <a:prstGeom prst="rect">
            <a:avLst/>
          </a:prstGeom>
          <a:ln w="0">
            <a:noFill/>
          </a:ln>
        </p:spPr>
      </p:pic>
      <p:sp>
        <p:nvSpPr>
          <p:cNvPr id="1504" name="Rectangle 6"/>
          <p:cNvSpPr/>
          <p:nvPr/>
        </p:nvSpPr>
        <p:spPr>
          <a:xfrm>
            <a:off x="5527800" y="4718160"/>
            <a:ext cx="265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d21"/>
                </a:solidFill>
                <a:latin typeface="Arial"/>
              </a:rPr>
              <a:t>https://www.</a:t>
            </a:r>
            <a:r>
              <a:rPr b="1" lang="en-GB" sz="1800" spc="-1" strike="noStrike">
                <a:solidFill>
                  <a:srgbClr val="006d21"/>
                </a:solidFill>
                <a:latin typeface="Arial"/>
              </a:rPr>
              <a:t>spso</a:t>
            </a:r>
            <a:r>
              <a:rPr b="0" lang="en-GB" sz="1800" spc="-1" strike="noStrike">
                <a:solidFill>
                  <a:srgbClr val="006d21"/>
                </a:solidFill>
                <a:latin typeface="Arial"/>
              </a:rPr>
              <a:t>.org.uk</a:t>
            </a:r>
            <a:endParaRPr b="0" lang="en-US" sz="1800" spc="-1" strike="noStrike">
              <a:solidFill>
                <a:srgbClr val="000000"/>
              </a:solidFill>
              <a:latin typeface="Calibri"/>
            </a:endParaRPr>
          </a:p>
        </p:txBody>
      </p:sp>
      <p:sp>
        <p:nvSpPr>
          <p:cNvPr id="1505" name="Rectangle 7"/>
          <p:cNvSpPr/>
          <p:nvPr/>
        </p:nvSpPr>
        <p:spPr>
          <a:xfrm>
            <a:off x="5249880" y="255096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1" lang="en-US" sz="1800" spc="-1" strike="noStrike">
                <a:solidFill>
                  <a:srgbClr val="ffffff"/>
                </a:solidFill>
                <a:latin typeface="Arial"/>
              </a:rPr>
              <a:t>Scottish Public Services Ombudsman</a:t>
            </a:r>
            <a:r>
              <a:rPr b="0" lang="en-US" sz="1800" spc="-1" strike="noStrike">
                <a:solidFill>
                  <a:srgbClr val="ffffff"/>
                </a:solidFill>
                <a:latin typeface="Arial"/>
              </a:rPr>
              <a:t> (</a:t>
            </a:r>
            <a:r>
              <a:rPr b="1" lang="en-US" sz="1800" spc="-1" strike="noStrike">
                <a:solidFill>
                  <a:srgbClr val="ffffff"/>
                </a:solidFill>
                <a:latin typeface="Arial"/>
              </a:rPr>
              <a:t>SPSO</a:t>
            </a:r>
            <a:r>
              <a:rPr b="0" lang="en-US" sz="1800" spc="-1" strike="noStrike">
                <a:solidFill>
                  <a:srgbClr val="ffffff"/>
                </a:solidFill>
                <a:latin typeface="Arial"/>
              </a:rPr>
              <a:t>) is the organisation that handles complaints about public services in Scotland. The </a:t>
            </a:r>
            <a:r>
              <a:rPr b="0" lang="en-US" sz="1800" spc="-1" strike="noStrike" u="sng">
                <a:solidFill>
                  <a:srgbClr val="0000ff"/>
                </a:solidFill>
                <a:uFillTx/>
                <a:latin typeface="Arial"/>
                <a:hlinkClick r:id="rId3"/>
              </a:rPr>
              <a:t>Ombudsman</a:t>
            </a:r>
            <a:r>
              <a:rPr b="0" lang="en-US" sz="1800" spc="-1" strike="noStrike">
                <a:solidFill>
                  <a:srgbClr val="ffffff"/>
                </a:solidFill>
                <a:latin typeface="Arial"/>
              </a:rPr>
              <a:t> service is independent of government and with a duty to act impartially. </a:t>
            </a:r>
            <a:endParaRPr b="0" lang="en-US" sz="1800" spc="-1" strike="noStrike">
              <a:solidFill>
                <a:srgbClr val="000000"/>
              </a:solidFill>
              <a:latin typeface="Calibri"/>
            </a:endParaRPr>
          </a:p>
        </p:txBody>
      </p:sp>
      <p:sp>
        <p:nvSpPr>
          <p:cNvPr id="1506" name="Rectangle 8"/>
          <p:cNvSpPr/>
          <p:nvPr/>
        </p:nvSpPr>
        <p:spPr>
          <a:xfrm>
            <a:off x="2398320" y="5059440"/>
            <a:ext cx="216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Montserrat"/>
              </a:rPr>
              <a:t>Rosemary Agnew</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29T11:39:36Z</dcterms:created>
  <dc:creator>Davidson, Vivienne</dc:creator>
  <dc:description/>
  <dc:language>en-US</dc:language>
  <cp:lastModifiedBy>Murray, Janet</cp:lastModifiedBy>
  <dcterms:modified xsi:type="dcterms:W3CDTF">2022-02-15T10:10:29Z</dcterms:modified>
  <cp:revision>52</cp:revision>
  <dc:subject/>
  <dc:title>PowerPoint Presentation</dc:title>
</cp:coreProperties>
</file>