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D55F-7BDF-4AEF-A458-1F8DF3E1D909}"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684A-0CFF-4D6A-BF53-71D17299489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7B1C-C5E5-457A-B9C9-E540A400C4D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8F5D-5C19-43DF-83C2-9362743B64D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CC82-D5D3-482C-A6DF-E0D16D5C4EA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FBB5A-1B2E-4A6E-BDC3-91417DEBB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996BF-C0F7-43F7-8E0E-D4ADD1068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9938F-A6CB-4ABD-A7EC-AA6AC9730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65DE2-64C5-40FF-9C75-64A5F2999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617DEE-CCA1-44EC-A4F4-5A44FC8FC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3F639-E6CD-49DA-BDB0-4D975CBB7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0FA25-1C11-4308-9821-BCBF0FB54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1BDE4-63CF-4980-8D3F-38D751F5F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6E285-E23C-4470-92C9-174FCED4B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E46FC-17DB-4A3F-8C5D-46DF52EFB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EFD65-2A2A-49FD-A153-B03DEBEE6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0591B-99F3-439F-BEE0-411F566A0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2DE3A-03CC-4D67-8DD1-EF5B91394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1BB86-B637-4A3F-ACC6-60D6D8638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F1280-5852-4D4F-B734-86BD0B6C2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1504D7-028A-46DF-B18D-5C3B709BFD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49E1C-F88D-4271-B2B5-C214861DD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19E7F2-FF32-44B2-8029-78E911BCDF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FE6401-91BB-4D81-B1BD-8E11C8B944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0DEEED-4B5D-44AC-8D01-FBD53F4FD8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25C148-8B8F-4FC1-A0B3-4978D810B8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E842E5-6537-4289-99AE-AE867D26C6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07444-3219-4F5A-96B1-059041F63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135B9F-1A36-4449-ABA5-BEEE79B255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15FEC2-3BF6-4C62-9F74-439B9C176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ECB8FE-90CB-4D40-9AA5-B9FBAD4C9C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214E60-7BDC-4BAC-8893-CE98EBE3E4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B22449-4689-4FCA-8E4C-7D58B1F1A4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E9C914-7840-41DB-BEF7-0AE865B1DA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1FFA75-A16C-4D42-9C57-B821D529A4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5AFA8-8871-4FD4-9DFD-DCD830BD2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529F2-981C-4B86-8F9F-56D021082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71411-7095-49AA-BEF3-24075F37F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6EE9A-4960-4480-9E8B-606C50517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5BA14-3DAD-4B28-A7EF-B26D1723A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1C018-F866-49BA-86DB-3BEEEC17A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0CE0-E64E-4ED6-BD61-E28603F354F2}"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CBEA-1699-4E66-8C53-DD17ECC1AC91}"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BCEC-E813-4858-806D-3FC657119947}"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06/09/2023</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iller, Amanda</cp:lastModifiedBy>
  <cp:lastPrinted>2022-07-20T11:24:27Z</cp:lastPrinted>
  <dcterms:modified xsi:type="dcterms:W3CDTF">2023-09-06T12:05:24Z</dcterms:modified>
  <cp:revision>271</cp:revision>
  <dc:subject/>
  <dc:title>Slide 1</dc:title>
</cp:coreProperties>
</file>