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E166-0DDB-46DA-B14F-99CD202F022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483C-B63F-4A6E-8DFE-B2299A900B0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20DC-0879-479B-937E-DC8ADAF105E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11E1-79F8-47C1-BC27-F6702D23DEB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7FA1-892F-4888-83AC-3820FFE7EB3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955F5-E30F-435D-9BF6-ACF5FDFBA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9140C-A74B-48F1-8BE0-053C32B59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9F1BF-918F-413F-BABB-7B59E6C6A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C3A04-BC3E-4FC6-BB17-40E241A0B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1560A-3FAD-4186-ADA2-7BFEABA35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FACAA-8D69-481F-BBFD-1C8F8867E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4EABA-5F50-4757-8149-C6CC9FBB2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0BF55-1650-460A-9584-75D517CB3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89E91-1BA1-4D35-A6DE-6E04F2738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22860-E7F3-46D8-A0BC-1D53650B1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A8EF4-E644-4731-B97E-44239BE2C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8E530-8AC6-4DBE-BE04-40C8AF225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E62F5-BC23-4ECF-92F7-62CC795CD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AE62B-F24A-4DEB-9D77-B6E6B7C0E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E9BA8-9EE9-4616-8170-59D3B7176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11A4A2-D762-4547-B087-41CE32581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9D02D-9C46-460F-AEF0-FAF0C9CFB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F5D026-C72B-4AF6-ADDD-0790EA9AF3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FB26E-DB47-429B-8000-CA8920CD04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90152-4301-447C-85D3-A6F88AD243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CBF3D4-9722-4BB6-A9F8-AA992108F1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BDE748-2A93-456D-AC95-CFAF5A5F66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B8439-BCF1-4FE0-98C1-AA82753E6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0F50DF-5C30-46D9-B6FE-C0B518B02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3B65E-D725-4B99-A92F-3FFA6D9EF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1D3902-A135-4AA5-B16B-8AAC18859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EBE14-DA11-4C33-9AA1-5DA77D9AE7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1A05F7-076E-475E-9E80-C4BCF51564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1875A3-4524-4B46-A8E1-47BB5A5BF6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07EEC2-9CA0-46DE-8D8B-BFA2972CDE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D329D-318D-407E-901A-A4459F8D3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8442C-9CB2-43E0-9F50-5DDA0ADEB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EA8F1-37C1-4B91-AF0C-ED66B9743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B9A61-B83D-468B-9629-AF58529FE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B183C-4493-4E50-BAB7-FA3C2B68E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C5BE9-4C42-414C-BFFA-27DD45CDB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88ED-BF72-4C3E-82C7-476A3E056433}"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B2FC-FC6C-41DE-9AC2-BFE9ADED64E3}"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1767-87EE-4CE2-AA89-B8C25172D418}"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10</a:t>
            </a:r>
            <a:r>
              <a:rPr b="1" lang="en-GB" sz="2800" spc="-1" strike="noStrike" baseline="30000">
                <a:solidFill>
                  <a:srgbClr val="002060"/>
                </a:solidFill>
                <a:latin typeface="Comic Sans MS"/>
              </a:rPr>
              <a:t>th</a:t>
            </a:r>
            <a:r>
              <a:rPr b="1" lang="en-GB" sz="2800" spc="-1" strike="noStrike">
                <a:solidFill>
                  <a:srgbClr val="002060"/>
                </a:solidFill>
                <a:latin typeface="Comic Sans MS"/>
              </a:rPr>
              <a:t> of Aug 2022</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urray, Janet</cp:lastModifiedBy>
  <cp:lastPrinted>2022-07-20T11:24:27Z</cp:lastPrinted>
  <dcterms:modified xsi:type="dcterms:W3CDTF">2022-08-14T20:20:30Z</dcterms:modified>
  <cp:revision>270</cp:revision>
  <dc:subject/>
  <dc:title>Slide 1</dc:title>
</cp:coreProperties>
</file>