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EE66-1275-410D-BCF7-ED3473DA9CC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33A2-D6E0-482E-8847-3F6EC4DCE77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1227-C37D-4ECA-A252-6C9F817C6AB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276C-1EB1-4BA3-ABBC-CB9FA411B4B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FA14-17B2-4803-B05D-923F97E3735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A803A-CE57-4B83-8861-8CB5B3646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2B605-1FBF-42C7-BCA2-0B69D15B9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30028-B85E-4669-84ED-334665E0A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A851F-D1FB-455E-A5B2-B0BB5CCCF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12982-0C6C-4FBF-9E45-ACD0BB69A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000DE-5D6D-41A1-94D7-C6DCFF2EF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BABFE-5954-4021-B9C4-9A29E8C48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A4EB9-9BE4-4BF9-964D-A90CFFAEE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F238E-4F2C-45B9-A596-2C80E7DE2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92E42-133D-46F8-9275-982E200FE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03099-DF13-43DF-AF6F-8982C8950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11061-8B35-4DE7-844B-5728CD282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7DD6E-6C05-4ECC-A411-0615FF191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DB713-81D9-4340-966B-8BA48080D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036AB-BAAA-4E21-B31A-3F5B0CDCB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3CC69D-9881-4841-BB42-7FC67D17E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FA33F-D4B6-4296-8723-2DBA98C5E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70DE07-ED6F-473E-BE1F-A61C8E7CA2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503C62-F678-4BE4-97F9-581C9581B3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9AA126-0B89-4FDB-A939-2F733B0C27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E1AD71-2BCE-47FC-8DC2-1223178F27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EE0380-4E42-4BB8-BDBA-CFA5EF4169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FC0FD-800D-4F07-B095-AF2B5A9C5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B77146-F665-438D-9D91-DBAC75D5DB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255B5C-D90F-407F-97C4-9A97CE526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38425-4791-4892-8498-493A05915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DDB85-A523-4772-8116-A1874CE82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5DBED8-84CB-4468-B07F-6904F4F84D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1888E6-D649-454C-BD3C-1A1B6AE430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037E09-9C86-465E-97E1-8B70E8EC31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6CCD7-C46D-4ED5-B4A7-9D1CF93B5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AFD93-4443-476F-9F33-02D3252E8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32CEC-05B9-4E27-AE38-DF2A54834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CFB1D-D10D-4218-8939-A7007C4C5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1D6B9-AA25-404F-8543-257BB7F61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E83C5-B9C3-4299-80CB-8A95DE0D1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25C5-C65E-4517-A0A7-8C9BF93E80EF}"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0BA8-84B9-4C94-A2DE-EEFDF3BF0A42}"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C658-0D30-420E-A44A-6EA32F3E3D42}"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10</a:t>
            </a:r>
            <a:r>
              <a:rPr b="1" lang="en-GB" sz="2800" spc="-1" strike="noStrike" baseline="30000">
                <a:solidFill>
                  <a:srgbClr val="002060"/>
                </a:solidFill>
                <a:latin typeface="Comic Sans MS"/>
              </a:rPr>
              <a:t>th</a:t>
            </a:r>
            <a:r>
              <a:rPr b="1" lang="en-GB" sz="2800" spc="-1" strike="noStrike">
                <a:solidFill>
                  <a:srgbClr val="002060"/>
                </a:solidFill>
                <a:latin typeface="Comic Sans MS"/>
              </a:rPr>
              <a:t> of Aug 2022</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urray, Janet</cp:lastModifiedBy>
  <cp:lastPrinted>2022-07-20T11:24:27Z</cp:lastPrinted>
  <dcterms:modified xsi:type="dcterms:W3CDTF">2022-08-14T20:20:30Z</dcterms:modified>
  <cp:revision>270</cp:revision>
  <dc:subject/>
  <dc:title>Slide 1</dc:title>
</cp:coreProperties>
</file>