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610CB-70C9-4089-95A2-69D562189E9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2FADA-12C1-4465-87B3-6B6B895C0A2B}"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99FF3-ACE3-407B-A920-B0AEAE9B7DF8}"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D8348-92BE-4370-92C1-BBADAF007C7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B3D62-7D6F-4B1D-8233-2984F361F04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53EE7-321C-4703-96F6-9B372334E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164E3-3C83-4434-B0B6-72CB2394D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8E7F7-FE69-4664-AB3E-D577F223F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FB01B-0FB6-41B3-B508-D83ED1977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9E34A5-3FDB-4CEE-BB74-3DC3F853BC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D94D9-38B1-4A56-8C67-98693E1FEF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3CE48-4F1F-42A2-BEA9-4687DA3AF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B062C-AC9A-4C81-8D48-C3B39EBB2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A7031-6821-4C1B-AD24-DC0A6D2F13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7546A-BD07-4CA8-A04D-895636F6F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D4CDF-FA66-433E-BCDD-E544CBF48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430E5-FF5A-4FDB-A307-249AD3785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32BCE-2DC1-479E-B336-A4BB5AE8B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16691-27FC-4D97-9AE1-77020EA53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F7837-061F-461F-B7C2-BD7FE9A2A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D74A3-E3C3-4DDB-9127-C8191AE5BE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6FE545-301A-4C46-A7DD-9DA032F86B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1178B5-27B7-4C44-8EDF-902FC809FA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809320-C386-4CCF-830E-83A68B1075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F76A02-4AEF-4405-85E4-72EBBE1871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3A5632-E232-4C1F-97EA-FC16B0B364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B5E7A7-605B-4FEF-8645-399EF2BDD1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5A507-8A10-42D6-9A5C-985BD8F0F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445A60-3A72-4586-9136-1A4EB37C06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64E956-2C00-4D5D-B48C-C82B6CDEC2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8B8E94-99E5-4E1D-86F0-C58CE31500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2F5F1A-349E-4901-B032-91BAF3BF0B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F1B17B-0005-4B16-AE36-567C98901A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8C61D2-862A-4ACE-9525-A9E69A6F51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1F63F5-E49D-4A43-ADF5-BB4DC9AB03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65D25-DA56-4EB4-86A3-202155D4E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2ED85-C3A6-49D7-A320-5933110C0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F2042-520D-461A-9674-11431ED09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87840-EFFA-4D1B-B79F-8A0B091B6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F155A-196D-40D5-9B76-61D6AD5D5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58001-4602-493C-8E46-DA00D412FE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3681A-D748-4313-A042-78422148CEA7}"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0953E-A9C0-4EAA-93D4-F73456E1659D}"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30DE0-BC66-446E-8DD6-99EBC140E739}"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06/09/2023</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iller, Amanda</cp:lastModifiedBy>
  <cp:lastPrinted>2022-07-20T11:24:27Z</cp:lastPrinted>
  <dcterms:modified xsi:type="dcterms:W3CDTF">2023-09-06T12:05:24Z</dcterms:modified>
  <cp:revision>271</cp:revision>
  <dc:subject/>
  <dc:title>Slide 1</dc:title>
</cp:coreProperties>
</file>