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png" ContentType="image/pn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notesMasterIdLst>
    <p:notesMasterId r:id="rId38"/>
  </p:notesMasterIdLst>
  <p:sldIdLst>
    <p:sldId id="256" r:id="rId39"/>
    <p:sldId id="257" r:id="rId40"/>
    <p:sldId id="258" r:id="rId41"/>
    <p:sldId id="259" r:id="rId42"/>
    <p:sldId id="260" r:id="rId43"/>
    <p:sldId id="261" r:id="rId44"/>
    <p:sldId id="262" r:id="rId45"/>
    <p:sldId id="263" r:id="rId46"/>
    <p:sldId id="264" r:id="rId47"/>
    <p:sldId id="265" r:id="rId4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notesMaster" Target="notesMasters/notesMaster1.xml"/><Relationship Id="rId39" Type="http://schemas.openxmlformats.org/officeDocument/2006/relationships/slide" Target="slides/slide1.xml"/><Relationship Id="rId40" Type="http://schemas.openxmlformats.org/officeDocument/2006/relationships/slide" Target="slides/slide2.xml"/><Relationship Id="rId41" Type="http://schemas.openxmlformats.org/officeDocument/2006/relationships/slide" Target="slides/slide3.xml"/><Relationship Id="rId42" Type="http://schemas.openxmlformats.org/officeDocument/2006/relationships/slide" Target="slides/slide4.xml"/><Relationship Id="rId43" Type="http://schemas.openxmlformats.org/officeDocument/2006/relationships/slide" Target="slides/slide5.xml"/><Relationship Id="rId44" Type="http://schemas.openxmlformats.org/officeDocument/2006/relationships/slide" Target="slides/slide6.xml"/><Relationship Id="rId45" Type="http://schemas.openxmlformats.org/officeDocument/2006/relationships/slide" Target="slides/slide7.xml"/><Relationship Id="rId46" Type="http://schemas.openxmlformats.org/officeDocument/2006/relationships/slide" Target="slides/slide8.xml"/><Relationship Id="rId47" Type="http://schemas.openxmlformats.org/officeDocument/2006/relationships/slide" Target="slides/slide9.xml"/><Relationship Id="rId48" Type="http://schemas.openxmlformats.org/officeDocument/2006/relationships/slide" Target="slides/slide10.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47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78" name="PlaceHolder 2"/>
          <p:cNvSpPr>
            <a:spLocks noGrp="1"/>
          </p:cNvSpPr>
          <p:nvPr>
            <p:ph type="dt" idx="109"/>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9"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48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81" name="PlaceHolder 5"/>
          <p:cNvSpPr>
            <a:spLocks noGrp="1"/>
          </p:cNvSpPr>
          <p:nvPr>
            <p:ph type="ftr" idx="110"/>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82" name="PlaceHolder 6"/>
          <p:cNvSpPr>
            <a:spLocks noGrp="1"/>
          </p:cNvSpPr>
          <p:nvPr>
            <p:ph type="sldNum" idx="111"/>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8C58E-B965-4D8C-8E73-85A937DF89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685800" y="1143000"/>
            <a:ext cx="5486400" cy="3086280"/>
          </a:xfrm>
          <a:prstGeom prst="rect">
            <a:avLst/>
          </a:prstGeom>
          <a:ln w="0">
            <a:noFill/>
          </a:ln>
        </p:spPr>
      </p:sp>
      <p:sp>
        <p:nvSpPr>
          <p:cNvPr id="152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7050E-8A18-4FE5-AE9F-C81608EC33B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sldImg"/>
          </p:nvPr>
        </p:nvSpPr>
        <p:spPr>
          <a:xfrm>
            <a:off x="685800" y="1143000"/>
            <a:ext cx="5486400" cy="3086280"/>
          </a:xfrm>
          <a:prstGeom prst="rect">
            <a:avLst/>
          </a:prstGeom>
          <a:ln w="0">
            <a:noFill/>
          </a:ln>
        </p:spPr>
      </p:sp>
      <p:sp>
        <p:nvSpPr>
          <p:cNvPr id="15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CBF26-12AD-4E71-AFCE-BE9C37386DF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sldImg"/>
          </p:nvPr>
        </p:nvSpPr>
        <p:spPr>
          <a:xfrm>
            <a:off x="685800" y="1143000"/>
            <a:ext cx="5486400" cy="3086280"/>
          </a:xfrm>
          <a:prstGeom prst="rect">
            <a:avLst/>
          </a:prstGeom>
          <a:ln w="0">
            <a:noFill/>
          </a:ln>
        </p:spPr>
      </p:sp>
      <p:sp>
        <p:nvSpPr>
          <p:cNvPr id="15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EDDE4-F8B1-420F-A518-A1F1B1A8384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685800" y="1143000"/>
            <a:ext cx="5486400" cy="3086280"/>
          </a:xfrm>
          <a:prstGeom prst="rect">
            <a:avLst/>
          </a:prstGeom>
          <a:ln w="0">
            <a:noFill/>
          </a:ln>
        </p:spPr>
      </p:sp>
      <p:sp>
        <p:nvSpPr>
          <p:cNvPr id="151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CA8B4-A00C-447B-85FF-C29A736946D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sldImg"/>
          </p:nvPr>
        </p:nvSpPr>
        <p:spPr>
          <a:xfrm>
            <a:off x="685800" y="1143000"/>
            <a:ext cx="5486400" cy="3086280"/>
          </a:xfrm>
          <a:prstGeom prst="rect">
            <a:avLst/>
          </a:prstGeom>
          <a:ln w="0">
            <a:noFill/>
          </a:ln>
        </p:spPr>
      </p:sp>
      <p:sp>
        <p:nvSpPr>
          <p:cNvPr id="151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4D193-B712-4075-B008-14540A92959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sldImg"/>
          </p:nvPr>
        </p:nvSpPr>
        <p:spPr>
          <a:xfrm>
            <a:off x="685800" y="1143000"/>
            <a:ext cx="5486400" cy="3086280"/>
          </a:xfrm>
          <a:prstGeom prst="rect">
            <a:avLst/>
          </a:prstGeom>
          <a:ln w="0">
            <a:noFill/>
          </a:ln>
        </p:spPr>
      </p:sp>
      <p:sp>
        <p:nvSpPr>
          <p:cNvPr id="15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4D1D2-E2E4-4988-8010-C0E7833FCB4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F3B15D-4F10-4354-978B-37BBA10739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66B30-0890-4428-B2EF-FD39F0F03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9822B3-7FF9-478C-A328-DEA0089A50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96E55C-6DEF-47B1-B5DE-523B01FC34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2ABCC5-53AA-4AC4-AB68-2D981D66C5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F32525-0F81-482A-82AD-A660994673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08621E-BEFB-42BA-8A73-C4AA9F6023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99A4AD-9C1B-442E-94AB-28B8E8AE97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C5967D-4097-4904-BF8C-14CC88BE7C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1B58251-3BED-471E-8A8C-C7A125106F7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D4656F9-09D0-4C7B-AADA-DFB171B943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B7D8D96-7FDD-44D2-AC9E-EC9DA1C2A4B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B6F94-1F1C-419E-897E-1F578971E0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EC7DB69-CAFC-49F4-8775-F622242175D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A1A2368-3BF5-4746-90FF-C5CD4B43F96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2059A6F-8E67-4EC6-AB08-47E13A89EBA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2A36837-B962-4806-81EC-39717152BA5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CF4FBDA-A4CA-420F-83C0-876FD696220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B20DB3D-378E-45E6-9B0F-2254F14DA4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38F827B-8CC1-4531-9003-FB047E0440E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679E3F3-F447-4984-A95B-7022718E1BE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76B4A79-7277-43DE-BF4F-1E6966780A2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D4F2AEC-2FFE-4522-8E97-E7979C48CB3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DA9C87-3CA8-48FC-98FC-AB0E24704D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0C2359A-B75C-4644-996C-062114B9AC5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037E7B6-DAD8-4B8D-96D8-94CC95CBC8F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FEA69ED-B4D4-4585-AE02-9FE1E95F6B0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0C67BA6-FE1E-4C1F-8247-1CE59C05C4A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90CEB54-91E2-4DA0-8AA2-5EE123DB0D2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D45B4E2-8E03-4089-932B-0592A830D28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FC7F5FE-EDED-4D1B-9BFA-78FDE542752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AF9BC0A-8955-4B1D-9AAB-F14F6F9E33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70322AE-2F08-45CE-ADE9-512A4071D3D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BF6F48A-5AAF-4C7C-B8D8-B2EB7C96E4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516494-51BA-4A95-85BB-1C3F868AD8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7BEED60-3A50-44A5-8D6A-BAD16A9C196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9EC4427-2613-41B8-A812-A8F4612C784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4346E12-0FB6-40F9-8F6C-C81CC0A94E2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43B73CF-E663-4DA8-BA3F-C3B254EAA90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85E4B33-1968-43FB-ADF7-98A7AA458BF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DF0EFAF-ED26-48CC-9481-33EB83B8821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4B33C50-F8B2-4E41-AF20-E9852FAB494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B57776A-C240-44FD-AD5B-C77FB36199F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F5BBFC1-1FDE-483C-B0D0-55C02850377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47C9979-6AB5-48D1-B8DF-82D1BCFE1BC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313F9A-D148-4FBF-8F28-913C252F07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55E982D-82EE-48F3-80EB-39283A116A6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A1CAE0A-5842-4B4E-81C2-8DCB85F798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5C574DF-F85C-490D-A6D5-A83B605AB03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1840E79-363F-4DE4-ACF5-908668BCE8F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931BEEA-A3F1-4B22-BC75-2FF1C3F0C9A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A9D1FE3-0C04-45EC-8B99-7FB31BFECA8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B188799-C56B-4EDB-8A1A-97414292A6B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7618238-9449-4339-B8F1-1D5521E4E98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EF1977C-33D5-4ECF-A106-AF140114B7F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9F3A2C7-5B6C-4C94-B9D0-485CA2E891C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236B73-C28A-447A-9B74-C884FE2377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AA55805-62AF-4CB2-A1B4-37E7C3DD41D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CD4649B-6314-4FEB-AC6C-F46AD6C9E96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ED95C4C-5F0D-47F8-BF2A-896BCF131A7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EF2D463-F764-4375-A361-04AB75843E8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6A79083-8AD5-477F-A7E9-CC74B7CCB9F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BCE42D0-9A78-473D-AA3B-1EB20989D4C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9E8BA26-2D83-451E-B375-1505168B352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0795350-1C9E-4038-B1EA-368AC11CD0F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2465FB7-0DF6-4E5A-AD80-F30C3DB61E5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3237C8D-3CE9-426B-B95B-EE417738A26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2008B5-5D1C-4274-9029-AFF5AC0CED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145B642-62B7-41FC-8DC6-491C3ADB714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F81D2EF-0A2C-4CDB-BADE-3E744BA8ED2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F987317-15B2-46B3-8703-4787EB61314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1603584-B7D3-4F00-A096-8AF116D21CB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0BFAE81-03B8-441E-8F13-46E55E8E397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C3C9891-24E8-43F1-BA6B-C4BBC56CEF7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AC6D769-2AAA-4238-ABA0-2F1364823E5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AA4BCA1-515B-4134-9BD8-060BB3B027B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1660F42-1AA7-4271-8900-E629C64C501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2F9A0B8-ACCD-437A-B652-7FFEFB16549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77675D-A0FF-410A-A7D8-5281DD1895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80EB7AC-D9E6-4925-BD89-2301978AFEA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DD5F7CB-8505-4052-A6D5-8366FBD0D0E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88289F0-90B7-4258-8D45-6C019FD7A29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49ECEA1-BE31-4FFC-B7EB-3DE69F26AAD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04334EA-001D-4712-B4E3-02B7CACCEAE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8944350-D391-4485-B788-2B77824B1B6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16EE123-69A8-4B3E-85CE-035E36EFF28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443CD16-FFF2-41D8-B61C-B6B4E58CDA1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473A546-732C-4CF1-9FA7-4D35044CA0F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7572BF7-D45F-469F-9EDD-3E6339FFC33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D7E8C8-15B8-4B7B-AAEC-8C5F1A8D32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70D29BA-0049-482C-8CC8-5491D452CC2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ED0DFAC-7C27-4D02-85FF-B882FB81325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0A5C0B9-6A55-43CC-ACC6-9D38BCC3012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6B757FA-9B7F-4748-B385-FC69F173AF0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CEFF2D4-74A6-4A59-835E-FDDACC2DF68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C1AF3E9-F22D-4EC7-9180-BB48C8CD48D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B90F851-003C-486E-8CA3-7120EF70F58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A0F65C0-5ADA-48E5-A42F-72F1802DB9C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3942CB0-D69A-4D8D-AC52-D6E086F6320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CAA8F03-BF1B-4DD5-8651-8D0AFE50EBF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DCCAAE-F8A2-4B6E-B7E0-A0F54C653C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6C166AA-1B3C-4D91-A849-67C66FE293F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BD15443-327F-4553-816B-AF966222396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63486B5-E705-40FB-BAA3-E9C4D68C027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7BBEF66-FA97-44E4-AF44-DCA1302503A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A2B0DBC-B6A3-4912-A1CF-AB7C992D56E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249F96B-D70F-4607-BDB2-7EF17637599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C543B3E-4F5C-4505-9C2A-366E639678D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ED5A766-FC08-4B99-81BD-D34900BC4B6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6AC4253-AF8C-4331-BC64-1A211415FB5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DA2C85A-B1F8-4283-9BD7-3895B896371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C3F92-F2AD-4068-AAFD-C5BB5D6F6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47BD5-DB84-4E24-8814-3421FD81E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CC5F5D2-CE06-414E-9CEC-A525923B151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F29D1AB-BDFE-4533-8D33-E7F6338A450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CE1FC19-D396-4E12-82A0-E3E60981A4A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C9DC156-D8DB-4B98-BF8E-DF45E35E2AA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83708A8-A5AE-414C-8589-94F75DAB156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1439698-43EC-4CED-9742-226C5974FF8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F02F9D4-120D-4AEC-A131-C92FF2550D0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F0391A8-B9FC-4B9A-8DBA-B3C149ED271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F081A91-CB9F-48D2-8A3D-AB09E8A1311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189BEAD-BEF1-4512-9000-A8E767C287C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332B9-A13F-42BD-AD25-A82EFD9FF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E8CEE74-5142-4BE2-90CD-A6D620BD8DD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10AD861-75F5-4E9A-995F-70EFDA8A4D1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0791B16-3080-4958-9957-01BA4A2CCA6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099B605-C4E5-4A01-8F5F-8F794EB5D28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B0C8578-2775-4E3B-8C14-1F85693FD7A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D6A88639-6EBE-42A3-A842-78384BF4164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07C7FED-B02D-413C-93BF-7A57A8DBFA1F}"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66E4AD79-E0B2-458A-ADB7-1F479C4791C7}"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56210C0-1E9C-40B3-A98A-C8EE19F5D31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5B1A8F6-60C1-414D-A9F2-6277505E2E4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23135F-6DC2-434F-A5E9-C899C6C364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0B248C6-C983-4EE7-88F5-B046E9C2F43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1FCDBFF-73D1-4FCA-A784-8A73F06228A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96A3C29-7D01-44A9-B07C-8EEA9AEB1ED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49A4F3D-9A4E-47C4-B5E0-55DFE5361C9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8874D45-52E1-4E32-AF35-DCFE617D101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C79B92B-EA2E-45F3-9111-0FA383ECAFF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4EF7A89-688E-4676-B469-F0C9FC9A1A8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9F7FD755-C0E6-4A46-A3CD-DA864F5BE2DB}"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C46E362D-46AE-4360-A0DB-E61B19A28255}"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AD6980EB-9125-41EF-8AE7-AF535FEC7398}"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43CE72-15B5-4DD7-8894-E730F63B8A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518DD79-D28F-4F3D-998C-D74F8E2F680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44308C7-2D1A-49AA-B830-861D4B40415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666EEE2-949E-445F-B75B-1A0C59FD5D4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0094D54-7E52-4CBB-A4E9-4D719CE6115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140AD0C-D7ED-4E48-963A-AC02EA117E8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A6C9C72-5790-4E38-9BF7-1FFCCC064AC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EAB640A-4CB0-4E79-8187-AEA421E7DCC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5CBE871-1CF0-493A-A0AB-73BA6DAFE82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1A75CAC-180E-4E44-955B-B350E2BDCCC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E48A5E07-FD97-4E13-A74B-D59946B774D2}"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5919EA-99F8-4AE5-9C22-E1BAD69273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36561041-ABB8-4FBA-9388-98405A7BBF88}"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86F0D56A-4931-4281-B04D-F68BF38BD620}"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8BAE1AE-2F12-4C12-9BC4-C0D0872C479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EE0A6FE-BCFE-42A9-BDB3-5C28CE972CC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E5AD923-8162-4C8B-AAAD-48127988284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3ED8126-4C42-4663-ADD9-502F13B1BB8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C92B697-33C3-41A4-B5D5-39F50FF4C9B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6D14E74-2AE3-463D-AB8A-61BFA24AB0A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04183DA-EEAE-46B5-864F-C8255220C47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563DA96-B6D0-47C8-9159-A1085155851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DBD09E-F8CB-49D7-8C65-8FBE955552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7C10CFA-25EE-4F97-BCC7-D9F520A1092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D2BC8842-8987-447D-BDF9-4D605984806D}"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C1C185E2-95E3-4BD3-9A6E-A68ED8AF9A09}"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62E03A51-3C8D-4920-A0C3-5206B7AA5ED8}"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65050540-D2F9-4288-9829-C88D35472E8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1676E8A-C087-441F-8638-3831C9E5B27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7D8E976-1113-4065-9293-1B3A0DBEBA9F}"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B57D95F-C7D5-4427-93A4-5A6113D9777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E4E2B4B-25B0-4E6B-82A1-5083965DA07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AD86503-5253-4C49-A462-D18698C9524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2364A3-B403-4BCB-9D79-F32CD9A7D9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C1CAD58-B200-4DBD-9154-28BDEA867F1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307726B-288C-4509-8E69-B98AD28CDEF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DDAF712-521D-4150-A52B-B2804325B96F}"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BA30F2C5-71ED-42DE-8F25-9148CE7FD1A3}"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8C4561AA-9381-45FA-8C1F-090725D7437F}"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204C5EC4-8652-4E03-8492-3319B5E80D7D}"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771695A-14B1-4DB0-9288-4EF07637ACB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78E4C16-4936-43BE-ADBF-7A28F16765D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002778B2-8798-409E-9859-B2EF990D0B1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52866CD-3E96-4B5A-8EA5-890B1187DE5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898E0C-C674-4A7D-8905-191FB7CCB4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287520F-6485-4026-9772-73B05699CE4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853A2BE-6ADC-42B8-B11A-EB3958C7E30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828203B-A76F-47CD-8742-06D1D0EC599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FA5C0AE-D35B-4C86-8F07-2CDD7593BF6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6C99827-88EF-43C2-A45E-7AE53B3100A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0CA57068-F5AF-44D0-814A-066B8BD88AF6}"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6BC145F1-28D1-4E73-8E70-B3CB252F5570}"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2A4344A3-73BF-4F6A-A44E-2C9F8BEBD244}"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F9F034D2-F5BB-4B23-8C6B-22298FEFAF6C}"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23B49F3C-F5BD-4ABD-89BA-9FECFBF5DFB7}"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6235BD-2458-4FE8-8331-4141901528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2DFD20C-C47C-404C-93BE-9EFC8889C353}"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094CA6B7-C24A-4601-A0CE-90753C8C8AB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41B056C-6AE4-4157-B121-A36A8C5DD35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A4B0DA7-2577-4A1E-BDBB-78B6639D212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ADA9E97-95EE-47BF-8030-355CD0DBE5C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B45F607-1F36-41DA-A16F-89A6576AFB3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773EBB6-7084-4572-88BB-9709EB22481C}"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0C49FE2C-6262-4476-825D-45FB74D59E86}"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927CECDB-862A-41B2-9772-FB1950A0A9BD}"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D0B831DF-A7BB-44C9-8252-9BEC115EFA12}"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50C777-F5B4-4FCC-BB60-1B20890C28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87C5E056-A380-4A8A-A500-706797E6AD2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2254C446-246D-402E-9F4D-CA65592CA9E6}"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F175506-A1EB-44AF-981B-40D65E2E3BF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323CFF42-6A4B-48C3-B155-3F15ECEEF08B}"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CF50BE62-D68F-47DD-B98D-F596A5680AD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BD6D967-3BF9-4C9C-B775-27D37A8E068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AB165D9-827C-4E5A-962A-9666BB510B3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DA3FFED-6AD0-42B6-842C-8481A097B58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25EE1C8-1F01-47FD-BCE1-1DF3CB43AE0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FA81F386-E02C-4460-AD07-22AD739A09C6}"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B675C-7E0F-44CC-B73F-B5D1BC5DD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53BAF3-FCA0-4877-8991-CA6DD07599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B33C6C2E-3E9A-41CF-897A-A67CB67BF748}"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C09DF095-4348-4031-B630-3220B497038A}"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7C3A48F-049E-4845-AA7B-0A1BF2CED36D}"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9FF47A3C-7C0D-4A96-9E4E-8FDD822DA053}"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63F27265-D7F9-4328-BFAB-050AEC4C56A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83283384-9140-4345-B5EB-A079DB595132}"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BD5B622A-DAED-43F2-8D47-122E059EB079}"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0E7E24E-AACD-45F4-8A94-012A12DB001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2991D11-3382-4A27-B27D-6AE79BBFD47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1F170DD-B0D2-49DD-A548-C4F6E638EE5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4871D3-FB6D-4EC1-96E9-15F32327CC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63308F4A-868F-4E63-AF1F-5F03FB9533D3}"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574B9A03-91B9-4F57-A04B-62BDF6D70D2D}"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842E0946-B5B9-4429-8E31-2A59066F4653}"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9110593A-FA57-4F7E-8EBF-39447BF310FD}"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CFB543C5-61FB-4AE3-A4C7-AB55FCE5D964}"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A7F341B7-2570-4D82-B844-3C4E3F22A3B6}"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40CC8624-6097-4EAA-8E79-00AA4E4FE256}"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17DB463D-D908-4003-A047-B3A676B4EA0F}"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6D133DF1-4EA6-413C-8AD0-DA2412A1D852}"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E38C5991-2CC8-45D6-AB5D-6BDFD6DE47B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A794F0-8994-4A1E-BE09-E40573A56D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E78E89EA-EE89-4FD2-91D1-1D9E60C7263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08029E5-5828-4554-9972-CF2E6F3AD81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4C5AD320-C89D-4B55-A7F3-999AA686EA5D}"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0F43B178-8D91-4CAC-BCC1-6F90FB74698B}"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7ED6D743-B055-46FE-AB6A-6F5621179C77}"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26604DCF-F20C-4630-8DE6-CBA445AB0012}"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37AAAC6F-6A2E-4FA7-9BDA-66948019F65E}"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8C894881-FD21-4FBB-B3E4-24305BB85A26}"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F1AE9D91-A482-496B-9938-077648AA39A2}"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05AE6553-5A3E-4D24-8377-D67EE3794F05}"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6A1B21-DCE0-4242-8F32-FB9CFAB644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6EFFE9A8-A40A-4428-9492-011C4577DD14}"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A17518B-9034-4A8C-B058-F64ACD263ECA}"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3FAEEF6-0FD8-4459-8E2C-826F9635116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727D75D-DDE7-46EB-89D0-F94A23BC8A95}"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30E40F0F-30D2-49BB-B6B5-2C63A2B5114C}"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A7E899A6-6614-4F8D-9F96-76BCA6740426}"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75AC15AA-C0BC-459E-B24D-9BE1ECF87F54}"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CE19F10A-5070-4D12-B558-A05D5330BFD5}"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3235BD83-6B48-4084-8F21-EF968A5F6712}"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86B8F469-F09E-40AA-B079-437F26A05E9B}"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B93FD1-EFF8-4183-BA38-3BE6EE0EF1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6DE82773-018A-495A-B0B8-7F1D73511638}"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69814491-8D99-45D5-9D9D-4FD6D767EFD9}"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BF203B28-CEED-4E5A-A3EC-FBE58F85F78A}"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0F44A09A-F391-4788-AE0F-2ACED807D1B4}"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C1F7EE9-A68D-4207-921D-7A5A51783A57}"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B4221FCB-C2B2-4785-B121-76F84E58772D}"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B9FA9B84-6B5F-452E-ACFB-AA11CDD676E1}"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89D84722-C479-4F6E-922A-C22C4F51AE49}"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F23D4D2E-1FA9-4F55-B3B3-3772207C309E}"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7F679721-856E-4365-B797-CBA3CF159857}"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BD6D92-E7AE-4E9A-85FB-06F93F0359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167B8FFB-0438-4632-9CB6-A1A59C0E3BD1}"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EE36BC5E-A430-4228-A33B-3FDC1491CA6C}"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0F19AA09-D929-415B-B264-7DC758B99E77}"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8C375C28-4458-42DB-B224-95D084F894BD}"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F056DCCA-C563-4DED-BAAD-EABD3B658A3B}"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46D003E6-087D-460B-9E51-86F1C9C12ED5}"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F2D4D02-F4E0-4A21-8AAB-5B591FD38519}"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B358D16-6D6F-4111-9195-231F7C45F07D}"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3ECE99FD-C9E4-4AC7-BA7A-C05CCB410C13}"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3061E4AB-A335-48C2-A4D6-4F3A192A36E6}"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8A5B6A-7BFB-4DE9-8659-560FE09C41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6C765C6D-A912-4BA0-975B-C90C25B21FDD}"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E996FCDC-5C9D-467C-9755-956C440F6874}"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BE523BF8-2F7A-4023-B232-43C40BA6E78D}"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AAA107D8-AA8A-4AD9-BF06-4B5E40263BAB}"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30C1CF1B-9F86-41F4-9EFE-01B4C12C91FD}"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091ADF8D-1930-4E3D-B1DB-0EA55AAB9C4F}"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276A7AE3-734F-4016-A993-6512784404C9}"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174864E7-0885-44F1-91E4-5001ECB3A0B9}"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CA41BF6C-0C83-41B0-9736-CF6A4B81831C}"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3B763609-EC7B-46E0-A6F2-263C7DCFEAE6}"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95CCFB-C536-4828-A76D-DD6F7DF8EB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36935B98-B034-42B5-BC43-9E28FA9EDC0B}"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C9DF02E5-1A76-4FFF-9941-B8AA54BF8BD8}"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CF3D5156-5634-4111-9845-AD4816FE2D93}"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7B9535EA-C22B-44E3-9A69-B4FD12C38AA3}"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0A5A46D6-3A9D-4E94-B154-F38DDDE5035A}"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648A4E68-C941-494D-9AC3-5997151ECCCB}"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47C0F4CC-8BEC-4228-ACDD-F45BB674C1D4}"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B0C72315-FC94-4C4C-994B-C50447BA30CE}"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FC845513-DAEC-4B40-A7F5-9780392AC1E4}"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E872205A-59AC-4C4A-AC3F-1C7DF857FB0D}"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422022-7FDA-4F42-9163-3461B031F8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72ECB411-EA17-4A24-8BDB-7B2F0A1E8D26}"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50C6A3B0-A922-4438-ACC8-9B25A0CF5741}"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1BEFF94D-5DF7-43D0-8FF2-74C681970543}"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73DFE87A-90A4-4EA5-885A-4E754BA565AA}"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3489D574-05A6-4BFF-85A0-9F199438BE9D}"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973DCA32-B899-4A8E-B103-C7C03539A572}"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188C8FEA-8B9C-41D0-BBB6-F8E15DBF4D62}"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F4579A1D-7A74-4195-90E3-D0B015F801EE}"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730430D5-E74C-4D75-95DE-F25B5EBE99D0}"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D34F8ECF-9291-4B2A-BDC0-B8C1D0711481}"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E244CC-8842-491C-8347-7D10D10765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B355537D-3397-4C89-944B-FA9172F5FCBE}"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37DEB72E-B810-4C48-8ACC-019DB560C3CD}"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A662CD8E-D7A9-46F4-B545-8E38DBAFB5DE}"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1513891F-620D-4DF3-8B21-A102FAFB0A6B}"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DBD288CB-9E45-422D-A325-8E0B97AA3FB6}"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64795C85-759B-4E29-A23A-F8F21380A6AF}"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7075F06B-DDF8-4858-8488-53F0314FEFBD}"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D751CE0B-0F53-4A24-80CF-C1F643BCE534}"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BC4DAA69-1B1A-4C42-B6A3-A6398C528B17}"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2A6DDBFF-C597-41F5-A192-9DE1B1DB6F47}"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34F31-6C8B-451B-B9DC-E835A088D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C35317-7C5A-4F63-BF40-F709F44F51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2E37679D-3125-418E-87B9-62F3F394F4FB}"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0C71F4EA-562C-4160-8533-3EA64B2F95AD}"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5DD386C0-5AD8-42B1-8790-441EC30AABC1}"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4CE9C5EA-E8F8-4B01-967D-F098280BEC39}"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0D9F460B-F114-4179-9EC9-EB4AA45CB24F}"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A1CD1C64-6066-4E7D-9909-01934AA3CBF4}"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899C4CC7-3779-4E38-9482-D2514F45C0C5}"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7F1D8CD4-68AC-4F43-9CE0-BA549306FA78}"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53554937-95E9-4431-9DF4-1A39E6A356FD}"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467D4981-5251-4CDE-8584-B207F8B90627}"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8F80B4-D4FC-415C-B2AA-66A479263C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079A2B94-BFB2-421D-AD55-85FB04282C0B}"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5B158F7C-1E59-46B4-84BC-7B28FDCFA305}"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A86A8F64-E839-4C7E-835F-CB178929F1AF}"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6E2DB751-8D82-468A-B936-FDF03B94F028}"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6029DC15-DC75-45D0-ABA9-F775EF378593}"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492BE64C-ACD7-4D94-BD62-367AFE1ABDAD}"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89349358-DD8C-4E60-AC7C-C9D4B22E2DE6}"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698051DD-5190-487C-972B-319C00C6CE28}"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8F3AA6E2-B358-47C0-908E-A4B93B952AAF}"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3209EB6B-F08A-4116-90B6-8CCC678995EF}"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8FAF38-ED8F-48A1-88B9-6654A8ACA2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FA81804C-036B-4C75-8DDA-6AF094D3A5EA}"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C9459D00-9D15-41F9-ACC7-8B28CDA6D575}"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484E50AF-F3F8-4849-823E-5B4C01D16C09}"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D6B2D1FF-8BFD-4CE7-B2A5-D04D599E8C61}"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E722D07A-6DFD-4842-AA4A-EEEF5920D7EF}"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31C3ECD2-C673-48AD-AD9A-3EEBB327BD89}"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B378C540-F535-4294-B93C-E8768366C13B}"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D9F60206-D318-4A00-BD0D-9F952F42F0EE}"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E88C3CF0-D556-452F-BD38-77B8FEABD0A0}"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6D44FDA0-4FBD-4683-9EC3-08522D840393}"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0332F3-ABFA-4685-A46F-CF120F3219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91CECE33-9959-4AFD-822B-5D91B93CFD62}"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768EDB9A-CBA9-4CCB-8FD2-207D1ADA603F}"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0AEF5001-4046-47B5-9E38-BAD3907FF77B}"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6F1B97-8645-4909-949C-B12FC629D3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B587D2-59A3-4D9E-8736-CCDC5A33DB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38B2EA-56EC-4D38-8959-21323FA727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FDF377-A04E-4ADC-97EC-F108F95C79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0FA946-3EB2-4E8E-AA6B-9534228A7D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5D2ABC-D847-4F50-B381-5F97D8A81D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5B237-E929-433E-89EC-0007E9A45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90BE43-B705-4F21-A43F-C5DA3EB80D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595226-D12B-4C03-B494-ADA3D0E916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9852D9-904C-462F-8D49-AF6EE9C166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686B43-0588-43C2-947A-57AC2D33C9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87429B-2DAE-476E-A826-6BA18771AB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62121A-10E4-430E-BB36-5F7251DE72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56C6AE-4ED4-491A-A494-C63287EAE7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818933-3E60-483B-8EDC-692D5A68BD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F257F0-0A0A-409B-8817-89EDE73FEB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C691F8-95C4-429C-B947-D02C30A9B3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24644-CFBB-4083-85FD-56092BAAF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697D52-FDD0-4BFB-AD47-409CA2F617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670139-B025-4795-B591-9ABA4566C2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B3CEED-206F-4BF1-88BB-0D53D0B797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91D16C-E582-4E39-9FBB-A2EFAABD31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A6A2C6-C30A-4569-84C9-F5227FE823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B5BC43-B7BF-4DF1-8AA9-CB9E7AE5D2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2F17C4-0E14-4B90-8683-9DE2C18AE3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FDA5E6-C340-4A5B-A1C2-C9AC58625B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5EC8F5-EA0B-4F3D-975A-FB0607B316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147D2B-B990-4697-965D-7DCBC475C3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E8FD8-C88F-45C0-BDB6-73E78BD00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3BDD21-91EA-4E65-86DC-B16C143F2A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F2DAA1-7E6B-473A-BB10-32A382E417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755288-A0F9-4CA6-B6CD-8A3CB8D969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D557307-8222-40FC-88CB-9EFC7DB4B0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52DD46-9E24-453A-8058-A60E020700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78768B-2C28-4DAA-813B-F951E0558A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0FD4BE-175E-4D44-822C-285A2E0147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4056ED-67A3-4207-BCBF-7CA87490C6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BD2B39-B27D-4FBD-A42D-8EB94ABEC8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F9A92B-B372-4B21-BB2B-7DB68FF8EE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BE6DA-B038-4013-BD44-C44C2BAFE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B3DB2B-E846-40E0-96AF-18703C9549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C1FB8B-EE09-4BE4-94D5-0B85F56456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73B298-240F-4481-90E4-BDAD957BC5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4A3DB5-4D0E-48D2-B57A-CE2A3F2445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D9D85EB-C78E-43DD-9B7E-686231E49AC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7A4267-E73A-4939-8099-E4508B0890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E69641-4088-4493-A139-D47B2684AE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1E7673-B743-411E-BAFE-73926A7473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538FFD-0252-4B0F-B134-13F040AA0C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1A5D8E-C937-48F1-BE75-4C42D048F2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3979C-CB53-4468-92F6-66BF81BA0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881F3E-63E0-4162-BC7F-BF1B7D53CD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FB7113-4C1D-4073-B9EA-D042CD6541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CD967C-67A1-4BD5-AA09-FDE3C22D76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EB0CC4-48DA-4570-825C-5E9DF9ED85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0C1491-B8B6-445C-BDAF-497DFBC2B0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D271A9-E0B2-442A-AA7C-9444A25D8D2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97FD747-F7AD-4A9F-81A5-51827D00D46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93BA2B8-C382-4911-8F1B-A0F2D4868F0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3E28D9-1F1B-4D64-A396-8E0818247A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7FE20F-2709-459E-8565-1A34CF08CC6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2CAC9-5A6A-4FD8-A12B-7C46F64FE8FB}"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72" name="PlaceHolder 4"/>
          <p:cNvSpPr>
            <a:spLocks noGrp="1"/>
          </p:cNvSpPr>
          <p:nvPr>
            <p:ph type="ftr" idx="29"/>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3" name="PlaceHolder 5"/>
          <p:cNvSpPr>
            <a:spLocks noGrp="1"/>
          </p:cNvSpPr>
          <p:nvPr>
            <p:ph type="sldNum" idx="30"/>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839F4-0E43-4909-9CAA-DF77906325A6}"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13" name="PlaceHolder 4"/>
          <p:cNvSpPr>
            <a:spLocks noGrp="1"/>
          </p:cNvSpPr>
          <p:nvPr>
            <p:ph type="ftr" idx="3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PlaceHolder 5"/>
          <p:cNvSpPr>
            <a:spLocks noGrp="1"/>
          </p:cNvSpPr>
          <p:nvPr>
            <p:ph type="sldNum" idx="3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88124-84E9-4D9D-A08C-D991C33BDDFD}"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54" name="PlaceHolder 4"/>
          <p:cNvSpPr>
            <a:spLocks noGrp="1"/>
          </p:cNvSpPr>
          <p:nvPr>
            <p:ph type="ftr" idx="3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PlaceHolder 5"/>
          <p:cNvSpPr>
            <a:spLocks noGrp="1"/>
          </p:cNvSpPr>
          <p:nvPr>
            <p:ph type="sldNum" idx="3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3B10F-8D3C-4AEE-B6DD-8139CF7D55A3}"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95" name="PlaceHolder 4"/>
          <p:cNvSpPr>
            <a:spLocks noGrp="1"/>
          </p:cNvSpPr>
          <p:nvPr>
            <p:ph type="ftr" idx="3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PlaceHolder 5"/>
          <p:cNvSpPr>
            <a:spLocks noGrp="1"/>
          </p:cNvSpPr>
          <p:nvPr>
            <p:ph type="sldNum" idx="3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98A97-0F59-4B93-9BD3-28DD2C1AEB1F}"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dt" idx="4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536" name="PlaceHolder 4"/>
          <p:cNvSpPr>
            <a:spLocks noGrp="1"/>
          </p:cNvSpPr>
          <p:nvPr>
            <p:ph type="ftr" idx="4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PlaceHolder 5"/>
          <p:cNvSpPr>
            <a:spLocks noGrp="1"/>
          </p:cNvSpPr>
          <p:nvPr>
            <p:ph type="sldNum" idx="4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5221E-D72C-4F13-9E9F-1DCBE77D8281}"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6" name="PlaceHolder 3"/>
          <p:cNvSpPr>
            <a:spLocks noGrp="1"/>
          </p:cNvSpPr>
          <p:nvPr>
            <p:ph type="dt" idx="4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577" name="PlaceHolder 4"/>
          <p:cNvSpPr>
            <a:spLocks noGrp="1"/>
          </p:cNvSpPr>
          <p:nvPr>
            <p:ph type="ftr" idx="4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PlaceHolder 5"/>
          <p:cNvSpPr>
            <a:spLocks noGrp="1"/>
          </p:cNvSpPr>
          <p:nvPr>
            <p:ph type="sldNum" idx="4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E47D5-C375-4DE4-8527-171F79A2810E}"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dt" idx="4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618" name="PlaceHolder 4"/>
          <p:cNvSpPr>
            <a:spLocks noGrp="1"/>
          </p:cNvSpPr>
          <p:nvPr>
            <p:ph type="ftr" idx="4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9" name="PlaceHolder 5"/>
          <p:cNvSpPr>
            <a:spLocks noGrp="1"/>
          </p:cNvSpPr>
          <p:nvPr>
            <p:ph type="sldNum" idx="4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962A1-1F36-4647-B58A-D2C6A5C0EFAC}"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8" name="PlaceHolder 3"/>
          <p:cNvSpPr>
            <a:spLocks noGrp="1"/>
          </p:cNvSpPr>
          <p:nvPr>
            <p:ph type="dt" idx="49"/>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659" name="PlaceHolder 4"/>
          <p:cNvSpPr>
            <a:spLocks noGrp="1"/>
          </p:cNvSpPr>
          <p:nvPr>
            <p:ph type="ftr" idx="50"/>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0" name="PlaceHolder 5"/>
          <p:cNvSpPr>
            <a:spLocks noGrp="1"/>
          </p:cNvSpPr>
          <p:nvPr>
            <p:ph type="sldNum" idx="51"/>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86650-EB08-47CD-B54A-E8976ACA32C3}"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dt" idx="52"/>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700" name="PlaceHolder 4"/>
          <p:cNvSpPr>
            <a:spLocks noGrp="1"/>
          </p:cNvSpPr>
          <p:nvPr>
            <p:ph type="ftr" idx="53"/>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PlaceHolder 5"/>
          <p:cNvSpPr>
            <a:spLocks noGrp="1"/>
          </p:cNvSpPr>
          <p:nvPr>
            <p:ph type="sldNum" idx="54"/>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DFC7F-43FA-49E6-8F43-34A04C66525E}"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3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40" name="PlaceHolder 3"/>
          <p:cNvSpPr>
            <a:spLocks noGrp="1"/>
          </p:cNvSpPr>
          <p:nvPr>
            <p:ph type="dt" idx="55"/>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741" name="PlaceHolder 4"/>
          <p:cNvSpPr>
            <a:spLocks noGrp="1"/>
          </p:cNvSpPr>
          <p:nvPr>
            <p:ph type="ftr" idx="56"/>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PlaceHolder 5"/>
          <p:cNvSpPr>
            <a:spLocks noGrp="1"/>
          </p:cNvSpPr>
          <p:nvPr>
            <p:ph type="sldNum" idx="57"/>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A2B7F-6C78-4507-B5F2-692843032A18}"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4" name="PlaceHolder 4"/>
          <p:cNvSpPr>
            <a:spLocks noGrp="1"/>
          </p:cNvSpPr>
          <p:nvPr>
            <p:ph type="ftr" idx="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998B3-5B61-4E96-A08B-3E42FB697DB5}"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1" name="PlaceHolder 3"/>
          <p:cNvSpPr>
            <a:spLocks noGrp="1"/>
          </p:cNvSpPr>
          <p:nvPr>
            <p:ph type="dt" idx="58"/>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782" name="PlaceHolder 4"/>
          <p:cNvSpPr>
            <a:spLocks noGrp="1"/>
          </p:cNvSpPr>
          <p:nvPr>
            <p:ph type="ftr" idx="59"/>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3" name="PlaceHolder 5"/>
          <p:cNvSpPr>
            <a:spLocks noGrp="1"/>
          </p:cNvSpPr>
          <p:nvPr>
            <p:ph type="sldNum" idx="60"/>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54B41-7E78-43B2-AD81-E3436B7BDAB4}"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2" name="PlaceHolder 3"/>
          <p:cNvSpPr>
            <a:spLocks noGrp="1"/>
          </p:cNvSpPr>
          <p:nvPr>
            <p:ph type="dt" idx="6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823" name="PlaceHolder 4"/>
          <p:cNvSpPr>
            <a:spLocks noGrp="1"/>
          </p:cNvSpPr>
          <p:nvPr>
            <p:ph type="ftr" idx="6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4" name="PlaceHolder 5"/>
          <p:cNvSpPr>
            <a:spLocks noGrp="1"/>
          </p:cNvSpPr>
          <p:nvPr>
            <p:ph type="sldNum" idx="6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A887D-66AE-4277-A742-35AAD97E0A1C}"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3" name="PlaceHolder 3"/>
          <p:cNvSpPr>
            <a:spLocks noGrp="1"/>
          </p:cNvSpPr>
          <p:nvPr>
            <p:ph type="dt" idx="6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864" name="PlaceHolder 4"/>
          <p:cNvSpPr>
            <a:spLocks noGrp="1"/>
          </p:cNvSpPr>
          <p:nvPr>
            <p:ph type="ftr" idx="6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PlaceHolder 5"/>
          <p:cNvSpPr>
            <a:spLocks noGrp="1"/>
          </p:cNvSpPr>
          <p:nvPr>
            <p:ph type="sldNum" idx="6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8FB0E-A0B4-49EB-8FC7-442C6C39335E}"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4" name="PlaceHolder 3"/>
          <p:cNvSpPr>
            <a:spLocks noGrp="1"/>
          </p:cNvSpPr>
          <p:nvPr>
            <p:ph type="dt" idx="6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905" name="PlaceHolder 4"/>
          <p:cNvSpPr>
            <a:spLocks noGrp="1"/>
          </p:cNvSpPr>
          <p:nvPr>
            <p:ph type="ftr" idx="6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6" name="PlaceHolder 5"/>
          <p:cNvSpPr>
            <a:spLocks noGrp="1"/>
          </p:cNvSpPr>
          <p:nvPr>
            <p:ph type="sldNum" idx="6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2A78E-D4FE-41F8-A9F8-FB70D249F4FD}"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5" name="PlaceHolder 3"/>
          <p:cNvSpPr>
            <a:spLocks noGrp="1"/>
          </p:cNvSpPr>
          <p:nvPr>
            <p:ph type="dt" idx="7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946" name="PlaceHolder 4"/>
          <p:cNvSpPr>
            <a:spLocks noGrp="1"/>
          </p:cNvSpPr>
          <p:nvPr>
            <p:ph type="ftr" idx="7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7" name="PlaceHolder 5"/>
          <p:cNvSpPr>
            <a:spLocks noGrp="1"/>
          </p:cNvSpPr>
          <p:nvPr>
            <p:ph type="sldNum" idx="7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3D4C4-49C9-4282-AA3F-7570F9C23C85}"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6" name="PlaceHolder 3"/>
          <p:cNvSpPr>
            <a:spLocks noGrp="1"/>
          </p:cNvSpPr>
          <p:nvPr>
            <p:ph type="dt" idx="7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987" name="PlaceHolder 4"/>
          <p:cNvSpPr>
            <a:spLocks noGrp="1"/>
          </p:cNvSpPr>
          <p:nvPr>
            <p:ph type="ftr" idx="7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8" name="PlaceHolder 5"/>
          <p:cNvSpPr>
            <a:spLocks noGrp="1"/>
          </p:cNvSpPr>
          <p:nvPr>
            <p:ph type="sldNum" idx="7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00457-BD43-46EE-94E6-3A030AADDB49}"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2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27" name="PlaceHolder 3"/>
          <p:cNvSpPr>
            <a:spLocks noGrp="1"/>
          </p:cNvSpPr>
          <p:nvPr>
            <p:ph type="dt" idx="7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028" name="PlaceHolder 4"/>
          <p:cNvSpPr>
            <a:spLocks noGrp="1"/>
          </p:cNvSpPr>
          <p:nvPr>
            <p:ph type="ftr" idx="7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9" name="PlaceHolder 5"/>
          <p:cNvSpPr>
            <a:spLocks noGrp="1"/>
          </p:cNvSpPr>
          <p:nvPr>
            <p:ph type="sldNum" idx="7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55B42-261E-4B53-ABF7-672FDFE2573D}"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6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68" name="PlaceHolder 3"/>
          <p:cNvSpPr>
            <a:spLocks noGrp="1"/>
          </p:cNvSpPr>
          <p:nvPr>
            <p:ph type="dt" idx="79"/>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069" name="PlaceHolder 4"/>
          <p:cNvSpPr>
            <a:spLocks noGrp="1"/>
          </p:cNvSpPr>
          <p:nvPr>
            <p:ph type="ftr" idx="80"/>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0" name="PlaceHolder 5"/>
          <p:cNvSpPr>
            <a:spLocks noGrp="1"/>
          </p:cNvSpPr>
          <p:nvPr>
            <p:ph type="sldNum" idx="81"/>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D90CC-4096-4936-95F3-A762995AB2E0}"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0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09" name="PlaceHolder 3"/>
          <p:cNvSpPr>
            <a:spLocks noGrp="1"/>
          </p:cNvSpPr>
          <p:nvPr>
            <p:ph type="dt" idx="82"/>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110" name="PlaceHolder 4"/>
          <p:cNvSpPr>
            <a:spLocks noGrp="1"/>
          </p:cNvSpPr>
          <p:nvPr>
            <p:ph type="ftr" idx="83"/>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1" name="PlaceHolder 5"/>
          <p:cNvSpPr>
            <a:spLocks noGrp="1"/>
          </p:cNvSpPr>
          <p:nvPr>
            <p:ph type="sldNum" idx="84"/>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4A112-3CDF-46A4-B938-05C53E27608C}"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4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50" name="PlaceHolder 3"/>
          <p:cNvSpPr>
            <a:spLocks noGrp="1"/>
          </p:cNvSpPr>
          <p:nvPr>
            <p:ph type="dt" idx="85"/>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151" name="PlaceHolder 4"/>
          <p:cNvSpPr>
            <a:spLocks noGrp="1"/>
          </p:cNvSpPr>
          <p:nvPr>
            <p:ph type="ftr" idx="86"/>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2" name="PlaceHolder 5"/>
          <p:cNvSpPr>
            <a:spLocks noGrp="1"/>
          </p:cNvSpPr>
          <p:nvPr>
            <p:ph type="sldNum" idx="87"/>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7150F-9A16-4F19-BF40-09CB94E69022}"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85" name="PlaceHolder 4"/>
          <p:cNvSpPr>
            <a:spLocks noGrp="1"/>
          </p:cNvSpPr>
          <p:nvPr>
            <p:ph type="ftr" idx="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9AED2-A3D4-4630-9587-D6AF727FBD1F}"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9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91" name="PlaceHolder 3"/>
          <p:cNvSpPr>
            <a:spLocks noGrp="1"/>
          </p:cNvSpPr>
          <p:nvPr>
            <p:ph type="dt" idx="88"/>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192" name="PlaceHolder 4"/>
          <p:cNvSpPr>
            <a:spLocks noGrp="1"/>
          </p:cNvSpPr>
          <p:nvPr>
            <p:ph type="ftr" idx="89"/>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3" name="PlaceHolder 5"/>
          <p:cNvSpPr>
            <a:spLocks noGrp="1"/>
          </p:cNvSpPr>
          <p:nvPr>
            <p:ph type="sldNum" idx="90"/>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1C808-1D41-46CE-85A8-FCB2C63DC284}"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32" name="PlaceHolder 3"/>
          <p:cNvSpPr>
            <a:spLocks noGrp="1"/>
          </p:cNvSpPr>
          <p:nvPr>
            <p:ph type="dt" idx="9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233" name="PlaceHolder 4"/>
          <p:cNvSpPr>
            <a:spLocks noGrp="1"/>
          </p:cNvSpPr>
          <p:nvPr>
            <p:ph type="ftr" idx="9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4" name="PlaceHolder 5"/>
          <p:cNvSpPr>
            <a:spLocks noGrp="1"/>
          </p:cNvSpPr>
          <p:nvPr>
            <p:ph type="sldNum" idx="9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ABCDA-FA8A-46D5-9DCD-89CA5A04F5DC}"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3" name="PlaceHolder 3"/>
          <p:cNvSpPr>
            <a:spLocks noGrp="1"/>
          </p:cNvSpPr>
          <p:nvPr>
            <p:ph type="dt" idx="9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274" name="PlaceHolder 4"/>
          <p:cNvSpPr>
            <a:spLocks noGrp="1"/>
          </p:cNvSpPr>
          <p:nvPr>
            <p:ph type="ftr" idx="9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5" name="PlaceHolder 5"/>
          <p:cNvSpPr>
            <a:spLocks noGrp="1"/>
          </p:cNvSpPr>
          <p:nvPr>
            <p:ph type="sldNum" idx="9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0D690-D7D3-40A3-A686-B7A022461A05}"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4" name="PlaceHolder 3"/>
          <p:cNvSpPr>
            <a:spLocks noGrp="1"/>
          </p:cNvSpPr>
          <p:nvPr>
            <p:ph type="dt" idx="9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315" name="PlaceHolder 4"/>
          <p:cNvSpPr>
            <a:spLocks noGrp="1"/>
          </p:cNvSpPr>
          <p:nvPr>
            <p:ph type="ftr" idx="9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6" name="PlaceHolder 5"/>
          <p:cNvSpPr>
            <a:spLocks noGrp="1"/>
          </p:cNvSpPr>
          <p:nvPr>
            <p:ph type="sldNum" idx="9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259CB-D68A-40BA-B128-BF479F1A2E79}"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55" name="PlaceHolder 3"/>
          <p:cNvSpPr>
            <a:spLocks noGrp="1"/>
          </p:cNvSpPr>
          <p:nvPr>
            <p:ph type="dt" idx="10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356" name="PlaceHolder 4"/>
          <p:cNvSpPr>
            <a:spLocks noGrp="1"/>
          </p:cNvSpPr>
          <p:nvPr>
            <p:ph type="ftr" idx="10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7" name="PlaceHolder 5"/>
          <p:cNvSpPr>
            <a:spLocks noGrp="1"/>
          </p:cNvSpPr>
          <p:nvPr>
            <p:ph type="sldNum" idx="10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E3220-CF52-4970-BC68-9561027FC105}"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9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96" name="PlaceHolder 3"/>
          <p:cNvSpPr>
            <a:spLocks noGrp="1"/>
          </p:cNvSpPr>
          <p:nvPr>
            <p:ph type="dt" idx="10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397" name="PlaceHolder 4"/>
          <p:cNvSpPr>
            <a:spLocks noGrp="1"/>
          </p:cNvSpPr>
          <p:nvPr>
            <p:ph type="ftr" idx="10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8" name="PlaceHolder 5"/>
          <p:cNvSpPr>
            <a:spLocks noGrp="1"/>
          </p:cNvSpPr>
          <p:nvPr>
            <p:ph type="sldNum" idx="10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46232-F043-4BB1-A589-3CE429C9D962}"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3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37" name="PlaceHolder 3"/>
          <p:cNvSpPr>
            <a:spLocks noGrp="1"/>
          </p:cNvSpPr>
          <p:nvPr>
            <p:ph type="dt" idx="10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438" name="PlaceHolder 4"/>
          <p:cNvSpPr>
            <a:spLocks noGrp="1"/>
          </p:cNvSpPr>
          <p:nvPr>
            <p:ph type="ftr" idx="10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9" name="PlaceHolder 5"/>
          <p:cNvSpPr>
            <a:spLocks noGrp="1"/>
          </p:cNvSpPr>
          <p:nvPr>
            <p:ph type="sldNum" idx="10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D832C-DC99-43E1-9F9F-A52C2FAFE52E}"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26" name="PlaceHolder 4"/>
          <p:cNvSpPr>
            <a:spLocks noGrp="1"/>
          </p:cNvSpPr>
          <p:nvPr>
            <p:ph type="ftr" idx="1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89277-E67A-48DB-974F-A333AD015F97}"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67" name="PlaceHolder 4"/>
          <p:cNvSpPr>
            <a:spLocks noGrp="1"/>
          </p:cNvSpPr>
          <p:nvPr>
            <p:ph type="ftr" idx="1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CDC2F-50E8-47DE-8B1D-4DC24CABBC25}"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208" name="PlaceHolder 4"/>
          <p:cNvSpPr>
            <a:spLocks noGrp="1"/>
          </p:cNvSpPr>
          <p:nvPr>
            <p:ph type="ftr" idx="1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5"/>
          <p:cNvSpPr>
            <a:spLocks noGrp="1"/>
          </p:cNvSpPr>
          <p:nvPr>
            <p:ph type="sldNum" idx="1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E75CF-BC1E-480E-AF77-9B2D21693C8F}"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249" name="PlaceHolder 4"/>
          <p:cNvSpPr>
            <a:spLocks noGrp="1"/>
          </p:cNvSpPr>
          <p:nvPr>
            <p:ph type="ftr" idx="20"/>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21"/>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43DC4-7CEC-4BE3-BE2E-F8ABAD26B5AC}"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290" name="PlaceHolder 4"/>
          <p:cNvSpPr>
            <a:spLocks noGrp="1"/>
          </p:cNvSpPr>
          <p:nvPr>
            <p:ph type="ftr" idx="23"/>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PlaceHolder 5"/>
          <p:cNvSpPr>
            <a:spLocks noGrp="1"/>
          </p:cNvSpPr>
          <p:nvPr>
            <p:ph type="sldNum" idx="24"/>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611AF-3AFD-4314-A0D8-C0B1E1F7491D}"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31" name="PlaceHolder 4"/>
          <p:cNvSpPr>
            <a:spLocks noGrp="1"/>
          </p:cNvSpPr>
          <p:nvPr>
            <p:ph type="ftr" idx="26"/>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PlaceHolder 5"/>
          <p:cNvSpPr>
            <a:spLocks noGrp="1"/>
          </p:cNvSpPr>
          <p:nvPr>
            <p:ph type="sldNum" idx="27"/>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C49AB-9727-4361-AC68-7E2DDC55E38C}"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09.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0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2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0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hyperlink" Target="https://en.wikipedia.org/wiki/Ombudsman" TargetMode="External"/><Relationship Id="rId4" Type="http://schemas.openxmlformats.org/officeDocument/2006/relationships/slideLayout" Target="../slideLayouts/slideLayout3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395280" y="1184400"/>
            <a:ext cx="11366640" cy="3735360"/>
          </a:xfrm>
          <a:prstGeom prst="rect">
            <a:avLst/>
          </a:prstGeom>
          <a:noFill/>
          <a:ln w="0">
            <a:noFill/>
          </a:ln>
        </p:spPr>
        <p:txBody>
          <a:bodyPr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Calibri"/>
              </a:rPr>
              <a:t>NHSGGC </a:t>
            </a:r>
            <a:endParaRPr b="0" lang="en-US" sz="60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Calibri"/>
              </a:rPr>
              <a:t>Complaints Handling Procedure</a:t>
            </a:r>
            <a:endParaRPr b="0" lang="en-US" sz="6000" spc="-1" strike="noStrike">
              <a:solidFill>
                <a:srgbClr val="000000"/>
              </a:solidFill>
              <a:latin typeface="Calibri"/>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Calibri"/>
              </a:rPr>
              <a:t> </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507" name="TextBox 1"/>
          <p:cNvSpPr/>
          <p:nvPr/>
        </p:nvSpPr>
        <p:spPr>
          <a:xfrm>
            <a:off x="2098800" y="620640"/>
            <a:ext cx="789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Learning from Complaints</a:t>
            </a:r>
            <a:r>
              <a:rPr b="0" lang="en-GB" sz="2800" spc="-1" strike="noStrike">
                <a:solidFill>
                  <a:srgbClr val="ffffff"/>
                </a:solidFill>
                <a:latin typeface="Calibri"/>
              </a:rPr>
              <a:t> </a:t>
            </a:r>
            <a:endParaRPr b="0" lang="en-US" sz="2800" spc="-1" strike="noStrike">
              <a:solidFill>
                <a:srgbClr val="000000"/>
              </a:solidFill>
              <a:latin typeface="Calibri"/>
            </a:endParaRPr>
          </a:p>
        </p:txBody>
      </p:sp>
      <p:pic>
        <p:nvPicPr>
          <p:cNvPr id="1508" name="Picture 3" descr="A close up of a piece of paper&#10;&#10;Description automatically generated"/>
          <p:cNvPicPr/>
          <p:nvPr/>
        </p:nvPicPr>
        <p:blipFill>
          <a:blip r:embed="rId1"/>
          <a:srcRect l="0" t="0" r="-1157" b="-6968"/>
          <a:stretch/>
        </p:blipFill>
        <p:spPr>
          <a:xfrm>
            <a:off x="1549440" y="2179800"/>
            <a:ext cx="8740800" cy="4441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4" name="Rectangle 1"/>
          <p:cNvSpPr/>
          <p:nvPr/>
        </p:nvSpPr>
        <p:spPr>
          <a:xfrm>
            <a:off x="644400" y="2092320"/>
            <a:ext cx="10887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85" name="TextBox 2"/>
          <p:cNvSpPr/>
          <p:nvPr/>
        </p:nvSpPr>
        <p:spPr>
          <a:xfrm>
            <a:off x="653040" y="49356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The Process</a:t>
            </a:r>
            <a:endParaRPr b="0" lang="en-US" sz="3600" spc="-1" strike="noStrike">
              <a:solidFill>
                <a:srgbClr val="000000"/>
              </a:solidFill>
              <a:latin typeface="Calibri"/>
            </a:endParaRPr>
          </a:p>
        </p:txBody>
      </p:sp>
      <p:pic>
        <p:nvPicPr>
          <p:cNvPr id="1486" name="Picture 1" descr=""/>
          <p:cNvPicPr/>
          <p:nvPr/>
        </p:nvPicPr>
        <p:blipFill>
          <a:blip r:embed="rId1"/>
          <a:stretch/>
        </p:blipFill>
        <p:spPr>
          <a:xfrm>
            <a:off x="1596960" y="1319040"/>
            <a:ext cx="8489880" cy="478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7" name="TextBox 3"/>
          <p:cNvSpPr/>
          <p:nvPr/>
        </p:nvSpPr>
        <p:spPr>
          <a:xfrm>
            <a:off x="334800" y="415800"/>
            <a:ext cx="10983960" cy="569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Stage 1</a:t>
            </a: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arly resolution complaints that require little to no investig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g. – Waiting Time Complaints, Smoking &amp; Car Parking</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sponses can be shared via:</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Verbally, direct to complainant, via service</a:t>
            </a:r>
            <a:endParaRPr b="0" lang="en-US" sz="32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mail, direct to complainant, via Complaints Department</a:t>
            </a:r>
            <a:endParaRPr b="0" lang="en-US" sz="32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8" name="Rectangle 1" descr=""/>
          <p:cNvPicPr/>
          <p:nvPr/>
        </p:nvPicPr>
        <p:blipFill>
          <a:blip r:embed="rId1"/>
          <a:stretch/>
        </p:blipFill>
        <p:spPr>
          <a:xfrm>
            <a:off x="414360" y="682560"/>
            <a:ext cx="11539440" cy="8985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9" name="TextBox 2"/>
          <p:cNvSpPr/>
          <p:nvPr/>
        </p:nvSpPr>
        <p:spPr>
          <a:xfrm>
            <a:off x="369360" y="487440"/>
            <a:ext cx="11745000" cy="557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Stage 2</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tage 2 complaints are complex and require an in-depth investig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g. concerns about clinical care, disagreement with treatment plan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and complaints that have been escalated from Stage 1.</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sponses to Stage 2 complaints are via the service Director.</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solution should be reached within 20 working day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title"/>
          </p:nvPr>
        </p:nvSpPr>
        <p:spPr>
          <a:xfrm>
            <a:off x="195120" y="5364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I’m Sorry</a:t>
            </a:r>
            <a:endParaRPr b="0" lang="en-US" sz="3600" spc="-1" strike="noStrike">
              <a:solidFill>
                <a:srgbClr val="000000"/>
              </a:solidFill>
              <a:latin typeface="Calibri"/>
            </a:endParaRPr>
          </a:p>
        </p:txBody>
      </p:sp>
      <p:sp>
        <p:nvSpPr>
          <p:cNvPr id="1491" name="AutoShape 2"/>
          <p:cNvSpPr/>
          <p:nvPr/>
        </p:nvSpPr>
        <p:spPr>
          <a:xfrm>
            <a:off x="1587600" y="-14436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2" name="Rectangle 1"/>
          <p:cNvSpPr/>
          <p:nvPr/>
        </p:nvSpPr>
        <p:spPr>
          <a:xfrm>
            <a:off x="297000" y="1258920"/>
            <a:ext cx="6780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n apology is an imperfect response to the fact that we can never turn back the clock when things have gone wrong. We just have to deal with what is, and deal with it as well as we can.</a:t>
            </a:r>
            <a:endParaRPr b="0" lang="en-US" sz="2400" spc="-1" strike="noStrike">
              <a:solidFill>
                <a:srgbClr val="000000"/>
              </a:solidFill>
              <a:latin typeface="Calibri"/>
            </a:endParaRPr>
          </a:p>
        </p:txBody>
      </p:sp>
      <p:sp>
        <p:nvSpPr>
          <p:cNvPr id="1493" name="Rectangle 8"/>
          <p:cNvSpPr/>
          <p:nvPr/>
        </p:nvSpPr>
        <p:spPr>
          <a:xfrm>
            <a:off x="297000" y="3117960"/>
            <a:ext cx="6929280" cy="29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n apology is partly a statement of regret, and partly an acceptance of responsibility for things that have gone wrong. A </a:t>
            </a:r>
            <a:r>
              <a:rPr b="0" i="1" lang="en-GB" sz="2400" spc="-1" strike="noStrike">
                <a:solidFill>
                  <a:srgbClr val="ffffff"/>
                </a:solidFill>
                <a:latin typeface="Calibri"/>
              </a:rPr>
              <a:t>sincere</a:t>
            </a:r>
            <a:r>
              <a:rPr b="0" lang="en-GB" sz="2400" spc="-1" strike="noStrike">
                <a:solidFill>
                  <a:srgbClr val="ffffff"/>
                </a:solidFill>
                <a:latin typeface="Calibri"/>
              </a:rPr>
              <a:t> partial apology (“I’m truly sorry that this has happened”) is a statement of sorrow or regre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a:t>
            </a:r>
            <a:r>
              <a:rPr b="0" lang="en-GB" sz="2400" spc="-1" strike="noStrike">
                <a:solidFill>
                  <a:srgbClr val="ffffff"/>
                </a:solidFill>
                <a:latin typeface="Calibri"/>
              </a:rPr>
              <a:t>A </a:t>
            </a:r>
            <a:r>
              <a:rPr b="0" i="1" lang="en-GB" sz="2400" spc="-1" strike="noStrike">
                <a:solidFill>
                  <a:srgbClr val="ffffff"/>
                </a:solidFill>
                <a:latin typeface="Calibri"/>
              </a:rPr>
              <a:t>full</a:t>
            </a:r>
            <a:r>
              <a:rPr b="0" lang="en-GB" sz="2400" spc="-1" strike="noStrike">
                <a:solidFill>
                  <a:srgbClr val="ffffff"/>
                </a:solidFill>
                <a:latin typeface="Calibri"/>
              </a:rPr>
              <a:t> apology, by contrast, will include an explanation of what happened and acceptance of responsibility.</a:t>
            </a:r>
            <a:endParaRPr b="0" lang="en-US" sz="2400" spc="-1" strike="noStrike">
              <a:solidFill>
                <a:srgbClr val="000000"/>
              </a:solidFill>
              <a:latin typeface="Calibri"/>
            </a:endParaRPr>
          </a:p>
        </p:txBody>
      </p:sp>
      <p:pic>
        <p:nvPicPr>
          <p:cNvPr id="1494" name="Picture 1" descr=""/>
          <p:cNvPicPr/>
          <p:nvPr/>
        </p:nvPicPr>
        <p:blipFill>
          <a:blip r:embed="rId1"/>
          <a:stretch/>
        </p:blipFill>
        <p:spPr>
          <a:xfrm>
            <a:off x="7589880" y="1027080"/>
            <a:ext cx="4249800" cy="483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pic>
        <p:nvPicPr>
          <p:cNvPr id="1495" name="Picture 3" descr=""/>
          <p:cNvPicPr/>
          <p:nvPr/>
        </p:nvPicPr>
        <p:blipFill>
          <a:blip r:embed="rId1"/>
          <a:stretch/>
        </p:blipFill>
        <p:spPr>
          <a:xfrm>
            <a:off x="549360" y="1590840"/>
            <a:ext cx="4728960" cy="4255920"/>
          </a:xfrm>
          <a:prstGeom prst="rect">
            <a:avLst/>
          </a:prstGeom>
          <a:ln w="0">
            <a:noFill/>
          </a:ln>
        </p:spPr>
      </p:pic>
      <p:sp>
        <p:nvSpPr>
          <p:cNvPr id="1496" name="Rectangle 3"/>
          <p:cNvSpPr/>
          <p:nvPr/>
        </p:nvSpPr>
        <p:spPr>
          <a:xfrm>
            <a:off x="5514840" y="2089080"/>
            <a:ext cx="6199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im your apology at what actually happened. An apology is for a specific wrong or injury. It will miss its mark if the apologiser and the apologisee disagree about what went wrong.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his means understanding what happened </a:t>
            </a:r>
            <a:r>
              <a:rPr b="0" i="1" lang="en-GB" sz="2400" spc="-1" strike="noStrike">
                <a:solidFill>
                  <a:srgbClr val="ffffff"/>
                </a:solidFill>
                <a:latin typeface="Calibri"/>
              </a:rPr>
              <a:t>from the point of view of the patient or their supporters</a:t>
            </a:r>
            <a:r>
              <a:rPr b="0" lang="en-GB" sz="2400" spc="-1" strike="noStrike">
                <a:solidFill>
                  <a:srgbClr val="ffffff"/>
                </a:solidFill>
                <a:latin typeface="Calibri"/>
              </a:rPr>
              <a:t>, as well as seeing events from your own point of view.</a:t>
            </a:r>
            <a:endParaRPr b="0" lang="en-US" sz="2400" spc="-1" strike="noStrike">
              <a:solidFill>
                <a:srgbClr val="000000"/>
              </a:solidFill>
              <a:latin typeface="Calibri"/>
            </a:endParaRPr>
          </a:p>
        </p:txBody>
      </p:sp>
      <p:sp>
        <p:nvSpPr>
          <p:cNvPr id="1497" name="Title 4"/>
          <p:cNvSpPr/>
          <p:nvPr/>
        </p:nvSpPr>
        <p:spPr>
          <a:xfrm>
            <a:off x="4726080" y="237960"/>
            <a:ext cx="4976640" cy="11430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I’m Sorr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Impact of Complaints</a:t>
            </a:r>
            <a:endParaRPr b="0" lang="en-US" sz="4400" spc="-1" strike="noStrike">
              <a:solidFill>
                <a:srgbClr val="000000"/>
              </a:solidFill>
              <a:latin typeface="Calibri"/>
            </a:endParaRPr>
          </a:p>
        </p:txBody>
      </p:sp>
      <p:sp>
        <p:nvSpPr>
          <p:cNvPr id="1499" name=""/>
          <p:cNvSpPr txBox="1"/>
          <p:nvPr/>
        </p:nvSpPr>
        <p:spPr>
          <a:xfrm>
            <a:off x="609480" y="1600200"/>
            <a:ext cx="10972800" cy="470376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It is recognised that there is a negative stigma attached to complaints, and being complained about can impact negatively on individual staff members wellbeing.</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Being complained about can be scary and upsetting; we encourage line managers to take extra time with staff who have been named in a complaint to offer support, guidance and assistance in statement writing, if required.</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Open, timeous and honest communication is key; if a complaint has been completed the formal response should be shared with the members of staff named</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Learning from a complaint should be shared across the appropriate service, as well as with an individual.</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The Complaints Department are available to discuss the process in more detail with any member of staff that would find this helpfu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TextBox 1"/>
          <p:cNvSpPr/>
          <p:nvPr/>
        </p:nvSpPr>
        <p:spPr>
          <a:xfrm>
            <a:off x="4008600" y="907920"/>
            <a:ext cx="3527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SPSO</a:t>
            </a:r>
            <a:endParaRPr b="0" lang="en-US" sz="2800" spc="-1" strike="noStrike">
              <a:solidFill>
                <a:srgbClr val="000000"/>
              </a:solidFill>
              <a:latin typeface="Calibri"/>
            </a:endParaRPr>
          </a:p>
        </p:txBody>
      </p:sp>
      <p:sp>
        <p:nvSpPr>
          <p:cNvPr id="1501" name="Rectangle 2"/>
          <p:cNvSpPr/>
          <p:nvPr/>
        </p:nvSpPr>
        <p:spPr>
          <a:xfrm>
            <a:off x="3821400" y="1432080"/>
            <a:ext cx="480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Scottish Public Services Ombudsman</a:t>
            </a:r>
            <a:endParaRPr b="0" lang="en-US" sz="2400" spc="-1" strike="noStrike">
              <a:solidFill>
                <a:srgbClr val="000000"/>
              </a:solidFill>
              <a:latin typeface="Calibri"/>
            </a:endParaRPr>
          </a:p>
        </p:txBody>
      </p:sp>
      <p:pic>
        <p:nvPicPr>
          <p:cNvPr id="1502" name="Picture 2" descr=""/>
          <p:cNvPicPr/>
          <p:nvPr/>
        </p:nvPicPr>
        <p:blipFill>
          <a:blip r:embed="rId1"/>
          <a:stretch/>
        </p:blipFill>
        <p:spPr>
          <a:xfrm>
            <a:off x="1774800" y="212760"/>
            <a:ext cx="2381400" cy="1219320"/>
          </a:xfrm>
          <a:prstGeom prst="rect">
            <a:avLst/>
          </a:prstGeom>
          <a:ln w="0">
            <a:noFill/>
          </a:ln>
        </p:spPr>
      </p:pic>
      <p:pic>
        <p:nvPicPr>
          <p:cNvPr id="1503" name="Picture 5" descr="A person smiling for the camera&#10;&#10;Description automatically generated"/>
          <p:cNvPicPr/>
          <p:nvPr/>
        </p:nvPicPr>
        <p:blipFill>
          <a:blip r:embed="rId2"/>
          <a:srcRect l="0" t="0" r="-29453" b="-23812"/>
          <a:stretch/>
        </p:blipFill>
        <p:spPr>
          <a:xfrm>
            <a:off x="1887480" y="1955880"/>
            <a:ext cx="3809880" cy="3809880"/>
          </a:xfrm>
          <a:prstGeom prst="rect">
            <a:avLst/>
          </a:prstGeom>
          <a:ln w="0">
            <a:noFill/>
          </a:ln>
        </p:spPr>
      </p:pic>
      <p:sp>
        <p:nvSpPr>
          <p:cNvPr id="1504" name="Rectangle 6"/>
          <p:cNvSpPr/>
          <p:nvPr/>
        </p:nvSpPr>
        <p:spPr>
          <a:xfrm>
            <a:off x="5527800" y="4718160"/>
            <a:ext cx="265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d21"/>
                </a:solidFill>
                <a:latin typeface="Arial"/>
              </a:rPr>
              <a:t>https://www.</a:t>
            </a:r>
            <a:r>
              <a:rPr b="1" lang="en-GB" sz="1800" spc="-1" strike="noStrike">
                <a:solidFill>
                  <a:srgbClr val="006d21"/>
                </a:solidFill>
                <a:latin typeface="Arial"/>
              </a:rPr>
              <a:t>spso</a:t>
            </a:r>
            <a:r>
              <a:rPr b="0" lang="en-GB" sz="1800" spc="-1" strike="noStrike">
                <a:solidFill>
                  <a:srgbClr val="006d21"/>
                </a:solidFill>
                <a:latin typeface="Arial"/>
              </a:rPr>
              <a:t>.org.uk</a:t>
            </a:r>
            <a:endParaRPr b="0" lang="en-US" sz="1800" spc="-1" strike="noStrike">
              <a:solidFill>
                <a:srgbClr val="000000"/>
              </a:solidFill>
              <a:latin typeface="Calibri"/>
            </a:endParaRPr>
          </a:p>
        </p:txBody>
      </p:sp>
      <p:sp>
        <p:nvSpPr>
          <p:cNvPr id="1505" name="Rectangle 7"/>
          <p:cNvSpPr/>
          <p:nvPr/>
        </p:nvSpPr>
        <p:spPr>
          <a:xfrm>
            <a:off x="5249880" y="255096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1" lang="en-US" sz="1800" spc="-1" strike="noStrike">
                <a:solidFill>
                  <a:srgbClr val="ffffff"/>
                </a:solidFill>
                <a:latin typeface="Arial"/>
              </a:rPr>
              <a:t>Scottish Public Services Ombudsman</a:t>
            </a:r>
            <a:r>
              <a:rPr b="0" lang="en-US" sz="1800" spc="-1" strike="noStrike">
                <a:solidFill>
                  <a:srgbClr val="ffffff"/>
                </a:solidFill>
                <a:latin typeface="Arial"/>
              </a:rPr>
              <a:t> (</a:t>
            </a:r>
            <a:r>
              <a:rPr b="1" lang="en-US" sz="1800" spc="-1" strike="noStrike">
                <a:solidFill>
                  <a:srgbClr val="ffffff"/>
                </a:solidFill>
                <a:latin typeface="Arial"/>
              </a:rPr>
              <a:t>SPSO</a:t>
            </a:r>
            <a:r>
              <a:rPr b="0" lang="en-US" sz="1800" spc="-1" strike="noStrike">
                <a:solidFill>
                  <a:srgbClr val="ffffff"/>
                </a:solidFill>
                <a:latin typeface="Arial"/>
              </a:rPr>
              <a:t>) is the organisation that handles complaints about public services in Scotland. The </a:t>
            </a:r>
            <a:r>
              <a:rPr b="0" lang="en-US" sz="1800" spc="-1" strike="noStrike" u="sng">
                <a:solidFill>
                  <a:srgbClr val="0000ff"/>
                </a:solidFill>
                <a:uFillTx/>
                <a:latin typeface="Arial"/>
                <a:hlinkClick r:id="rId3"/>
              </a:rPr>
              <a:t>Ombudsman</a:t>
            </a:r>
            <a:r>
              <a:rPr b="0" lang="en-US" sz="1800" spc="-1" strike="noStrike">
                <a:solidFill>
                  <a:srgbClr val="ffffff"/>
                </a:solidFill>
                <a:latin typeface="Arial"/>
              </a:rPr>
              <a:t> service is independent of government and with a duty to act impartially. </a:t>
            </a:r>
            <a:endParaRPr b="0" lang="en-US" sz="1800" spc="-1" strike="noStrike">
              <a:solidFill>
                <a:srgbClr val="000000"/>
              </a:solidFill>
              <a:latin typeface="Calibri"/>
            </a:endParaRPr>
          </a:p>
        </p:txBody>
      </p:sp>
      <p:sp>
        <p:nvSpPr>
          <p:cNvPr id="1506" name="Rectangle 8"/>
          <p:cNvSpPr/>
          <p:nvPr/>
        </p:nvSpPr>
        <p:spPr>
          <a:xfrm>
            <a:off x="2398320" y="5059440"/>
            <a:ext cx="21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Montserrat"/>
              </a:rPr>
              <a:t>Rosemary Agne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0-29T11:39:36Z</dcterms:created>
  <dc:creator>Davidson, Vivienne</dc:creator>
  <dc:description/>
  <dc:language>en-US</dc:language>
  <cp:lastModifiedBy>Murray, Janet</cp:lastModifiedBy>
  <dcterms:modified xsi:type="dcterms:W3CDTF">2022-02-15T10:10:29Z</dcterms:modified>
  <cp:revision>52</cp:revision>
  <dc:subject/>
  <dc:title>PowerPoint Presentation</dc:title>
</cp:coreProperties>
</file>