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8" name="PlaceHolder 2"/>
          <p:cNvSpPr>
            <a:spLocks noGrp="1"/>
          </p:cNvSpPr>
          <p:nvPr>
            <p:ph type="dt" idx="10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1" name="PlaceHolder 5"/>
          <p:cNvSpPr>
            <a:spLocks noGrp="1"/>
          </p:cNvSpPr>
          <p:nvPr>
            <p:ph type="ftr" idx="11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2" name="PlaceHolder 6"/>
          <p:cNvSpPr>
            <a:spLocks noGrp="1"/>
          </p:cNvSpPr>
          <p:nvPr>
            <p:ph type="sldNum" idx="11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2D15-3565-4D8D-97C2-E23948623B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685800" y="1143000"/>
            <a:ext cx="5486400" cy="3086280"/>
          </a:xfrm>
          <a:prstGeom prst="rect">
            <a:avLst/>
          </a:prstGeom>
          <a:ln w="0">
            <a:noFill/>
          </a:ln>
        </p:spPr>
      </p:sp>
      <p:sp>
        <p:nvSpPr>
          <p:cNvPr id="1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E40F-60DA-40C3-9DEB-05C705B5C7B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685800" y="1143000"/>
            <a:ext cx="5486400" cy="3086280"/>
          </a:xfrm>
          <a:prstGeom prst="rect">
            <a:avLst/>
          </a:prstGeom>
          <a:ln w="0">
            <a:noFill/>
          </a:ln>
        </p:spPr>
      </p:sp>
      <p:sp>
        <p:nvSpPr>
          <p:cNvPr id="1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E0E0-6D01-432C-A43F-9CD50317B59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685800" y="1143000"/>
            <a:ext cx="5486400" cy="3086280"/>
          </a:xfrm>
          <a:prstGeom prst="rect">
            <a:avLst/>
          </a:prstGeom>
          <a:ln w="0">
            <a:noFill/>
          </a:ln>
        </p:spPr>
      </p:sp>
      <p:sp>
        <p:nvSpPr>
          <p:cNvPr id="1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0588-5492-4605-989F-B163FCDF6E5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685800" y="1143000"/>
            <a:ext cx="5486400" cy="3086280"/>
          </a:xfrm>
          <a:prstGeom prst="rect">
            <a:avLst/>
          </a:prstGeom>
          <a:ln w="0">
            <a:noFill/>
          </a:ln>
        </p:spPr>
      </p:sp>
      <p:sp>
        <p:nvSpPr>
          <p:cNvPr id="1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9DCB-FCC5-48B4-9757-879C338624E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685800" y="1143000"/>
            <a:ext cx="5486400" cy="3086280"/>
          </a:xfrm>
          <a:prstGeom prst="rect">
            <a:avLst/>
          </a:prstGeom>
          <a:ln w="0">
            <a:noFill/>
          </a:ln>
        </p:spPr>
      </p:sp>
      <p:sp>
        <p:nvSpPr>
          <p:cNvPr id="1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DB0F-127F-4897-AB7F-826BAC9D7D4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685800" y="1143000"/>
            <a:ext cx="5486400" cy="3086280"/>
          </a:xfrm>
          <a:prstGeom prst="rect">
            <a:avLst/>
          </a:prstGeom>
          <a:ln w="0">
            <a:noFill/>
          </a:ln>
        </p:spPr>
      </p:sp>
      <p:sp>
        <p:nvSpPr>
          <p:cNvPr id="1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9166-6126-4FE1-BB01-664D41C99AC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C8C74-DD1C-4AE0-8ACC-A9EEC6A09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97723-14F0-4D14-920E-7F834196E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9F71CB-0798-4018-B878-1C7EEFB244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94E69B-CAAF-472C-98E7-9829F7AE42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3A8C23-08EE-44E9-A80E-52E329D7B6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06C1F6-EB71-4E04-B8CB-59E63B8894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2FCDA1-16C1-4C99-8668-01AF2AA0CA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7EDE88-3B70-4A00-A5FE-2FAB09E677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492486-F22B-48D5-BBCF-5BA848C44E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D1A6D6-14A1-4783-B4DD-1927D191DF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AC5A69-31C3-457C-A720-A940C64E02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E8742D1-3B55-4448-99A5-6DC197B243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92E79-FF81-4206-AFB8-BC916DA7F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111F98-227C-4A92-9B31-FCB35D90EC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6DF0A2-5149-4C0C-865D-775D977209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82A0EC-C778-478F-8E43-6BA5F989E8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2ABAE8-710F-45A4-B17A-FBC71F23DA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0999CB-19D4-416D-8371-4175F44283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549BA2-837A-4F73-8471-D693F85396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4E4351-D004-4E62-A5A7-E359E116E1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49ADDE-CEB2-4BCC-8916-07DF10E037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AF5D2B-8730-4C51-8A02-4138DF27DA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46B3EC-6662-4153-83A8-12D3F678D22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23E52-4084-403C-8FD8-2F95AFE02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B536BCF-E10C-47F0-910A-5D1CEBC0E29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50C07F4-4DFB-4E26-B80D-B64DC5E5D61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EED2CC-21DA-461D-891C-6EC0453157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8B512B-3750-4EA1-8D1A-2C92C2351F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49FD89-BA73-426F-82BA-475AF47D5B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A05C6C-AE92-4E6E-9E1E-E255EA0AC9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03C16E-06D8-40F4-A7B2-9A061D4AD7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CE5A94-4EC2-4AF5-A228-260C0E9D0A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B93457-CC49-46FD-82EF-A374C54204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09AD18-D286-4DA8-B3E8-D06D7A8A15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85274-6020-4B9D-9EF6-FA95B449E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37443B-F7D2-426F-804D-AB117A65F4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BB34927-13FC-4188-A359-F8F31C45F8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ACD163-B3B6-4E3C-AD75-A5B1D04BD92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A29CDD-C730-4E9C-91DE-85A693BA12C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F490F73-824C-482F-83A2-70BB638C99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BE4AE3-F3B0-40B1-8E56-595CB716C8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173D58-1C0F-417A-A2DA-3874B0279A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77D2A8-1276-4CF6-B087-27769A9573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14D82B-E16B-4812-AC13-2A63864D0F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0A20B1-4788-4472-A065-50108E2E1D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7DF0B-DF1D-4107-86BD-F2D328CFF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56F5E8-11E8-4E06-8F01-BBD6B65FBE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298E1F-65C0-48FA-9030-D8CD441679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6FDBD6-B841-4076-B626-EB0365281C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1732D14-8128-488A-8538-9D2F7385A04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C88C94E-358C-43AB-8166-03DA0374F2D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11870A4-4596-4ED2-9221-2AB68D6E8D9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859670-2934-4ABD-80D8-7619CE604E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A9ECAC3-FCB7-4ED7-AC42-EEEA9AB741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F9C4485-47FE-40E5-8459-78F2E193038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559E8B5-860A-4145-A48F-66DE970589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1FFB5-47A5-487E-AF88-9F1C5C755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C6E3C85-7CDB-4B07-8666-F54D9A5BA8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4FED15-2B1B-4EC7-9A90-F3E151C8B5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C3AFE0-5669-49AC-B244-C4F77C3E8A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8A70D0-758B-492B-A7E3-9EC43DE6C9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F6E363-E0CD-4D6B-9BD4-4B8C314A60A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7ED7F14-CC85-4F0E-9571-38A94277BCC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86270C4-827D-44EF-BC0B-D4591A1A6E2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75876AF-F939-4AF3-B03C-748EE2E5FD1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5147CCF-1A85-481A-B7B9-BCC6DB82AC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11CE4EF-795B-485E-B0D9-4F650FBD0C9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6B602-2DC8-4FBA-AF60-59CB192F2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4BE3E77-95DA-49E7-94C3-32B69FF61A8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162E7A4-3AF8-4994-846E-2897C1D9DFB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D0EDF0-426E-4636-BA35-79DB703DB29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DE1FF3-1F5D-4221-BB79-24ED9C13118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694969D-C281-4410-B3C6-1360D3C76F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14A303F-4FD3-4324-8F85-0AD3A89654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3928077-A032-4246-BD79-F04D4C258BA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24A43D4-CF95-4A30-8959-127B4F4B447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CC95F12-BDA6-4B3D-9848-94FB1313830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828957C-6242-4E82-B078-DF722544A86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75987-33C7-46C8-AD38-02B40B75C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00B9146-5B55-4FB8-9A5C-F0304ECCCB0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4B39C82-FB00-4554-8087-DF78CA765E2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DF59E5B-8F00-458A-B61A-E6404BEC2C9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9E7CE1E-327B-4F93-883F-9E742DD7CFF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AFEADB5-5444-4AF3-96B8-EBA50AFE0AA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E0AE0F7-68A1-453C-95B3-635EF3B5F06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52626BD-B163-4B23-B70A-F5BDEB9070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7F65F0-E876-484C-B033-469F03725B7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6B8B9E6-9F50-4790-8AB2-C70A5D7BAC2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0327033-A44D-4CAD-9C63-C29A9CA9430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6C779-D861-4D61-A796-37F4237FD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F22E2EB-1EA8-4026-97DE-4F496E464B7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3E273BA-9300-4DE1-B1E7-29527DB49EF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875DA34-90C9-4179-95DB-919F4A1AA7D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27FB65C-EE8D-431F-A05D-249E089E04A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E2A6A6E-0A36-4EFA-BF5B-64C80999CB1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B8F4CAC-D5AA-4B59-B1FE-02C05B46A98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26BA482-F01F-4454-A875-35E436339FB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2020BDD-333D-431D-843A-B166723A395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C700CE-1B30-4D97-A5C2-C57330A4C02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FBB248F-FC66-439F-98FC-A0BF7A29F1C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901B5-A516-4F86-9A7D-C50F8C720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BC58F76-B439-4756-8DA1-03EF3C95246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21E0586-76E8-4004-BDAE-D0BF3982221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DC9341E-78F2-4E99-B1B5-CDD8DA03373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DBAB9BA-35E4-4B39-A85E-707EE2CAEA2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C5B8AD1-66B1-42BE-8F26-B3573478525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01528AB-148B-42DF-A008-A25BB6EF31A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4883EA7-418D-4E13-88F1-E341AE40611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49AA10C-96A0-48E2-A8DB-79927296E2D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1438063-C01D-41D1-B182-6119A804445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419B26A-A43B-4840-B26A-1FE4A06ACA7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47CF0-8FC3-4EA3-A7A3-FC2302771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E4CEC-1AD4-4720-869C-162765712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1C0CBD3-B502-4346-9223-CB4C858E850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99E39D7-CA48-4988-915E-458C2EA9048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5CD98C0-EC19-45A2-B86C-241B34A4F09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6DE1605-B59F-4118-BD03-F94E56A456F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7ECB60E-D18A-47B2-8B81-9F005571532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CA00DE0-9136-4F23-A13E-F6A722B368F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DA1450A-66B2-4046-9067-66D42E8644D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F200E2E-3EAE-41E9-93C6-CCC02E52441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B19980E-307A-4D4C-88E7-66EE3DC2837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621BDA4-975D-44CA-AE30-F293E6D3342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6593D-0465-45C0-A56A-09078D8D3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217E494-7AA8-44D5-A22A-F7367AF2272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B336C0D-945F-4BD6-83AC-0CFD1B525F4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C6BDEF7-21FA-4229-9873-E223BBB7E21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3CCC8EF-9746-4489-98F5-31B5DB6A545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89CA003-0A37-4A54-8EC2-C925BEA6D39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60F6843-48A7-45F5-929F-45038DC58D8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CD44253-42E9-444B-B70E-58EA73D874C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2FBA1B7-2A67-4560-B51B-6B46E88757A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BCFE6CA-FD56-4063-A54F-3703FF97E09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ED456F6-C7F3-4CE9-8CE6-DFEE26ADDD1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2F70C-E39D-4359-A028-A030B4394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32E3CC9-4385-4CD5-BC58-C27DE1FCC06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6E81B87-5FE3-46E8-96F6-82720D14C47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4BE484C-136D-41E8-ADFE-F5F8A000ACC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B1F2478-F363-41CA-B3A6-72F460CCB15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89C9A4A-483B-4C60-86B7-CA4FC129D5B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B6554EC-6917-48C9-BA3F-02E2B397E7D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B3C97E6-C45B-41C0-AAA1-F9DCFF9FCE4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1B4D671-0838-4C9B-9B1F-719E6CA0573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BCAD8CA-90EA-47B9-B38E-DD2F1FCFEA9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5E8362C-FE76-4173-9347-2F5ED088E81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A4227B-4BD6-44E1-A54F-E5AA3AD25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2546A87-45CF-4750-8579-5A10CA93829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041DB5E-C5A4-4B54-8195-E01FF16F24E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3383298-6128-41A2-90A3-FB30A416770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F371ACF-98BC-403D-8AA9-A98435A40A9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850CF91-38FF-43C4-AB9D-C98A138CF87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CB79960-686A-4552-9C45-7820B74CC74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F5FEF36-EDDF-4697-B4E1-344E440782F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A5D3392-144C-4BE1-9F8A-C2FDA893840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BEEB9BB-BCC6-4ED6-A391-7EABF0A7520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2C218ED-B494-418B-87EC-D72AF29AE67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F5C45-1362-4530-9966-E7CDC29E0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07F9EC8-D4AC-4DF0-BFD8-BBD20D1746D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4D594DD-1ECB-42C3-8C5C-DED35476BA4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32BC377-280B-4C14-BBC6-3A77B2B49B6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AE12BCE-D804-49FD-A772-CE2D6DF1B2A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EE62C5E-09FE-4102-B5AC-2C9C93AE6CB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8B5331A-FFBC-4178-9D80-BE4661F2803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30A0B74-DEBB-46B8-9C33-1EAE02C6757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EDD02F5-FA4D-42A2-B095-C6C2BC6253C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D97CFB5-330E-465E-A4F9-22434703C1A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BE3AE90-8804-4562-9F53-4D2A286ABBA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686673-984A-474C-BB75-845FBA1680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82C00C9-913F-4601-B2DA-6CCDACD2E64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EC79996-9F92-4417-AAEF-5F427C2E33C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B56D07E-FF10-48E1-9DA8-00EA10D9C5C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038436F-EEDB-493B-9151-7102CE54395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205042C-3777-4395-96DD-6165E28F962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3D7E765-6A1B-44DF-BDE1-D566462500E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A8F3196-6776-40E9-9046-8D9AED50F94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D7344DE-7E8C-42F1-9B2A-85320C39D44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2DBD5C3-6070-428F-83E2-27C07653CFB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1DA4F30-0542-443B-A84C-167A2287D93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925055-E3CE-476F-BAB4-BD88E77EE5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2957834-2586-426F-9E00-BDE28530AD0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BD915FA-FEA8-46E4-9471-F7B696C62BA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BCEA374-CDE1-4BA8-8786-0F782EACBF4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BD64FF2-2693-4F75-9215-927C7056228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C367784F-E110-448D-B504-9C888F85325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9A5EA20-D9B5-42D1-A831-928627B9AD7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7DD9D58-8CF9-48DE-9A5E-ECC195A19A8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8021782-32A9-45D2-B354-9E343C22AA1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C512864-B8E7-40C1-BE65-9D2C543ACEE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AF4BCC3-A8E6-4DE9-988B-E15C4DCC440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347E40-37F4-4848-A939-4F124BFB05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A13C0E8-BD8F-49E6-BBAC-80FE0FE5B17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D724658-B598-49F1-A107-A47910DF998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D48B559-5424-421B-986C-A6FEB500D22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60BFF07-5D30-41D5-9447-77DC1F7E90F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BCAC9B1-2E21-42D8-B900-602DC74D8BE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3E9A36A-93BD-41E8-885D-33168E521DD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074E75E-FEA8-440B-B69B-D6750C9F19C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95F0AA0-1325-42B6-A5A8-EEDC5074655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943A8E5-368E-4025-8ED9-25664C21B62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73DB8E0-6262-4ED0-A2A9-7A1642EF140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F400D9-A7C9-4320-8DDC-BD56E94FA2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26B6B3B-76C7-4EC7-9B53-042053097E3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6DE7131-4553-41D0-8C88-8B6938E33A1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91EDF31-1A33-485C-B82E-3A9E54EB147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727FAC8-E9EB-4FEE-9993-1DEC9466A29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CE32055-937A-4E94-860D-C915FAE337B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1F31BFB-9037-4561-8953-EDBA744B26C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B78B05E-6F57-4CF1-964C-6DEEF8F8D1A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88FE15A-3425-431A-B18F-3E803649F50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4A06A62-275A-4E34-8804-08D7AB088DE9}"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37DA044-2C1E-4CB1-8492-74F93B5F6E7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FC437E-95FD-4335-9744-11DBFA234E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BF0FD40-D681-471E-A1E2-0E023E0D22C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032A1A5-CF6A-45EA-89C7-46E53939103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FA87C52-41B2-4622-9AC0-261EB9B2268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D6E23EA-3B70-4C92-873D-259496BCE56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39D079D-5B2B-4981-B3C6-75BB54EF848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7943677-505A-4722-BB23-407A3636030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A55C103-1789-47E6-9620-48ACB993C9A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5231E85-CAA1-49D7-A16A-AC4A7C5C1D1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5445A3B-F4F5-4CB5-9566-552F27AAAE4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EC01BE1-0915-4AD2-91DD-DED8DCF6A47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4A0F1-8291-4054-851A-C7BBB03A4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293D64-23AF-4BA9-A16E-8EBFCC30C8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61BBFAD-8B57-47D5-B62E-CD7C81EABD4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96C1497-C3B1-40C5-A8E4-2B1BAAC75E0F}"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E8AE5F7-C580-47C6-B0D8-6327B3CE6D1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8ED557A-A92E-462B-83B6-2989119B666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FBE2BBC-C5AF-4555-ADE3-A7550E7DE0E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F2C6844-AD5F-458D-86A7-C944FA1EFBC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1FA19B0-648F-4D9B-BF89-220094A48A2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4F6775E-9303-4C8E-ABFA-0A39A11AF31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F7AD40C-B821-4023-9BAA-4FD47ACB29F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31F1971-80F8-4F0A-B84E-FD3E6E16712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65550-A1C8-48D3-B48A-DB7BEEDA4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F146B97-F702-4AB8-8A11-C7B01218196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2A3120A9-8326-4024-B3DB-EB316256DE6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05882B7-7BD0-43DB-BE78-E32B48A3833A}"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0429D1D3-C1ED-4AB1-84B4-AD41B9FEBAE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A8C4FB3-02D5-48A1-B14E-BB2068BB43B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E4EDC4B-1F84-4067-B0F4-0A7C98F6D4F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0091F22-B75B-41DC-A58C-E6FE0A7DECA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7F96E68-2505-4CE9-9059-1F676D730B7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AEF027F-4340-4C9C-A03D-3E1A044DE9E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CDD67B7-853C-4547-8B7F-0BEF0B42828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7152E-E4E0-40E7-AB50-DA1679FE72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9616A4E-C45E-4A99-8ED2-13074AC37B5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5439181-9F30-4EA3-82FA-7F028C03ACA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8687A0B-4773-4B0C-89E8-3756BCEB739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9A88B1D-20DF-4BE6-B398-4E21CFB12CE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5D6059D-7103-4EE3-B48B-CBC2CAB2CEC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0C36FAB-9EC8-4AC3-A6B3-D7DFF99ABEF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D0BE8FB-E04D-4A65-9715-4E28AA2FCB5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CE17AAD-64A8-4461-8E9B-1D4BA79CB79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CCE94E8-F815-4584-A7C1-574F3507BE0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151F306-DE0A-4541-ABD0-D005D5F47B7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91419-1E2C-4E15-9CD2-A7B8D94297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9C4FBA9-94C6-4FC0-8B1B-8FD684C70A9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39E0B38-F667-485E-8CD4-433A8665569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B59EE77-9902-4F3B-A26F-E893A79021B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B2A0B00-336F-47AB-97CD-C3D14DB8B7A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B5CB991-C1B8-4495-A406-7171083DBA5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AF2F46A-91BD-42DB-8FF6-17F83C8CB0D4}"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09FB49A-D2D4-468A-BE99-AAF42E4F84C1}"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60999C3D-47E1-42B0-977B-949ED5A524A1}"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5C17EFD-2831-4F6E-AEB3-E39B65633549}"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8BB96B9-F001-4130-B122-F58C3E3D3D9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CD58A2-2685-407A-B15F-C77B7FDEC1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2D8CE72F-F08E-4603-A8F1-BD1B165A282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BCB66F3-0E3C-4FF6-B92B-B4D635794BD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A5D4731-A724-411B-9066-6CB7EBBA0C0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2FE3AF7-B936-46A3-91A0-EE294D06835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899574A-FC2D-47AE-9C4C-F6774627790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0BFA852-EE7C-4E18-AC39-36F1A9B1585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B01ED12-02C6-48DB-8B4B-620F5A538A5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A71E989-674E-4A1C-B190-2740574E3360}"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90EF993-CCFD-419A-9740-D757F35F9B3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90D1ABF-9715-4CB6-882B-68737F814BC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16036E-17F2-4C5F-989A-B37305DD46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92F9A27-2945-432B-B2F6-935EADD0396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A15DE5E-3091-497E-A192-0521B743BE7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6721AF8-F32F-4C9D-AB81-C6C21CBC727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2AD54A6-4D5E-4D37-98CE-A6E00AB0FC3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BC0A52C-AA74-4088-9461-D9078FC6AA5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4BFEFC2-2599-4F46-841B-6754AA21B32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0BC4E5A-5A72-49E1-82C0-C77F1400A64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F6F3A03-CB13-4E73-B747-A0E3D8C6459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F557CE9-34A4-4911-98EF-53F60CE30AA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4AA9C965-7F65-416B-B074-EE4AE1E97FA4}"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B6EEBB-E0E1-40EF-ADE0-6D00384BD6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1B4F2AE-E8DF-44F3-8A75-8E5BDF37367B}"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A8EFD6BE-E65E-4439-A23E-7AAE82C30BC2}"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BDEC7CE-CDDB-4B3D-9F43-0D1AE9EDEA8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22CB79A-F061-46A4-8F9B-CD09942B8CE4}"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0F4D66E-6A88-4760-876E-5CFB3CAE6F3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DE5D083-C65D-4AAE-8464-0233F4ABE32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C5ABF29-1172-4424-AEC8-34630890702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AF99128-A9C6-41ED-84B9-8045793CE0F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6E69730-2A22-49F2-B3C3-74EBAED3D4F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CFB0139-0FC2-4C94-8D8A-23B11BFA04D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7FEF09-9A5E-43D2-BC97-C176AB8079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4264302-CD12-4D43-B0A9-DE6909CBDE1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5C331923-FF06-44BF-ACB1-5F64CFD9EC6C}"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9DA454EC-5BB4-4BBC-9512-FF8CF8F9166C}"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9F8C026-4C2B-434A-9AE1-0F6023848B44}"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355C539-CCD0-4A41-BE1C-CBF4BFB9DD8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9F46AE2-C39E-4DF3-9E7D-8BAAF28FF70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4D7520F-2C7E-43E8-80F0-CE77C84FDDDA}"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78FC59B-BCC1-418D-AB7E-7A59035F7EE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7B4564A3-6EEA-4A68-9CCA-A9482FDD54D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F0ACFEC-0804-4E30-B3A0-920DE4FAF97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AAD7F2-E3A3-4515-A75E-240D828D1E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488B6AE-CBB9-4CD2-A6ED-8D6D200A607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505C0F2-A5E7-491B-AC74-39E4D79BD23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8A896A3-A56B-4E27-9DB1-71790099104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4C1C4F50-37F7-4BF4-AFFB-0CF980ADB8C2}"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9F48D2A6-B583-432C-B9AA-50C814CB383A}"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46968883-5441-49EA-868B-6A71E978F40D}"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B315E3B-4CE3-4254-863C-8FBE5D2509D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42F37B5-5455-4241-98FB-0FAFA8C760E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541588C-0929-4AB1-BF74-BAA73485104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C5703FC-F6F3-44F3-B755-1265DE78D4C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7F0983-C490-4198-92A3-BA6D9636B9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B0F6283-0C93-4AFB-9015-875DAEFB8557}"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B84303D-F321-41B5-B919-0D790B42434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F43C42F-F1DB-4AD5-B5A8-43C5B81C0E7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DB846E5-3EF3-40C9-ACB0-9428CD79A65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EC6AA2E-DDD8-4A97-88C4-11E261C3611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A507A4BD-1B74-4299-BE9C-D40EABD07115}"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F6AFB370-1D69-4444-B978-1BAC9EF0A8C8}"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CA7A175B-6308-4C1B-96BA-E793F3D45E7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BFD769E4-B426-4865-AAFD-6E313A556E9F}"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2983906-1F09-454E-907A-1AF59F7C5F4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24FDF-5553-47B0-8ACB-F30C75122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06C80C-33A9-4BFA-B81D-A209A6F2D3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AAE5CF5-C227-402B-A8B2-73177F6E9D6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D6DB019-E2D2-43C3-BBD3-64AD6020383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B301656-E84D-45D4-BE8B-B19C0836CB2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62A3D02-E5FB-4371-930E-6A3D8D727C5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A7F7DA9-0FC7-4A2C-AA1C-776964CF72D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E0AF3EA0-5056-474B-AFE7-12DA9F2857F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2132123-5477-4CD0-B917-4FB8DE3F9880}"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1ED1C923-AF69-47CF-9927-A9BF8686595B}"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4669A9D8-1B22-4180-9F66-F600A0504856}"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E96E2B34-F60B-426C-8DEE-DD46C7B13787}"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7352B0-C502-4406-948C-714C8FCE08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A6A92B7-56C1-42E2-938A-A6CA6138E81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D600586-6E6D-46B0-8632-AE1D8093FE7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3E714BA9-63FB-43EC-9371-1722EC82558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AE1F221-62AC-4FBF-B2ED-5F9BF16343E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D535CCB-4D84-46F3-937A-215922081D0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5C9D9D8-FFEA-4A1C-895A-4A55516677A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F472106-52EE-4424-BBD7-51F7282F1A5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3612125-2D37-4C28-8DF1-6ADA0748452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2FF8C64-4B97-4900-87B6-F43EE1EB7F97}"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D789A3F-92D2-4D31-BF58-0A888DD9ED4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325364-D209-4D0B-8EB4-D3F6684D51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DE704A62-23DE-4C98-BFDE-9DBD3CAFBDB8}"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47A89C11-4D88-471C-BDEE-250362C1808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F92116F-080E-40BA-8C76-D8B7915A00A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70F4492-6BD2-4593-A9A9-7464A36FFAE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341F283-5E15-4FEB-8BC3-A9828AF47DE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81A7104-0D33-4F04-B9D9-25B91B70D4A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2BA81D75-4E39-4263-9DB6-1A1D48FE04C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C27D3EF-A655-462C-AD53-5F0EFDA81AE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82EEC91-5FCE-402F-A60F-2A17A4D54D9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DA326AB-91DD-4539-A0B7-04ED5FCACE4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59D42-72F8-4C07-8772-6F2CDE95DA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377A8020-4F22-45FF-AB2A-959EED5F539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EC4AC504-5639-4757-AFF5-4F618C11AA2C}"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8F8C5ADD-B503-4775-8F0F-1D374A31642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EEA0D4-658D-4648-A455-512FA94194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21E5A2-981A-4CA5-8CA3-62CFE6B9E1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E2C139-4EA6-4D2A-B018-DEDFBDFDEF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5FE073-B1B5-4A4C-9A9B-3FF2DBE7A8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3C3518-3481-4DCE-99A6-53DAD13DCC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10CFF9-C874-40F9-BAB3-794B70A17D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6CACB-3EC4-427D-8182-27D2B4B8B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95623A-2084-4160-9922-330D09AEEA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B21A6C-9B45-4929-B455-E1724BE227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F3E687-E5AE-4A05-8D46-8E3BC6055C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B34FAF-9DEF-430B-B36F-220B02EA9C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A6E4B8-BD05-4408-8902-EF5F66197E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42C7D-E39E-45F6-9247-97DC546C65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D9E8A-12CB-4C32-891E-CCC9DB1DA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3ACCBD-9921-4037-A404-ED5432BC1A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04752C-719B-4E54-8D40-1C313A725A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61D4A7-7CF1-417B-B572-2B7CFD6673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3B84E-A709-45C3-9746-F7390DA5A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9C6F33-CB87-4BC1-B4BE-58F3628CAC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C070DA-CCD4-468F-94EA-4DD62D1A36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29B26F-0319-4AA9-9052-A1AA30CBCE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7F42C2-20C7-460B-99E2-E88DE8C11C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1AF948-C909-490B-8B0A-B42DEBEE35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024CE4-0C41-4C89-8D19-12C6D07252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BC9650-EAFC-4007-B934-EF05C55B81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B34839-FFFA-440C-AD9F-DDE70977F6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CF9BDE-26B1-4EA4-BF68-82C8C2D8A3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20ABCE-DBB4-4862-AF02-4464AFB349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2468C-BC6E-4CBD-A6DE-D9A2A566C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FD46D4-68AF-4BB8-8429-224A384260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BAD94D-5EF1-4248-8E06-F56A527CD0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533676-4B18-49A9-9BF0-DFC5440388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9AC922-6D53-4D0D-AA91-AD50BFC06C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47FF7B-33E3-488B-8B46-BC6B319BFA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4D3837-0CF2-4945-AC22-8978BAA12C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A0D46C-1E15-4525-850B-DCDE4D6037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F4C088-AAC9-4E79-AEAA-0F02A67597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775F60-7246-4074-BB8B-2E63EA77A7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8F2D6F-FBE3-40B7-8E0D-69CBADD988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241CC-3CFA-4DB7-8A8E-4F4FE9D9D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46DA2B-9D94-4723-B8F4-8B741BA602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4826FF-E756-4B96-BC14-B1C53E1364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E07783-620F-40B4-A450-71DBFCE1C7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7EFD95-2C35-47E4-B46C-5332878BD3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665EFC-EECB-40D1-8404-F69E137FA6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F40CDD-8C43-423A-8FAC-073C15A3FD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172327-489E-4A36-84FA-25BFE7C705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5B7C07-4444-4C7C-AC0A-8ED26B5CBF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CE1856-49EF-4221-8C0F-ADA0B7ED13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1456B7-4F32-4B70-8A52-3E1A8646CE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33002-C596-4AEC-986E-0CE950539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CDF05E-E34F-4530-8DF4-AA78497224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AC05E1-99F7-4C7B-AD07-1F75D69260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5F3279-117A-4650-A037-75A769AD8D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57D9DA-9888-4C6C-AF03-93ECF7CB74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771AE4-C910-47B8-846F-829F7E933B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5ABDE1-5DD9-4D96-9676-1140D184DD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D1781D-2E2E-44DE-882F-EA9F603BF0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ED7A92-87D1-4CFF-A9E0-C71DA88F09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30F98F-336E-44DC-BE50-D015BAAF5B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EB24E6-1231-4AFC-9622-10DCAD8F3A4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B775-5BEF-42A6-A2D8-4069AC2F5D9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5033-EC10-462F-A5D0-5688768C873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E8A8F-37FC-4434-86E6-4DB967AEB60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F04F-830F-4242-99B0-5E3F7751C03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95" name="PlaceHolder 4"/>
          <p:cNvSpPr>
            <a:spLocks noGrp="1"/>
          </p:cNvSpPr>
          <p:nvPr>
            <p:ph type="ftr" idx="3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B5A8-BA21-4D9A-9A00-2D88B6E6CFE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36" name="PlaceHolder 4"/>
          <p:cNvSpPr>
            <a:spLocks noGrp="1"/>
          </p:cNvSpPr>
          <p:nvPr>
            <p:ph type="ftr" idx="4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BB5C-098C-4E7C-8E06-A487B87E1B2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77" name="PlaceHolder 4"/>
          <p:cNvSpPr>
            <a:spLocks noGrp="1"/>
          </p:cNvSpPr>
          <p:nvPr>
            <p:ph type="ftr" idx="4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0B2C-D3BF-4D7C-9FCE-1BE866B65E6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18" name="PlaceHolder 4"/>
          <p:cNvSpPr>
            <a:spLocks noGrp="1"/>
          </p:cNvSpPr>
          <p:nvPr>
            <p:ph type="ftr" idx="4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B317-D830-486B-80A6-CC7AC121062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59" name="PlaceHolder 4"/>
          <p:cNvSpPr>
            <a:spLocks noGrp="1"/>
          </p:cNvSpPr>
          <p:nvPr>
            <p:ph type="ftr" idx="5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46FC-7A15-4157-9515-1799AF25D00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00" name="PlaceHolder 4"/>
          <p:cNvSpPr>
            <a:spLocks noGrp="1"/>
          </p:cNvSpPr>
          <p:nvPr>
            <p:ph type="ftr" idx="5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36B6-43D5-4D30-92E0-153D1444630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41" name="PlaceHolder 4"/>
          <p:cNvSpPr>
            <a:spLocks noGrp="1"/>
          </p:cNvSpPr>
          <p:nvPr>
            <p:ph type="ftr" idx="5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3344-456A-42E9-8C69-1397E9DB39A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586A3-E9F2-4BAE-A972-BE5ACBB8AF0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82" name="PlaceHolder 4"/>
          <p:cNvSpPr>
            <a:spLocks noGrp="1"/>
          </p:cNvSpPr>
          <p:nvPr>
            <p:ph type="ftr" idx="5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5100-3685-462E-90E5-351C03DE787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23" name="PlaceHolder 4"/>
          <p:cNvSpPr>
            <a:spLocks noGrp="1"/>
          </p:cNvSpPr>
          <p:nvPr>
            <p:ph type="ftr" idx="6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DC47-5C32-4376-943D-6148D4038AA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64" name="PlaceHolder 4"/>
          <p:cNvSpPr>
            <a:spLocks noGrp="1"/>
          </p:cNvSpPr>
          <p:nvPr>
            <p:ph type="ftr" idx="6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16F4-A398-474A-8E59-52C78227447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05" name="PlaceHolder 4"/>
          <p:cNvSpPr>
            <a:spLocks noGrp="1"/>
          </p:cNvSpPr>
          <p:nvPr>
            <p:ph type="ftr" idx="6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42AC-096A-41F0-971B-E68B41819F7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46" name="PlaceHolder 4"/>
          <p:cNvSpPr>
            <a:spLocks noGrp="1"/>
          </p:cNvSpPr>
          <p:nvPr>
            <p:ph type="ftr" idx="7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13DB-E8FD-4421-B028-FD961F4FD88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87" name="PlaceHolder 4"/>
          <p:cNvSpPr>
            <a:spLocks noGrp="1"/>
          </p:cNvSpPr>
          <p:nvPr>
            <p:ph type="ftr" idx="7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C65F-DC0B-4A66-AF1E-A1CCBF0935B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28" name="PlaceHolder 4"/>
          <p:cNvSpPr>
            <a:spLocks noGrp="1"/>
          </p:cNvSpPr>
          <p:nvPr>
            <p:ph type="ftr" idx="7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247D-E456-4E8A-B125-8B25C0A1172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8" name="PlaceHolder 3"/>
          <p:cNvSpPr>
            <a:spLocks noGrp="1"/>
          </p:cNvSpPr>
          <p:nvPr>
            <p:ph type="dt" idx="7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69" name="PlaceHolder 4"/>
          <p:cNvSpPr>
            <a:spLocks noGrp="1"/>
          </p:cNvSpPr>
          <p:nvPr>
            <p:ph type="ftr" idx="8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AA33-532F-4EFB-9436-F258B6E740C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10" name="PlaceHolder 4"/>
          <p:cNvSpPr>
            <a:spLocks noGrp="1"/>
          </p:cNvSpPr>
          <p:nvPr>
            <p:ph type="ftr" idx="8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0E94-8ABD-4DA1-92CA-3B0398209F6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51" name="PlaceHolder 4"/>
          <p:cNvSpPr>
            <a:spLocks noGrp="1"/>
          </p:cNvSpPr>
          <p:nvPr>
            <p:ph type="ftr" idx="8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F9D48-5311-4525-89A4-FCA26182257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8DE1-8483-45DF-9E5D-46F72090B75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92" name="PlaceHolder 4"/>
          <p:cNvSpPr>
            <a:spLocks noGrp="1"/>
          </p:cNvSpPr>
          <p:nvPr>
            <p:ph type="ftr" idx="8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33C0D-8439-42F6-9EED-AE489C686C6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33" name="PlaceHolder 4"/>
          <p:cNvSpPr>
            <a:spLocks noGrp="1"/>
          </p:cNvSpPr>
          <p:nvPr>
            <p:ph type="ftr" idx="9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8AE9-9D7B-42CC-B8E7-BBD43B7C9A1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74" name="PlaceHolder 4"/>
          <p:cNvSpPr>
            <a:spLocks noGrp="1"/>
          </p:cNvSpPr>
          <p:nvPr>
            <p:ph type="ftr" idx="9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91D9-F42C-4A76-8D6E-33F76CE8A19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15" name="PlaceHolder 4"/>
          <p:cNvSpPr>
            <a:spLocks noGrp="1"/>
          </p:cNvSpPr>
          <p:nvPr>
            <p:ph type="ftr" idx="9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EE9F-88B6-46B9-A428-DD61482CC57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56" name="PlaceHolder 4"/>
          <p:cNvSpPr>
            <a:spLocks noGrp="1"/>
          </p:cNvSpPr>
          <p:nvPr>
            <p:ph type="ftr" idx="10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1F26-D9EF-435F-B3EA-D9CAD69158A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97" name="PlaceHolder 4"/>
          <p:cNvSpPr>
            <a:spLocks noGrp="1"/>
          </p:cNvSpPr>
          <p:nvPr>
            <p:ph type="ftr" idx="10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EB91-942D-4C94-B9AB-4C3221576C5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438" name="PlaceHolder 4"/>
          <p:cNvSpPr>
            <a:spLocks noGrp="1"/>
          </p:cNvSpPr>
          <p:nvPr>
            <p:ph type="ftr" idx="10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2EFE-5F8C-4F1B-B1CE-903E6AFDD28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2E84-58FE-444E-81C2-A80BAC84929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2C61-5CBB-4AB8-AC14-FECE56DE427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FF7F-08B8-48C3-8F0B-72EDDBD6883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62D6-65F7-4EC8-992A-7D1984F13A8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84F6-C454-44A4-9F87-3B37C433A49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64E40-AB0C-4DAA-A522-81FED375498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s://en.wikipedia.org/wiki/Ombudsman" TargetMode="External"/><Relationship Id="rId4" Type="http://schemas.openxmlformats.org/officeDocument/2006/relationships/slideLayout" Target="../slideLayouts/slideLayout3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395280" y="1184400"/>
            <a:ext cx="11366640" cy="37353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NHSGGC </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Complaints Handling Procedure</a:t>
            </a:r>
            <a:endParaRPr b="0" lang="en-US" sz="60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7" name="TextBox 1"/>
          <p:cNvSpPr/>
          <p:nvPr/>
        </p:nvSpPr>
        <p:spPr>
          <a:xfrm>
            <a:off x="2098800" y="620640"/>
            <a:ext cx="789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ing from Complaints</a:t>
            </a:r>
            <a:r>
              <a:rPr b="0" lang="en-GB" sz="2800" spc="-1" strike="noStrike">
                <a:solidFill>
                  <a:srgbClr val="ffffff"/>
                </a:solidFill>
                <a:latin typeface="Calibri"/>
              </a:rPr>
              <a:t> </a:t>
            </a:r>
            <a:endParaRPr b="0" lang="en-US" sz="2800" spc="-1" strike="noStrike">
              <a:solidFill>
                <a:srgbClr val="000000"/>
              </a:solidFill>
              <a:latin typeface="Calibri"/>
            </a:endParaRPr>
          </a:p>
        </p:txBody>
      </p:sp>
      <p:pic>
        <p:nvPicPr>
          <p:cNvPr id="1508" name="Picture 3" descr="A close up of a piece of paper&#10;&#10;Description automatically generated"/>
          <p:cNvPicPr/>
          <p:nvPr/>
        </p:nvPicPr>
        <p:blipFill>
          <a:blip r:embed="rId1"/>
          <a:srcRect l="0" t="0" r="-1157" b="-6968"/>
          <a:stretch/>
        </p:blipFill>
        <p:spPr>
          <a:xfrm>
            <a:off x="1549440" y="2179800"/>
            <a:ext cx="8740800" cy="44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4" name="Rectangle 1"/>
          <p:cNvSpPr/>
          <p:nvPr/>
        </p:nvSpPr>
        <p:spPr>
          <a:xfrm>
            <a:off x="644400" y="2092320"/>
            <a:ext cx="1088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5" name="TextBox 2"/>
          <p:cNvSpPr/>
          <p:nvPr/>
        </p:nvSpPr>
        <p:spPr>
          <a:xfrm>
            <a:off x="653040" y="4935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The Process</a:t>
            </a:r>
            <a:endParaRPr b="0" lang="en-US" sz="3600" spc="-1" strike="noStrike">
              <a:solidFill>
                <a:srgbClr val="000000"/>
              </a:solidFill>
              <a:latin typeface="Calibri"/>
            </a:endParaRPr>
          </a:p>
        </p:txBody>
      </p:sp>
      <p:pic>
        <p:nvPicPr>
          <p:cNvPr id="1486" name="Picture 1" descr=""/>
          <p:cNvPicPr/>
          <p:nvPr/>
        </p:nvPicPr>
        <p:blipFill>
          <a:blip r:embed="rId1"/>
          <a:stretch/>
        </p:blipFill>
        <p:spPr>
          <a:xfrm>
            <a:off x="1596960" y="1319040"/>
            <a:ext cx="8489880" cy="478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7" name="TextBox 3"/>
          <p:cNvSpPr/>
          <p:nvPr/>
        </p:nvSpPr>
        <p:spPr>
          <a:xfrm>
            <a:off x="334800" y="415800"/>
            <a:ext cx="109839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tage 1</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arly resolution complaints that require little to no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 Waiting Time Complaints, Smoking &amp; Car Parkin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can be shared via:</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rbally, direct to complainant, via service</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mail, direct to complainant, via Complaints Department</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Rectangle 1" descr=""/>
          <p:cNvPicPr/>
          <p:nvPr/>
        </p:nvPicPr>
        <p:blipFill>
          <a:blip r:embed="rId1"/>
          <a:stretch/>
        </p:blipFill>
        <p:spPr>
          <a:xfrm>
            <a:off x="414360" y="682560"/>
            <a:ext cx="11539440" cy="898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9" name="TextBox 2"/>
          <p:cNvSpPr/>
          <p:nvPr/>
        </p:nvSpPr>
        <p:spPr>
          <a:xfrm>
            <a:off x="369360" y="487440"/>
            <a:ext cx="11745000" cy="557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Stage 2</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ge 2 complaints are complex and require an in-depth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concerns about clinical care, disagreement with treatment pla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complaints that have been escalated from Stag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to Stage 2 complaints are via the service Directo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olution should be reached within 20 working day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195120" y="53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
        <p:nvSpPr>
          <p:cNvPr id="1491" name="AutoShape 2"/>
          <p:cNvSpPr/>
          <p:nvPr/>
        </p:nvSpPr>
        <p:spPr>
          <a:xfrm>
            <a:off x="15876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1"/>
          <p:cNvSpPr/>
          <p:nvPr/>
        </p:nvSpPr>
        <p:spPr>
          <a:xfrm>
            <a:off x="297000" y="1258920"/>
            <a:ext cx="6780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an imperfect response to the fact that we can never turn back the clock when things have gone wrong. We just have to deal with what is, and deal with it as well as we can.</a:t>
            </a:r>
            <a:endParaRPr b="0" lang="en-US" sz="2400" spc="-1" strike="noStrike">
              <a:solidFill>
                <a:srgbClr val="000000"/>
              </a:solidFill>
              <a:latin typeface="Calibri"/>
            </a:endParaRPr>
          </a:p>
        </p:txBody>
      </p:sp>
      <p:sp>
        <p:nvSpPr>
          <p:cNvPr id="1493" name="Rectangle 8"/>
          <p:cNvSpPr/>
          <p:nvPr/>
        </p:nvSpPr>
        <p:spPr>
          <a:xfrm>
            <a:off x="297000" y="3117960"/>
            <a:ext cx="692928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partly a statement of regret, and partly an acceptance of responsibility for things that have gone wrong. A </a:t>
            </a:r>
            <a:r>
              <a:rPr b="0" i="1" lang="en-GB" sz="2400" spc="-1" strike="noStrike">
                <a:solidFill>
                  <a:srgbClr val="ffffff"/>
                </a:solidFill>
                <a:latin typeface="Calibri"/>
              </a:rPr>
              <a:t>sincere</a:t>
            </a:r>
            <a:r>
              <a:rPr b="0" lang="en-GB" sz="2400" spc="-1" strike="noStrike">
                <a:solidFill>
                  <a:srgbClr val="ffffff"/>
                </a:solidFill>
                <a:latin typeface="Calibri"/>
              </a:rPr>
              <a:t> partial apology (“I’m truly sorry that this has happened”) is a statement of sorrow or regre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400" spc="-1" strike="noStrike">
                <a:solidFill>
                  <a:srgbClr val="ffffff"/>
                </a:solidFill>
                <a:latin typeface="Calibri"/>
              </a:rPr>
              <a:t>A </a:t>
            </a:r>
            <a:r>
              <a:rPr b="0" i="1" lang="en-GB" sz="2400" spc="-1" strike="noStrike">
                <a:solidFill>
                  <a:srgbClr val="ffffff"/>
                </a:solidFill>
                <a:latin typeface="Calibri"/>
              </a:rPr>
              <a:t>full</a:t>
            </a:r>
            <a:r>
              <a:rPr b="0" lang="en-GB" sz="2400" spc="-1" strike="noStrike">
                <a:solidFill>
                  <a:srgbClr val="ffffff"/>
                </a:solidFill>
                <a:latin typeface="Calibri"/>
              </a:rPr>
              <a:t> apology, by contrast, will include an explanation of what happened and acceptance of responsibility.</a:t>
            </a:r>
            <a:endParaRPr b="0" lang="en-US" sz="2400" spc="-1" strike="noStrike">
              <a:solidFill>
                <a:srgbClr val="000000"/>
              </a:solidFill>
              <a:latin typeface="Calibri"/>
            </a:endParaRPr>
          </a:p>
        </p:txBody>
      </p:sp>
      <p:pic>
        <p:nvPicPr>
          <p:cNvPr id="1494" name="Picture 1" descr=""/>
          <p:cNvPicPr/>
          <p:nvPr/>
        </p:nvPicPr>
        <p:blipFill>
          <a:blip r:embed="rId1"/>
          <a:stretch/>
        </p:blipFill>
        <p:spPr>
          <a:xfrm>
            <a:off x="7589880" y="1027080"/>
            <a:ext cx="424980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495" name="Picture 3" descr=""/>
          <p:cNvPicPr/>
          <p:nvPr/>
        </p:nvPicPr>
        <p:blipFill>
          <a:blip r:embed="rId1"/>
          <a:stretch/>
        </p:blipFill>
        <p:spPr>
          <a:xfrm>
            <a:off x="549360" y="1590840"/>
            <a:ext cx="4728960" cy="4255920"/>
          </a:xfrm>
          <a:prstGeom prst="rect">
            <a:avLst/>
          </a:prstGeom>
          <a:ln w="0">
            <a:noFill/>
          </a:ln>
        </p:spPr>
      </p:pic>
      <p:sp>
        <p:nvSpPr>
          <p:cNvPr id="1496" name="Rectangle 3"/>
          <p:cNvSpPr/>
          <p:nvPr/>
        </p:nvSpPr>
        <p:spPr>
          <a:xfrm>
            <a:off x="5514840" y="2089080"/>
            <a:ext cx="6199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im your apology at what actually happened. An apology is for a specific wrong or injury. It will miss its mark if the apologiser and the apologisee disagree about what went wro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understanding what happened </a:t>
            </a:r>
            <a:r>
              <a:rPr b="0" i="1" lang="en-GB" sz="2400" spc="-1" strike="noStrike">
                <a:solidFill>
                  <a:srgbClr val="ffffff"/>
                </a:solidFill>
                <a:latin typeface="Calibri"/>
              </a:rPr>
              <a:t>from the point of view of the patient or their supporters</a:t>
            </a:r>
            <a:r>
              <a:rPr b="0" lang="en-GB" sz="2400" spc="-1" strike="noStrike">
                <a:solidFill>
                  <a:srgbClr val="ffffff"/>
                </a:solidFill>
                <a:latin typeface="Calibri"/>
              </a:rPr>
              <a:t>, as well as seeing events from your own point of view.</a:t>
            </a:r>
            <a:endParaRPr b="0" lang="en-US" sz="2400" spc="-1" strike="noStrike">
              <a:solidFill>
                <a:srgbClr val="000000"/>
              </a:solidFill>
              <a:latin typeface="Calibri"/>
            </a:endParaRPr>
          </a:p>
        </p:txBody>
      </p:sp>
      <p:sp>
        <p:nvSpPr>
          <p:cNvPr id="1497" name="Title 4"/>
          <p:cNvSpPr/>
          <p:nvPr/>
        </p:nvSpPr>
        <p:spPr>
          <a:xfrm>
            <a:off x="4726080" y="237960"/>
            <a:ext cx="4976640" cy="11430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Impact of Complaints</a:t>
            </a:r>
            <a:endParaRPr b="0" lang="en-US" sz="4400" spc="-1" strike="noStrike">
              <a:solidFill>
                <a:srgbClr val="000000"/>
              </a:solidFill>
              <a:latin typeface="Calibri"/>
            </a:endParaRPr>
          </a:p>
        </p:txBody>
      </p:sp>
      <p:sp>
        <p:nvSpPr>
          <p:cNvPr id="1499" name=""/>
          <p:cNvSpPr txBox="1"/>
          <p:nvPr/>
        </p:nvSpPr>
        <p:spPr>
          <a:xfrm>
            <a:off x="609480" y="1600200"/>
            <a:ext cx="10972800" cy="47037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t is recognised that there is a negative stigma attached to complaints, and being complained about can impact negatively on individual staff members wellbe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eing complained about can be scary and upsetting; we encourage line managers to take extra time with staff who have been named in a complaint to offer support, guidance and assistance in statement writing, if requir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Open, timeous and honest communication is key; if a complaint has been completed the formal response should be shared with the members of staff nam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earning from a complaint should be shared across the appropriate service, as well as with an individual.</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Complaints Department are available to discuss the process in more detail with any member of staff that would find this helpfu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Box 1"/>
          <p:cNvSpPr/>
          <p:nvPr/>
        </p:nvSpPr>
        <p:spPr>
          <a:xfrm>
            <a:off x="4008600" y="907920"/>
            <a:ext cx="352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SPSO</a:t>
            </a:r>
            <a:endParaRPr b="0" lang="en-US" sz="2800" spc="-1" strike="noStrike">
              <a:solidFill>
                <a:srgbClr val="000000"/>
              </a:solidFill>
              <a:latin typeface="Calibri"/>
            </a:endParaRPr>
          </a:p>
        </p:txBody>
      </p:sp>
      <p:sp>
        <p:nvSpPr>
          <p:cNvPr id="1501" name="Rectangle 2"/>
          <p:cNvSpPr/>
          <p:nvPr/>
        </p:nvSpPr>
        <p:spPr>
          <a:xfrm>
            <a:off x="3821400" y="143208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cottish Public Services Ombudsman</a:t>
            </a:r>
            <a:endParaRPr b="0" lang="en-US" sz="2400" spc="-1" strike="noStrike">
              <a:solidFill>
                <a:srgbClr val="000000"/>
              </a:solidFill>
              <a:latin typeface="Calibri"/>
            </a:endParaRPr>
          </a:p>
        </p:txBody>
      </p:sp>
      <p:pic>
        <p:nvPicPr>
          <p:cNvPr id="1502" name="Picture 2" descr=""/>
          <p:cNvPicPr/>
          <p:nvPr/>
        </p:nvPicPr>
        <p:blipFill>
          <a:blip r:embed="rId1"/>
          <a:stretch/>
        </p:blipFill>
        <p:spPr>
          <a:xfrm>
            <a:off x="1774800" y="212760"/>
            <a:ext cx="2381400" cy="1219320"/>
          </a:xfrm>
          <a:prstGeom prst="rect">
            <a:avLst/>
          </a:prstGeom>
          <a:ln w="0">
            <a:noFill/>
          </a:ln>
        </p:spPr>
      </p:pic>
      <p:pic>
        <p:nvPicPr>
          <p:cNvPr id="1503" name="Picture 5" descr="A person smiling for the camera&#10;&#10;Description automatically generated"/>
          <p:cNvPicPr/>
          <p:nvPr/>
        </p:nvPicPr>
        <p:blipFill>
          <a:blip r:embed="rId2"/>
          <a:srcRect l="0" t="0" r="-29453" b="-23812"/>
          <a:stretch/>
        </p:blipFill>
        <p:spPr>
          <a:xfrm>
            <a:off x="1887480" y="1955880"/>
            <a:ext cx="3809880" cy="3809880"/>
          </a:xfrm>
          <a:prstGeom prst="rect">
            <a:avLst/>
          </a:prstGeom>
          <a:ln w="0">
            <a:noFill/>
          </a:ln>
        </p:spPr>
      </p:pic>
      <p:sp>
        <p:nvSpPr>
          <p:cNvPr id="1504" name="Rectangle 6"/>
          <p:cNvSpPr/>
          <p:nvPr/>
        </p:nvSpPr>
        <p:spPr>
          <a:xfrm>
            <a:off x="5527800" y="4718160"/>
            <a:ext cx="26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d21"/>
                </a:solidFill>
                <a:latin typeface="Arial"/>
              </a:rPr>
              <a:t>https://www.</a:t>
            </a:r>
            <a:r>
              <a:rPr b="1" lang="en-GB" sz="1800" spc="-1" strike="noStrike">
                <a:solidFill>
                  <a:srgbClr val="006d21"/>
                </a:solidFill>
                <a:latin typeface="Arial"/>
              </a:rPr>
              <a:t>spso</a:t>
            </a:r>
            <a:r>
              <a:rPr b="0" lang="en-GB" sz="1800" spc="-1" strike="noStrike">
                <a:solidFill>
                  <a:srgbClr val="006d21"/>
                </a:solidFill>
                <a:latin typeface="Arial"/>
              </a:rPr>
              <a:t>.org.uk</a:t>
            </a:r>
            <a:endParaRPr b="0" lang="en-US" sz="1800" spc="-1" strike="noStrike">
              <a:solidFill>
                <a:srgbClr val="000000"/>
              </a:solidFill>
              <a:latin typeface="Calibri"/>
            </a:endParaRPr>
          </a:p>
        </p:txBody>
      </p:sp>
      <p:sp>
        <p:nvSpPr>
          <p:cNvPr id="1505" name="Rectangle 7"/>
          <p:cNvSpPr/>
          <p:nvPr/>
        </p:nvSpPr>
        <p:spPr>
          <a:xfrm>
            <a:off x="5249880" y="25509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ttish Public Services Ombudsman</a:t>
            </a:r>
            <a:r>
              <a:rPr b="0" lang="en-US" sz="1800" spc="-1" strike="noStrike">
                <a:solidFill>
                  <a:srgbClr val="ffffff"/>
                </a:solidFill>
                <a:latin typeface="Arial"/>
              </a:rPr>
              <a:t> (</a:t>
            </a:r>
            <a:r>
              <a:rPr b="1" lang="en-US" sz="1800" spc="-1" strike="noStrike">
                <a:solidFill>
                  <a:srgbClr val="ffffff"/>
                </a:solidFill>
                <a:latin typeface="Arial"/>
              </a:rPr>
              <a:t>SPSO</a:t>
            </a:r>
            <a:r>
              <a:rPr b="0" lang="en-US" sz="1800" spc="-1" strike="noStrike">
                <a:solidFill>
                  <a:srgbClr val="ffffff"/>
                </a:solidFill>
                <a:latin typeface="Arial"/>
              </a:rPr>
              <a:t>) is the organisation that handles complaints about public services in Scotland. The </a:t>
            </a:r>
            <a:r>
              <a:rPr b="0" lang="en-US" sz="1800" spc="-1" strike="noStrike" u="sng">
                <a:solidFill>
                  <a:srgbClr val="0000ff"/>
                </a:solidFill>
                <a:uFillTx/>
                <a:latin typeface="Arial"/>
                <a:hlinkClick r:id="rId3"/>
              </a:rPr>
              <a:t>Ombudsman</a:t>
            </a:r>
            <a:r>
              <a:rPr b="0" lang="en-US" sz="1800" spc="-1" strike="noStrike">
                <a:solidFill>
                  <a:srgbClr val="ffffff"/>
                </a:solidFill>
                <a:latin typeface="Arial"/>
              </a:rPr>
              <a:t> service is independent of government and with a duty to act impartially. </a:t>
            </a:r>
            <a:endParaRPr b="0" lang="en-US" sz="1800" spc="-1" strike="noStrike">
              <a:solidFill>
                <a:srgbClr val="000000"/>
              </a:solidFill>
              <a:latin typeface="Calibri"/>
            </a:endParaRPr>
          </a:p>
        </p:txBody>
      </p:sp>
      <p:sp>
        <p:nvSpPr>
          <p:cNvPr id="1506" name="Rectangle 8"/>
          <p:cNvSpPr/>
          <p:nvPr/>
        </p:nvSpPr>
        <p:spPr>
          <a:xfrm>
            <a:off x="2398320" y="505944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rPr>
              <a:t>Rosemary Agn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9T11:39:36Z</dcterms:created>
  <dc:creator>Davidson, Vivienne</dc:creator>
  <dc:description/>
  <dc:language>en-US</dc:language>
  <cp:lastModifiedBy>Murray, Janet</cp:lastModifiedBy>
  <dcterms:modified xsi:type="dcterms:W3CDTF">2022-02-15T10:10:29Z</dcterms:modified>
  <cp:revision>52</cp:revision>
  <dc:subject/>
  <dc:title>PowerPoint Presentation</dc:title>
</cp:coreProperties>
</file>