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B1C00-C967-40AC-889B-A0152778D46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40B9-A800-4FCA-89A3-A00EFA130B87}"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9226-32D1-4209-8741-D922BFF31B2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4C7E9-40E2-441A-AE7A-35806619D1E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C4578-C164-4EFA-8B8E-0A9B07B38C3D}"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11C00-9206-4900-9122-FB99CD9F7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F462E-05E9-49A2-8041-5CBA3BC00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17CD3-B8DF-42C4-A894-9E4ADC3B8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971F1-F052-48C7-AD70-2B418717E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F45ECA-1D66-4F48-8B56-026FF81B9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E3F8B-77F7-4613-B36E-CCCDCC0E8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9D535-1700-4B08-930B-805EB105F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7A1ED-FA83-4B36-832A-A0AABBCF0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C8C11-B82C-45BF-94E4-13420A6A4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F712B-8900-4944-B6AF-AE19F13E1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E930C-9A20-43E2-83F2-16B5861E2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071E9-6174-49B0-9103-B91103BE6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42630-30C4-48A3-B3AB-5174D0C27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2EA2D-E1DD-484D-9899-26D867964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C3A87-54F4-4BF6-ADF1-B9AA2A28F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47B861-705E-4473-B284-787E6FEBF6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8AFCE8-F4A5-4791-BD1C-74A9683FAF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106A30-DBD5-4CAA-966B-1D79CCCBC8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AA762A-8278-430F-AF69-5AD80CD664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BE420D-0262-400B-9CF3-ECEC4B3215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623574-08B1-4A1A-8922-3587FEC69C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9A85D6-65EF-4EE1-BCB5-135C322FC6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094EA-6A0E-4C6D-B8A2-04CDA3ADF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8DBBA1-6C05-403A-A08B-B1DE9A790F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A8C694-8DBA-4B00-8A25-E8BF78E64F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115244-AC41-4456-9BBA-D4F5B8D66F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94DA38-1882-4B07-BA21-60CDED1351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24CA82-698F-49C1-8467-5890013BA1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FEB824-FCEE-4CE6-A51C-DAD188B852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014D3D-9D40-40BA-863B-A89DB72193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29B08-01DA-480E-81A9-ED41D594E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A347C-F097-493D-BEAE-DC9C6C717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69005-FDD5-4848-BC6B-9211140BF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67A22-4DCF-47A4-BF2B-B00B70FDD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17703-D3AF-476D-805D-9412B57A5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5450E-1D7D-43C9-83A4-A12D5786A6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2793D-B55F-4EDA-BFDA-0E982CFF5C55}"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B942-0487-4926-A1E6-FC950AEF4A4F}"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5CAB5-B8CA-43DB-A05A-B382E2CE8AAC}"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06/09/2023</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iller, Amanda</cp:lastModifiedBy>
  <cp:lastPrinted>2022-07-20T11:24:27Z</cp:lastPrinted>
  <dcterms:modified xsi:type="dcterms:W3CDTF">2023-09-06T12:05:24Z</dcterms:modified>
  <cp:revision>271</cp:revision>
  <dc:subject/>
  <dc:title>Slide 1</dc:title>
</cp:coreProperties>
</file>